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3510A-34B3-4DC0-AB41-CFCDD39CADEA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34DEC-E6A5-4562-8F4B-042AFC92AEB1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1917-73DD-41DF-85A4-DE3C710DD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4859-FFB8-4534-865C-9F999429A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FFFB-8045-42D4-844C-A25AC0397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6B79-F3A7-4E62-B98F-9A33E26B2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30A3-F1DC-471F-BC47-060813BBC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04EB-B9EB-48BC-8437-D5F889209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F7BB-CD6A-4926-8BFD-0422E45A8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0FC5-83B4-4A88-A955-19E25CE21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A7DB-D229-4F79-A4CE-C468EFD81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9AF1-3DE1-4930-A27C-6336D34D8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D0B5-D2D3-4768-B9D1-CE622BC95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B5DB-FE13-4DAD-AF6E-FC8A777A6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3BDDE-45A4-4652-890F-F3F778916B1E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남대학교의료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해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승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9.01.28 ~ 2.20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2" name="Picture 5" descr="map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반 버스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-1, 410, 410-1, 405, 452, 503, 604, 805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달서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 65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영대병원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구광역시 남구 대명동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17-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연락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53-623-8001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넥타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검정색 종류의 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히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격주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,0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재활치료 분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FES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7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&amp; topic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있을수도 없을수도 있으며 일정에 따라 달라진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보통 짧으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길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정도 소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시로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일지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art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별로 틀리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마지막주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안할 수 도 있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54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 외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6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위주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NF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흡운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bobath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-284400">
              <a:lnSpc>
                <a:spcPct val="2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modality, manua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환자 우선으로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4572000" y="1447920"/>
            <a:ext cx="347652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FES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FES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치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스트레칭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ROM, FES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종합병원급의 시스템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참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낙후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 시간 때 쉴 공간이 없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에는 밥이 맛없었다고 하나 그냥 그럭저럭 먹을만 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 말고는 계속 서 있어야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분야로 나뉘어 있어서 모든 분야를 경험 할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대병원으로 오세용 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ㅁ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44Z</dcterms:modified>
  <cp:revision>11</cp:revision>
  <dc:subject/>
  <dc:title>영남대학교의료원</dc:title>
</cp:coreProperties>
</file>