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59AD0-924C-4C77-A7E8-E06B44024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A4601-3B41-431E-931F-214A444A5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00298-334D-42DA-B83B-7DDF20676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99B20-8BE7-4F38-8A2C-9EA9B9110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38A52-051F-47EC-9461-9323AE95E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6FD38-5DC4-4F49-A696-90195DC7D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CC510-2AB1-4D83-AD7E-2DC3996F5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5DE64-B9C1-42EB-8304-467802337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490E6-FF61-487C-B7C2-25F8AA5E0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30EA0-7F88-424F-80D3-16FDDB319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161DD-32B6-48C3-A8D1-E61185594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717BB-063F-4A4F-A9E1-754EE9DDB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9F4E4-8ABC-4E92-AD36-E0ED757D50B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제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장 말더듬의 증후론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연구에서 가장 도전받는 과업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을 포괄적이고 행동적으로 정의내리는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반적으로 말하는 말더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리듬이나 유창성에서 지나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정상적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깨어짐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병리적인 비유창성 행동이란 견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질적</a:t>
            </a:r>
            <a:br>
              <a:rPr sz="2400"/>
            </a:b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 반복이나 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Wingate(1964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나든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않든지 간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과 음절 반복 및 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과 연장이 말더듬을 진단하는데 필요하고 충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</a:t>
            </a:r>
            <a:r>
              <a:rPr b="0" lang="ko-KR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말더듬 행동 도식들</a:t>
            </a:r>
            <a:r>
              <a:rPr b="0" lang="en-US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chemas)</a:t>
            </a:r>
            <a:endParaRPr b="0" lang="en-US" sz="3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는 특성과 겉으로 드러나지 않는 정서적인 반응으로 이분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부분의 초기 말더듬은 주로 음절 반복과 음의 연장이 특징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초기 말더듬은 말더듬이 일어났다가 없어졌다가 하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일관성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상대적으로 긴장과 공포가 적은 것이 특징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매우 나이 어린 말더듬이들도 긴장과 공포나 기타 특징들을 나타낼 가능성도 있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FAGH + Cs(Wf + Sf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S = ----------------------------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M  + F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: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하려는 단어의 발화를 가능하게 만들기 위해 통합을 추구하려고 노력하는 것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무한할 정도로 다양한 행동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핵심행동을 말더듬의 부수적 혹은 이차적 특성과 구별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핵심되는 특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과 연장 혹은 강직성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tonic fixations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강직성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있을 수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없을 수도 있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많은 말더듬이들에게서 연장보다는 반복이 먼저 발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종 모음과 계속음에서 소리를 내면서 연장하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종 파열음으로 시작하는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V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VC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에서는 조음 포즈 혹은 후두 포즈를 취하지만 소리가 나지 않는 고정이 일어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소적 성질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는 후두 윗 부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upralaryngeal level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과 후두 부분에서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두 곳 모두에서 구어를 시작하는데 어려움을 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폐쇄 혹은 막힘을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tense pauses)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핵심이 되는 특징으로서 소리를 내지 않는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audible fixations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폐쇄를 의미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Van Riper)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조음 포즈와 후두 포즈는 취하지만 소리는 나지 않고 고정이 연장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핵심증후를 연장의 범주 속에 포함시킴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의 종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워진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filled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워지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않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unfilled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문법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문법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화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유의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idiosyncratic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간단히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 :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분 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과 같은 비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nonwords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이에 존재하고 있는 겨우 소리를 들을 수 있는 심호흡이나 근육긴장을 말함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율동적 발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이 있을 수 있지만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긴장을 수반하지는 않음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된 음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정상적인 강세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또는 시간 맞추기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timing)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및 폐쇄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breaks)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을 포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수적 혹은 이차적 말더듬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매우 많은 각각의 개별적인 방식들로 나타날 수 있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로 조작적 조건화를 통해서 학습됨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간이 지남에 따라 반복과 연장을 하는 경험에 반응하거나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대로 반복과 연장을 하는 것을 두려워하는 것으로 발달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과 반복의 경험에 대한 반응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병리적인 비유창성의 반복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erseveration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 대처하기 위한 전략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예를 들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을 하는 동안에 속도를 낮추거나 혹은 갑작스럽게 발성을 하는 것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성 프라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vocal fly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를 극복하기 위한 중단 반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terrupter reactions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노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숨을 멈추고 말하기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peaking on expiratory reserve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호흡 헐떡거림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spiratory gasps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기도의 폐쇄를 중단하기 위하여 사용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흡기시 말하기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공포에 대한 반응들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나타난 증후로부터 추측해야 되는 마음과 정서의 내적 상태에 의하여 일어나게 됨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기본적으로 그 말더듬을 회피하거나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기하거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장하거나 하는 노력이 동기가 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회피 때문에 일어난 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의사소통 상황이나 단어의 의도적인 회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치 또는 바꾸어 말하기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ircumlocutions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빨리 말하거나 비정상적인 억양으로 말하는 것과 같은 비정상적인 말하기 방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도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escape)---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회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voidance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cidence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현제까지 말을 계속 더듬고 있는 사람들의 상대적인 숫자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 수치의 범위가 다양한 이유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한 모집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집단 내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간의 문화적 차이를 포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표집한 지역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료 수집방법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 표집의 규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정의에 사용한 매개변수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6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대상의 차이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=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느 기간의 환자발생 수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기간 동안 위험에 노출된 전체인구 수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X 1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당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5" name="00431.mp3" descr=""/>
          <p:cNvPicPr/>
          <p:nvPr/>
        </p:nvPicPr>
        <p:blipFill>
          <a:blip r:embed="rId1"/>
          <a:stretch/>
        </p:blipFill>
        <p:spPr>
          <a:xfrm>
            <a:off x="864396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081440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기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나지 않는 간격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ilent intervals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얼굴 표정 혹은 신체동작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의 사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작계교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tarters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정한 기간 동안 연기를 한 뒤에 어떤 단어를 시작하기 위하여 말더듬이가 사용하는 행동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두 및 비구두 행동에 대한 복잡하게 얽힌 시간맞추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tricate timing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 포함됨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미 정상적으로 말한 단어의 반복에서부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공포를 느낀 단어에서 빨리 시작하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unning start) 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머리를 젖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앞으로 말을 할 단어에 필요한 조음기관의 예비동작을 취하는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예비동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reparatory set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앞으로 나올 음절에 적당할 수도 있고 적당하지 않을 수도 있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장반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disguise reactions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사람이 말더듬을 숨기거나 위장하려는 노력이 동기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신체동작이나 부적당한 웃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다른 음성형태를 채택하는 것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: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악화된 말더듬이가 유창하게 말하는 것을 계속 실패할 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을 감소시키려는 노력으로서 밖으로 나타나거나 혹은 나타나지 않는 어떤 행동들을 하게 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와 같은 행동들은 처음 사용할 때는 효과가 있을지도 모르지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러한 반응의 새로움이 없어지면 희석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반응의 힘은 간헐적인 강화를 받기 때문에 증가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반응들은 말더듬이의 정서적인 반응과 말더듬이가 복잡한 구어의 동시 조음동작에 필요한 적당한 타이밍을 도모하려는 노력의 징후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나타나지 않는 정서적인 반응</a:t>
            </a:r>
            <a:endParaRPr b="0" lang="en-US" sz="3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 실패의 예견이나 실패에 대한 반응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서적인 점을 수반하지 않고도 말을 더듬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공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불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죄의식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적의 등이 가장 많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말하는 상황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청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화의 주제 등에 따라 다를 수도 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메시지의 목적이나 의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또 정보 하중이 증가하면 유창성이 깨어질 가능성이 종종 더 커짐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은 구어장애뿐만 아니라 청자가 그 말더듬이에게 크게 영향을 미칠 수 있다는 점에서 의사소통 장애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지 않는 반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의 정서와 감정의 주위에서 일어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정서들은 중추신경계 및 자율신경계 모두에서 일어나고 있는 생리학적인 것과 상관이 있을 수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근육긴장은 정서가 격앙되는 순간을 수반할 수도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는 생리적인 항상성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homeostasis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유지하는 기능을 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의 교감신경 지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ympathetic branch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각 심장박동의 수축력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망막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tina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 들어오는 불빛의 양의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아드레나린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drenaline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비의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호흡이 더 빨라지고 더 깊어지는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호흡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과 같은 어떤 위급한 반응을 일으킬 수 있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의 부교감신경 지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arasympathetic branch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소화와 신진대사와 같은 과정을 시작하고 유지하는 일을 할 뿐만 아니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동공의 수축과 심장박동 비율의 속도를 낮추는 것과 같은 교감신경 지선이 하는 특정기능과 반대되는 일을 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말더듬 반응들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적인 특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을 포함하는 말더듬의 본질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차 증후들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적인 증후와 함께 즉각적으로 발생하거나 일차적인 특징과 연관된 실제적인 구어의 중단과 동시에 일어나는 것은 아님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관된 증후들을 세 가지 범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적인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성적인 것 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수반행동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눈으로 볼 수 있거나 들을 수 있는 행동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관된 동작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눈 깜짝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머리 움칠거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된 구어 분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불필요하고 가끔 부적당한 삽입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성의 비정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의 빠른 혹은 느린 비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질과 음도에서의 변화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얼굴이 붉어지거나 창백해지는 것과 같은 겉으로 드러난 피부의 반응 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적인 수반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로 정서적인 각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rousal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순간적으로 고조되는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지 않는 내적인 신체변화인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숨겨진 반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과 비슷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포착하기 어려운 눈 동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장맥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ardiovascular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변화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떨림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EEG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변화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화학적 장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극 장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electrodermal disturbances)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동공 팽창과 같은 기타 반사활동들을 포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보는 생리적인 수반행동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원인론적인 의미를 가지는 만성적인 특성으로 보지 않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특정한 예에 속하는 단순히 순간적인 반응들이라고 주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면적인 수반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형적으로 나이가 든 말더듬이들이 말더듬과 관련된 자신들의 감정을 표현하려고 하는 주관적인 평가로 이루어져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행위와 일치할 수 없다는 데서 생겨나는 좌절감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근육긴장이나 근육이 당겨지는 느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폐쇄가 일어나기 전이나 일어나는 동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일어난 후에 생기는 정서적인 반응 등도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의 예견과 관련된 감정에는 공포와 불안이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 자체와 연관된 감정에는 자기 자신과 직접 관련된 환경과의 인지적인 접촉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erceptual contact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상실이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폐쇄 다음에 따라오는 순간과 연관된 감정에는 좌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당황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무언가에 대한 죄의식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의 감소 가능성과 어떤 것에 대한 해방감 등이 포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아동들의 특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슈의 핵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 아동의 가벼운 분절과 나이 어린 말더듬이들의 구어붕괴 특성 사이에 연속성이 있다고 주장하는 연속성 가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ontinuity hypothesis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타당성에 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인간에 따라 변화가 많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의 아동들의 구어의 특정인 음의 연장이나 긴장 쉼과 같은 특징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발생초기에 이 두 가지 형태의 구어를 구별하기는 매우 어려움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진단은 부분적으로 오랜 시간이 지난 뒤에 부모들의 회상이나 기억에 근거하여 이루어졌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 수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longitudinal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횡단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ross-sectional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으로 자료 수집하는 방법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에 관한 자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을 직접 조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의 부모들과 인터뷰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 개월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 년 동안 종단적인 연구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상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oper, Parris, &amp; Wells(1974): 0.93%; 7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 이상의 대학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 학생 대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횡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Glasner &amp; Rosenthal(1957): 15.4%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약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의 초등학교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 학생 대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횡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 &amp; Harris(1964)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지속된 아동들의 발생율은 약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%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었으나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시적인 말더듬 아동들은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5%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생에서부터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6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까지 추적한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 이상의 아동들을 대상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—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Newcastle-upon-Tyne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인 연구의 단점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년 동안에 걸친 연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Iowa Studies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21932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1959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실시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을 더듬은 아동들과 더듬지 않은 아동들에 대한 일련의 비교 자료들이 요약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자료의 일부분은 부모와의 인터뷰에 근거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부 자료는 병리적인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 범주에서 두 집단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2.5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아동들을 비교한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 범주는 삽입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 및 음절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바꿔 말하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visions: 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갔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가고 있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미완성 구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리고 그녀가 거기에 도착한 후에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가 왔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깨어진 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(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집에 가고 있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된 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Iowa Studies: 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석결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 피험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및 구 반복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자 피험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등의 반복이 두 집단 사이에서 가장 차이가 있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이 반복 단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u-su-, su-su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세 개의 반복 단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평균수가 매우 높았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두 집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아동들에게서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지 비유창성 범주 모두가 어느 정도 공존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으로 비유창하게 말하는 모든 매우 어린 아동들을 동기가 높은 부모들이나 다른 청자들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라고 분류한다고 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이러한 자료를 아동기 말더듬에 대해 자신의 진단기인론을 재확인하는 것으로 이용하였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McDearmon(1968)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연구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연구에 있는 자료를 재검토하여서 아동들의 초기 정상적인 비유창성 패턴에 관한 보다 자세한 몇 가지 관점을 덧붙였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인 비유창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및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의 발생율에서도 통제집단과 실험집단이 대단히 다른 것을 나타냄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과 이차성 말더듬을 예리하게 구별하는 점이 부족하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중첩되어 있다는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발견점을 지지하는 경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과 정상적인 비유창성 사이에 중복되고 있다는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발견점을 확인하는 경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현율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revalence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모집단에 대하여 특정한 시기에 발견한 말더듬이의 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를 한 모집단의 형태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표집 대상의 연령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료 수집 방법 등에 따라서 다름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령이 증가함에 따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히 고등학교 쪽으로 갈수록 점차적으로 말더듬의 출현율이 감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춘기 이전 학생들의 약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%: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반적으로 의견이 일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현율과 발생율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발생연령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반하고 있는 다른 언어장애 등에 근거하여 세분할 때 더 많이 나타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rady &amp; Hall(1976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치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등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 비율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9:1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상중 소수가 저지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Gillespie &amp; Cooper(197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중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등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 비율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7:1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:1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비율은 연령이 높아짐에 따라 증가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Yairi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인식을 기초로 한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2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의 말더듬 아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 비슷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의 비율이 더 높은 이유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자들의 자연회복 비율이 남자보다 더 일찍 또는 더 높은 비율로 일어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에 대한 유전적인 소인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에게 사회적인 요구와 기대가 더 높다는 점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연령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1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보고에 근거한 것이 많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인 비유창성과 병리적인 비유창성에 대해 부모들의 판단을 근거한 자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언어치료사의 임상적인 판단에 대한 타당도와 신뢰도에 영향을 미치는 변수들을 고려하여야 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변수들에는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말더듬에 대한 정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초기 단계 동안에 말더듬의 치료경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초기 말더듬의 완화 혹은 자연회복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연령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은 보통 취학 전에 시작되고 나이가 들어감에 따라 발생율이 점점 감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뇌손상의 경우를 제외하고는 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후기 아동기 혹은 청년기 동안에 말더듬이 발생하는 일은 거의 없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 가장 많이 일어나는 시기는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-4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 발생하는 가장 어린 연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5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시기는 언어발달이 형성되는 시기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행동 단위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관찰 가능한 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본서에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리사회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학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리언어학적 등의 요인들에 대해 겉으로 드러나는 반응이나 겉으로 드러나지 않는 반응들과 이러한 요인들 사이의 상호관계들을 포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면에 파묻혀 있는 정서적인 요인들 및 말더듬의 생리학적인 상관관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의 연장처럼 겉으로 드러난 병리적인 비유창성을 조사하는 것이 필수적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관찰 가능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행동만을 고려하면 아동의 병리적인 비유창성을 철저하게 검사하지 못하게 될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1T00:09:48Z</dcterms:created>
  <dc:creator>황규탁</dc:creator>
  <dc:description/>
  <dc:language>en-US</dc:language>
  <cp:lastModifiedBy>user</cp:lastModifiedBy>
  <dcterms:modified xsi:type="dcterms:W3CDTF">2014-01-03T01:04:05Z</dcterms:modified>
  <cp:revision>21</cp:revision>
  <dc:subject/>
  <dc:title>제3장 말더듬의 증후론</dc:title>
</cp:coreProperties>
</file>