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2.png" ContentType="image/png"/>
  <Override PartName="/ppt/media/image31.png" ContentType="image/png"/>
  <Override PartName="/ppt/media/image2.jpeg" ContentType="image/jpeg"/>
  <Override PartName="/ppt/media/image30.png" ContentType="image/png"/>
  <Override PartName="/ppt/media/image39.png" ContentType="image/png"/>
  <Override PartName="/ppt/media/image9.png" ContentType="image/png"/>
  <Override PartName="/ppt/media/image13.png" ContentType="image/png"/>
  <Override PartName="/ppt/media/image38.png" ContentType="image/png"/>
  <Override PartName="/ppt/media/image14.png" ContentType="image/png"/>
  <Override PartName="/ppt/media/image20.wmf" ContentType="image/x-wmf"/>
  <Override PartName="/ppt/media/image63.png" ContentType="image/png"/>
  <Override PartName="/ppt/media/image22.png" ContentType="image/png"/>
  <Override PartName="/ppt/media/image59.png" ContentType="image/png"/>
  <Override PartName="/ppt/media/image58.png" ContentType="image/png"/>
  <Override PartName="/ppt/media/image23.png" ContentType="image/png"/>
  <Override PartName="/ppt/media/image60.png" ContentType="image/png"/>
  <Override PartName="/ppt/media/image24.png" ContentType="image/png"/>
  <Override PartName="/ppt/media/image61.png" ContentType="image/png"/>
  <Override PartName="/ppt/media/image25.png" ContentType="image/png"/>
  <Override PartName="/ppt/media/image62.png" ContentType="image/png"/>
  <Override PartName="/ppt/media/image64.png" ContentType="image/png"/>
  <Override PartName="/ppt/media/image28.png" ContentType="image/png"/>
  <Override PartName="/ppt/media/image65.png" ContentType="image/png"/>
  <Override PartName="/ppt/media/image79.png" ContentType="image/png"/>
  <Override PartName="/ppt/media/image67.png" ContentType="image/png"/>
  <Override PartName="/ppt/media/image78.png" ContentType="image/png"/>
  <Override PartName="/ppt/media/image66.png" ContentType="image/png"/>
  <Override PartName="/ppt/media/image77.png" ContentType="image/png"/>
  <Override PartName="/ppt/media/image76.png" ContentType="image/png"/>
  <Override PartName="/ppt/media/image75.png" ContentType="image/png"/>
  <Override PartName="/ppt/media/image74.png" ContentType="image/png"/>
  <Override PartName="/ppt/media/image73.png" ContentType="image/png"/>
  <Override PartName="/ppt/media/image72.png" ContentType="image/png"/>
  <Override PartName="/ppt/media/image71.png" ContentType="image/png"/>
  <Override PartName="/ppt/media/image29.png" ContentType="image/png"/>
  <Override PartName="/ppt/media/image69.png" ContentType="image/png"/>
  <Override PartName="/ppt/media/image68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21.png" ContentType="image/png"/>
  <Override PartName="/ppt/media/image1.jpeg" ContentType="image/jpeg"/>
  <Override PartName="/ppt/media/image47.png" ContentType="image/png"/>
  <Override PartName="/ppt/media/image57.png" ContentType="image/png"/>
  <Override PartName="/ppt/media/image26.png" ContentType="image/png"/>
  <Override PartName="/ppt/media/image8.png" ContentType="image/png"/>
  <Override PartName="/ppt/media/image80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81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70.wmf" ContentType="image/x-wmf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dt" idx="2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Arial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Arial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Arial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E10F3-1095-494F-8B42-C5675E08D0F6}" type="slidenum">
              <a:rPr b="0" lang="ko-KR" sz="1200" spc="-1" strike="noStrike">
                <a:solidFill>
                  <a:srgbClr val="000000"/>
                </a:solidFill>
                <a:latin typeface="Arial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32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DC516-39FB-4891-BC0D-05F12FD28A9C}" type="slidenum">
              <a:rPr b="0" lang="ko-KR" sz="1200" spc="-1" strike="noStrike">
                <a:solidFill>
                  <a:srgbClr val="000000"/>
                </a:solidFill>
                <a:latin typeface="Arial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32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7DC95-D803-4C76-BC75-59AEBFEA0530}" type="slidenum">
              <a:rPr b="0" lang="ko-KR" sz="1200" spc="-1" strike="noStrike">
                <a:solidFill>
                  <a:srgbClr val="000000"/>
                </a:solidFill>
                <a:latin typeface="Arial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30C433-723F-41BE-BD58-CDC5FD4F253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BCCF9D-AF13-4197-99E4-8FFB96C6B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43D36D-1D59-4947-8888-4F75D0B4D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A52EB9-155B-48B5-942A-9E90B51482B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A1BD1B-E6C3-4922-99B8-2EE3797B3C5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F1B7E5-92B9-4B1C-BFBB-91B945226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D85972-7FDB-4690-B743-D63EA9BE0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46EED4-3F95-4C30-89EB-6ABD4CA1F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782617-6107-4F39-8828-9CF21977C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110A14-CC26-490F-87AC-570C55931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E2D3CC-F0EF-4C44-B33B-CADDD8C56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EA909C-771D-482B-BF56-D91E037E0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C918A1-F627-41D7-BA45-0391122C1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27380B-610F-4376-9113-464E6687A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626E31-68CB-45D9-9B8C-C7BC46344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1A3037-A5F1-43E7-8D67-582B9022C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7D2C2B-0715-453D-B145-6DDC78655BF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3AD65-5208-46F6-A56C-94D8D19AB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B50AB-D17E-4E0F-8CDD-B94FF9E20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DB6AE-98D8-4BE6-AA73-D29B65494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66BA6-8353-4D05-89D6-29A6B5718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93209-E119-4088-BD68-E3F0902EC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0D17CA-1AE5-4D0F-8F14-AD839DBD7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E9C17-DD17-4C21-B6C7-75A515664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96B39-DEA9-4778-946B-F251B8762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EB6B6-9495-4075-BAC4-02DC89A9A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7E243-9310-4E22-8C7F-DC5EA0F91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53F94-0DDD-4A74-A315-01E028D74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5256B-EFC0-4CF4-82C8-0F255B656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25434-BD7F-4954-A1BE-C664B41E0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8B8E09-11FE-4EEA-8DCB-66285F725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4AF423-E31D-4E1F-88E6-F0C03C210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A840B3-D8B6-40D1-A5A1-95CF17E36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BD7D5F-1319-4E7C-918A-9FD3A5C6B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676FE3-0CC4-475E-9A67-C65E856A7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5B17BC-8847-4CB9-89C1-98EE1A6B7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320D8E-726B-4B92-A655-C5A035A36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B3878E-FAD5-41D9-BC52-4A8E07ECD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26C2DE-FEFB-4122-A0C8-606FF850F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73C4F9-63E3-4D37-B341-34B994F45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2DD293-391A-4911-B6BB-9181BEE33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C36FF1-DAE6-4622-BB8A-2F282DAFB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728F45-0B85-4B14-ADA6-1289C9865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0ECF0A-560B-47C8-8D69-00292E8BB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B2F887-8E75-4DA2-8B49-9EFE8E384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763B8F-E10A-4FA1-B616-E7169E95D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94918F-A7D8-4FE9-B0EC-EBF6BAE3E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63C2F0-76D0-49D5-AEBC-4839848C2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CD53F8-CB35-47A9-BF86-10CB659D5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0F4964-5F8B-42B5-8CC8-ED51FDC51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55359D-6C1C-476E-B5BF-227B09EE0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104AA7-3A30-468A-AB2B-D60898A5A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B6184C-A5C3-481F-9B87-BDFA080DB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A041CC-B6F7-42B8-B38D-6A575483B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39728E-77F4-4FC1-8EDF-9B77871B3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3D9887-54C5-4564-9E01-56C8F1DB2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23A9BA-4D29-4838-A30E-ECB3EBEFB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430685-62DD-4A33-911A-CA62261F6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317565-8E98-4652-889F-8E9AB632A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B34724-0AD1-46B7-90B4-06642127C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C2CE83-A2BC-4EBF-9BF9-4F529B0D6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94AD03-9A16-42E6-A95E-4D29E8812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50FE33-2B8C-498F-B1A4-BEEA10C4C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8FC79F-6E73-4BAA-8DBC-B79315E3C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0390BC-E119-4FC7-8385-52BFD07E3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176BDC-B67A-4E96-893B-753C978E5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C8A6F3-05E0-479F-B66A-56DF8371C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4162F9-F8EC-4024-8E2E-7F201A8A4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DB3F85-201F-4547-8AD0-E08DD0CF5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A1573F-CB53-486B-816D-8598AFFA1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4BA179-41B4-492A-90F7-8D1F64F71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AE455A-5A48-4D32-8F75-742B0D52C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35D3ED-9D64-449C-927F-EDC320B0D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BDC1AD-FE99-4E1E-9419-12AC34C1B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EB918B-D71C-4452-A085-26DCA9FE0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FF04A0-F37F-44F4-8521-12DD00C28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A00E1A-C5D3-4163-834C-022A5B44D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5ED4DB-56AE-4EF0-AC35-4DF46E136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4B19F0-1DB4-420A-88A7-4FAEB60E3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AA869A-BF84-416D-9E1E-165AF6FB0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67E2CE-A6B6-4788-9CA8-56BB14AE7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9595AF-9E29-4332-A671-DCE1DF943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C1D4E1-4718-4941-B5BE-1204CEB21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3265C7-13C2-456B-977B-59F3C5C1F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3684C3-69CB-4F1E-9291-9CA8DA24E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830794-8D8B-4912-97CA-6EE8F1AD1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219228-FE45-4728-916A-7D935F6E7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FD223F-F3C7-4D8A-BBDD-722FF1C36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E7F549-1FE8-4DA0-9241-E481F26E6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BD1FC2-BA03-4482-93C2-51DFBB143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CFA290-39D8-4A57-A5CE-23A441A80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92F053-7515-4AB2-BDAC-BE1E7B904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06B82B-F37D-40A5-83BF-7FE2881D8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A31DDC-05E8-4A57-8044-265C023BD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208E33-BA98-4A62-B7FC-EA62CF4A5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EB8C49-AAFC-44FE-82B1-A35F090EC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8AF28-A66F-4505-82C3-6C8A493E2D8B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3"/>
          </p:nvPr>
        </p:nvSpPr>
        <p:spPr>
          <a:xfrm>
            <a:off x="6552720" y="637200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3733920" y="6384600"/>
            <a:ext cx="213336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BC8E0-B2DC-49F4-9FAC-FFEE84C8B5D4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ftr" idx="5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sldNum" idx="6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2C26A-960C-4E38-9255-3ABDDD2C4F84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dt" idx="7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ftr" idx="8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sldNum" idx="9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5533A-C8EB-4614-A96D-13093BEB4034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dt" idx="10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ftr" idx="11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sldNum" idx="12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E9A40-5031-4300-BDC5-47F3BFC986F9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dt" idx="13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216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ftr" idx="14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sldNum" idx="15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5FB9B-EC89-4A27-9626-D3A0FCBC43BE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 type="dt" idx="16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260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ftr" idx="1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8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DC09F-026E-498F-8CB0-03E242F14814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dt" idx="19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304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ftr" idx="20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21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F2595-DF38-482A-982E-182C425B509B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dt" idx="22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image" Target="../media/image39.png"/><Relationship Id="rId6" Type="http://schemas.openxmlformats.org/officeDocument/2006/relationships/image" Target="../media/image8.png"/><Relationship Id="rId7" Type="http://schemas.openxmlformats.org/officeDocument/2006/relationships/image" Target="../media/image40.png"/><Relationship Id="rId8" Type="http://schemas.openxmlformats.org/officeDocument/2006/relationships/image" Target="../media/image41.png"/><Relationship Id="rId9" Type="http://schemas.openxmlformats.org/officeDocument/2006/relationships/image" Target="../media/image42.png"/><Relationship Id="rId10" Type="http://schemas.openxmlformats.org/officeDocument/2006/relationships/image" Target="../media/image43.png"/><Relationship Id="rId1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49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50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51.png"/><Relationship Id="rId12" Type="http://schemas.openxmlformats.org/officeDocument/2006/relationships/image" Target="../media/image52.png"/><Relationship Id="rId1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png"/><Relationship Id="rId3" Type="http://schemas.openxmlformats.org/officeDocument/2006/relationships/image" Target="../media/image56.png"/><Relationship Id="rId4" Type="http://schemas.openxmlformats.org/officeDocument/2006/relationships/image" Target="../media/image57.png"/><Relationship Id="rId5" Type="http://schemas.openxmlformats.org/officeDocument/2006/relationships/image" Target="../media/image58.png"/><Relationship Id="rId6" Type="http://schemas.openxmlformats.org/officeDocument/2006/relationships/image" Target="../media/image56.png"/><Relationship Id="rId7" Type="http://schemas.openxmlformats.org/officeDocument/2006/relationships/image" Target="../media/image59.png"/><Relationship Id="rId8" Type="http://schemas.openxmlformats.org/officeDocument/2006/relationships/image" Target="../media/image58.png"/><Relationship Id="rId9" Type="http://schemas.openxmlformats.org/officeDocument/2006/relationships/image" Target="../media/image56.png"/><Relationship Id="rId10" Type="http://schemas.openxmlformats.org/officeDocument/2006/relationships/image" Target="../media/image60.png"/><Relationship Id="rId11" Type="http://schemas.openxmlformats.org/officeDocument/2006/relationships/image" Target="../media/image58.png"/><Relationship Id="rId12" Type="http://schemas.openxmlformats.org/officeDocument/2006/relationships/image" Target="../media/image56.png"/><Relationship Id="rId13" Type="http://schemas.openxmlformats.org/officeDocument/2006/relationships/image" Target="../media/image61.png"/><Relationship Id="rId14" Type="http://schemas.openxmlformats.org/officeDocument/2006/relationships/image" Target="../media/image58.png"/><Relationship Id="rId15" Type="http://schemas.openxmlformats.org/officeDocument/2006/relationships/image" Target="../media/image8.png"/><Relationship Id="rId16" Type="http://schemas.openxmlformats.org/officeDocument/2006/relationships/image" Target="../media/image10.png"/><Relationship Id="rId17" Type="http://schemas.openxmlformats.org/officeDocument/2006/relationships/image" Target="../media/image56.png"/><Relationship Id="rId18" Type="http://schemas.openxmlformats.org/officeDocument/2006/relationships/image" Target="../media/image62.png"/><Relationship Id="rId19" Type="http://schemas.openxmlformats.org/officeDocument/2006/relationships/image" Target="../media/image58.png"/><Relationship Id="rId20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8.png"/><Relationship Id="rId3" Type="http://schemas.openxmlformats.org/officeDocument/2006/relationships/image" Target="../media/image64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2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8.png"/><Relationship Id="rId3" Type="http://schemas.openxmlformats.org/officeDocument/2006/relationships/image" Target="../media/image10.png"/><Relationship Id="rId4" Type="http://schemas.openxmlformats.org/officeDocument/2006/relationships/image" Target="../media/image9.png"/><Relationship Id="rId5" Type="http://schemas.openxmlformats.org/officeDocument/2006/relationships/image" Target="../media/image35.png"/><Relationship Id="rId6" Type="http://schemas.openxmlformats.org/officeDocument/2006/relationships/image" Target="../media/image67.png"/><Relationship Id="rId7" Type="http://schemas.openxmlformats.org/officeDocument/2006/relationships/image" Target="../media/image9.png"/><Relationship Id="rId8" Type="http://schemas.openxmlformats.org/officeDocument/2006/relationships/image" Target="../media/image35.png"/><Relationship Id="rId9" Type="http://schemas.openxmlformats.org/officeDocument/2006/relationships/image" Target="../media/image68.png"/><Relationship Id="rId10" Type="http://schemas.openxmlformats.org/officeDocument/2006/relationships/image" Target="../media/image9.png"/><Relationship Id="rId11" Type="http://schemas.openxmlformats.org/officeDocument/2006/relationships/image" Target="../media/image35.png"/><Relationship Id="rId12" Type="http://schemas.openxmlformats.org/officeDocument/2006/relationships/image" Target="../media/image69.png"/><Relationship Id="rId13" Type="http://schemas.openxmlformats.org/officeDocument/2006/relationships/image" Target="../media/image70.wmf"/><Relationship Id="rId1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image" Target="../media/image29.png"/><Relationship Id="rId5" Type="http://schemas.openxmlformats.org/officeDocument/2006/relationships/image" Target="../media/image29.png"/><Relationship Id="rId6" Type="http://schemas.openxmlformats.org/officeDocument/2006/relationships/image" Target="../media/image29.png"/><Relationship Id="rId7" Type="http://schemas.openxmlformats.org/officeDocument/2006/relationships/image" Target="../media/image8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72.png"/><Relationship Id="rId5" Type="http://schemas.openxmlformats.org/officeDocument/2006/relationships/image" Target="../media/image73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4.png"/><Relationship Id="rId9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6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77.png"/><Relationship Id="rId5" Type="http://schemas.openxmlformats.org/officeDocument/2006/relationships/image" Target="../media/image78.png"/><Relationship Id="rId6" Type="http://schemas.openxmlformats.org/officeDocument/2006/relationships/image" Target="../media/image79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80.png"/><Relationship Id="rId10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76.png"/><Relationship Id="rId4" Type="http://schemas.openxmlformats.org/officeDocument/2006/relationships/image" Target="../media/image8.png"/><Relationship Id="rId5" Type="http://schemas.openxmlformats.org/officeDocument/2006/relationships/image" Target="../media/image81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8.png"/><Relationship Id="rId11" Type="http://schemas.openxmlformats.org/officeDocument/2006/relationships/image" Target="../media/image19.png"/><Relationship Id="rId12" Type="http://schemas.openxmlformats.org/officeDocument/2006/relationships/image" Target="../media/image20.wmf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21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22.png"/><Relationship Id="rId9" Type="http://schemas.openxmlformats.org/officeDocument/2006/relationships/image" Target="../media/image23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image" Target="../media/image29.png"/><Relationship Id="rId5" Type="http://schemas.openxmlformats.org/officeDocument/2006/relationships/image" Target="../media/image29.png"/><Relationship Id="rId6" Type="http://schemas.openxmlformats.org/officeDocument/2006/relationships/image" Target="../media/image29.png"/><Relationship Id="rId7" Type="http://schemas.openxmlformats.org/officeDocument/2006/relationships/image" Target="../media/image29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32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33.png"/><Relationship Id="rId9" Type="http://schemas.openxmlformats.org/officeDocument/2006/relationships/image" Target="../media/image34.png"/><Relationship Id="rId10" Type="http://schemas.openxmlformats.org/officeDocument/2006/relationships/image" Target="../media/image35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3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354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355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77933c"/>
              </a:solidFill>
              <a:ln w="9360">
                <a:solidFill>
                  <a:srgbClr val="98b954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77933c"/>
              </a:solidFill>
              <a:ln w="9360">
                <a:solidFill>
                  <a:srgbClr val="98b954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7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358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0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7933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61" name="직사각형 41" descr=""/>
          <p:cNvPicPr/>
          <p:nvPr/>
        </p:nvPicPr>
        <p:blipFill>
          <a:blip r:embed="rId1"/>
          <a:stretch/>
        </p:blipFill>
        <p:spPr>
          <a:xfrm>
            <a:off x="401760" y="2401920"/>
            <a:ext cx="2176200" cy="1054080"/>
          </a:xfrm>
          <a:prstGeom prst="rect">
            <a:avLst/>
          </a:prstGeom>
          <a:ln w="0">
            <a:noFill/>
          </a:ln>
        </p:spPr>
      </p:pic>
      <p:grpSp>
        <p:nvGrpSpPr>
          <p:cNvPr id="362" name="그룹 44"/>
          <p:cNvGrpSpPr/>
          <p:nvPr/>
        </p:nvGrpSpPr>
        <p:grpSpPr>
          <a:xfrm>
            <a:off x="500040" y="3857760"/>
            <a:ext cx="2643120" cy="1189080"/>
            <a:chOff x="500040" y="3857760"/>
            <a:chExt cx="2643120" cy="1189080"/>
          </a:xfrm>
        </p:grpSpPr>
        <p:pic>
          <p:nvPicPr>
            <p:cNvPr id="363" name="직사각형 42" descr=""/>
            <p:cNvPicPr/>
            <p:nvPr/>
          </p:nvPicPr>
          <p:blipFill>
            <a:blip r:embed="rId2"/>
            <a:stretch/>
          </p:blipFill>
          <p:spPr>
            <a:xfrm>
              <a:off x="500040" y="3857760"/>
              <a:ext cx="2496600" cy="689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4" name="직사각형 43" descr=""/>
            <p:cNvPicPr/>
            <p:nvPr/>
          </p:nvPicPr>
          <p:blipFill>
            <a:blip r:embed="rId3"/>
            <a:stretch/>
          </p:blipFill>
          <p:spPr>
            <a:xfrm>
              <a:off x="1221840" y="4357800"/>
              <a:ext cx="1921320" cy="689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5" name="직사각형 45"/>
          <p:cNvSpPr/>
          <p:nvPr/>
        </p:nvSpPr>
        <p:spPr>
          <a:xfrm>
            <a:off x="4861080" y="4286160"/>
            <a:ext cx="326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Kohlberg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의 도덕발달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직사각형 46"/>
          <p:cNvSpPr/>
          <p:nvPr/>
        </p:nvSpPr>
        <p:spPr>
          <a:xfrm>
            <a:off x="4871880" y="2714760"/>
            <a:ext cx="322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Freud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의 심리성적 발달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직사각형 47"/>
          <p:cNvSpPr/>
          <p:nvPr/>
        </p:nvSpPr>
        <p:spPr>
          <a:xfrm>
            <a:off x="4864320" y="3429000"/>
            <a:ext cx="345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Erikson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의 심리사회 발달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직사각형 48"/>
          <p:cNvSpPr/>
          <p:nvPr/>
        </p:nvSpPr>
        <p:spPr>
          <a:xfrm>
            <a:off x="4669560" y="5072040"/>
            <a:ext cx="17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생태학적 접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9" name="TextBox 18" descr=""/>
          <p:cNvPicPr/>
          <p:nvPr/>
        </p:nvPicPr>
        <p:blipFill>
          <a:blip r:embed="rId4"/>
          <a:stretch/>
        </p:blipFill>
        <p:spPr>
          <a:xfrm>
            <a:off x="5467320" y="85680"/>
            <a:ext cx="3792600" cy="901800"/>
          </a:xfrm>
          <a:prstGeom prst="rect">
            <a:avLst/>
          </a:prstGeom>
          <a:ln w="0">
            <a:noFill/>
          </a:ln>
        </p:spPr>
      </p:pic>
      <p:sp>
        <p:nvSpPr>
          <p:cNvPr id="370" name="슬라이드 번호 개체 틀 19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86337-AB43-4BB6-B7B0-A9DABA143C16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1" name="TextBox 12" descr=""/>
          <p:cNvPicPr/>
          <p:nvPr/>
        </p:nvPicPr>
        <p:blipFill>
          <a:blip r:embed="rId1"/>
          <a:stretch/>
        </p:blipFill>
        <p:spPr>
          <a:xfrm>
            <a:off x="3170160" y="506520"/>
            <a:ext cx="5765760" cy="590400"/>
          </a:xfrm>
          <a:prstGeom prst="rect">
            <a:avLst/>
          </a:prstGeom>
          <a:ln w="0">
            <a:noFill/>
          </a:ln>
        </p:spPr>
      </p:pic>
      <p:sp>
        <p:nvSpPr>
          <p:cNvPr id="732" name="AutoShape 100"/>
          <p:cNvSpPr/>
          <p:nvPr/>
        </p:nvSpPr>
        <p:spPr>
          <a:xfrm flipH="1">
            <a:off x="2606040" y="2443320"/>
            <a:ext cx="1873080" cy="1873080"/>
          </a:xfrm>
          <a:prstGeom prst="rtTriangle">
            <a:avLst/>
          </a:prstGeom>
          <a:gradFill rotWithShape="0">
            <a:gsLst>
              <a:gs pos="0">
                <a:srgbClr val="8940da"/>
              </a:gs>
              <a:gs pos="100000">
                <a:srgbClr val="c9a8e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Line 101"/>
          <p:cNvSpPr/>
          <p:nvPr/>
        </p:nvSpPr>
        <p:spPr>
          <a:xfrm>
            <a:off x="4500720" y="2324160"/>
            <a:ext cx="0" cy="4086000"/>
          </a:xfrm>
          <a:prstGeom prst="line">
            <a:avLst/>
          </a:prstGeom>
          <a:ln w="9360">
            <a:solidFill>
              <a:srgbClr val="1c1c1c"/>
            </a:solidFill>
            <a:prstDash val="lg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AutoShape 102"/>
          <p:cNvSpPr/>
          <p:nvPr/>
        </p:nvSpPr>
        <p:spPr>
          <a:xfrm>
            <a:off x="4538520" y="2443320"/>
            <a:ext cx="1873440" cy="1873080"/>
          </a:xfrm>
          <a:prstGeom prst="rtTriangle">
            <a:avLst/>
          </a:prstGeom>
          <a:gradFill rotWithShape="0">
            <a:gsLst>
              <a:gs pos="0">
                <a:srgbClr val="e5772d"/>
              </a:gs>
              <a:gs pos="100000">
                <a:srgbClr val="f1b58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AutoShape 103"/>
          <p:cNvSpPr/>
          <p:nvPr/>
        </p:nvSpPr>
        <p:spPr>
          <a:xfrm rot="5400000">
            <a:off x="4539960" y="4384800"/>
            <a:ext cx="1873080" cy="1873080"/>
          </a:xfrm>
          <a:prstGeom prst="rtTriangle">
            <a:avLst/>
          </a:prstGeom>
          <a:gradFill rotWithShape="0">
            <a:gsLst>
              <a:gs pos="0">
                <a:srgbClr val="76ca2a"/>
              </a:gs>
              <a:gs pos="100000">
                <a:srgbClr val="b0e08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AutoShape 104"/>
          <p:cNvSpPr/>
          <p:nvPr/>
        </p:nvSpPr>
        <p:spPr>
          <a:xfrm flipH="1" rot="16200000">
            <a:off x="2608200" y="4384440"/>
            <a:ext cx="1873080" cy="1873440"/>
          </a:xfrm>
          <a:prstGeom prst="rtTriangle">
            <a:avLst/>
          </a:prstGeom>
          <a:gradFill rotWithShape="0">
            <a:gsLst>
              <a:gs pos="0">
                <a:srgbClr val="2854d0"/>
              </a:gs>
              <a:gs pos="100000">
                <a:srgbClr val="7c97e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Line 105"/>
          <p:cNvSpPr/>
          <p:nvPr/>
        </p:nvSpPr>
        <p:spPr>
          <a:xfrm flipV="1">
            <a:off x="2276640" y="4339800"/>
            <a:ext cx="4478040" cy="4680"/>
          </a:xfrm>
          <a:prstGeom prst="line">
            <a:avLst/>
          </a:prstGeom>
          <a:ln w="9360">
            <a:solidFill>
              <a:srgbClr val="1c1c1c"/>
            </a:solidFill>
            <a:prstDash val="lg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8" name="Rectangle 107" descr=""/>
          <p:cNvPicPr/>
          <p:nvPr/>
        </p:nvPicPr>
        <p:blipFill>
          <a:blip r:embed="rId2"/>
          <a:stretch/>
        </p:blipFill>
        <p:spPr>
          <a:xfrm>
            <a:off x="2425680" y="3316320"/>
            <a:ext cx="1878120" cy="542880"/>
          </a:xfrm>
          <a:prstGeom prst="rect">
            <a:avLst/>
          </a:prstGeom>
          <a:ln w="0">
            <a:noFill/>
          </a:ln>
        </p:spPr>
      </p:pic>
      <p:pic>
        <p:nvPicPr>
          <p:cNvPr id="739" name="Rectangle 108" descr=""/>
          <p:cNvPicPr/>
          <p:nvPr/>
        </p:nvPicPr>
        <p:blipFill>
          <a:blip r:embed="rId3"/>
          <a:stretch/>
        </p:blipFill>
        <p:spPr>
          <a:xfrm>
            <a:off x="4595760" y="3316320"/>
            <a:ext cx="1878120" cy="542880"/>
          </a:xfrm>
          <a:prstGeom prst="rect">
            <a:avLst/>
          </a:prstGeom>
          <a:ln w="0">
            <a:noFill/>
          </a:ln>
        </p:spPr>
      </p:pic>
      <p:pic>
        <p:nvPicPr>
          <p:cNvPr id="740" name="Rectangle 109" descr=""/>
          <p:cNvPicPr/>
          <p:nvPr/>
        </p:nvPicPr>
        <p:blipFill>
          <a:blip r:embed="rId4"/>
          <a:stretch/>
        </p:blipFill>
        <p:spPr>
          <a:xfrm>
            <a:off x="4595760" y="4780080"/>
            <a:ext cx="1878120" cy="541080"/>
          </a:xfrm>
          <a:prstGeom prst="rect">
            <a:avLst/>
          </a:prstGeom>
          <a:ln w="0">
            <a:noFill/>
          </a:ln>
        </p:spPr>
      </p:pic>
      <p:pic>
        <p:nvPicPr>
          <p:cNvPr id="741" name="Rectangle 110" descr=""/>
          <p:cNvPicPr/>
          <p:nvPr/>
        </p:nvPicPr>
        <p:blipFill>
          <a:blip r:embed="rId5"/>
          <a:stretch/>
        </p:blipFill>
        <p:spPr>
          <a:xfrm>
            <a:off x="2475000" y="4780080"/>
            <a:ext cx="1877760" cy="541080"/>
          </a:xfrm>
          <a:prstGeom prst="rect">
            <a:avLst/>
          </a:prstGeom>
          <a:ln w="0">
            <a:noFill/>
          </a:ln>
        </p:spPr>
      </p:pic>
      <p:sp>
        <p:nvSpPr>
          <p:cNvPr id="742" name="TextBox 33"/>
          <p:cNvSpPr/>
          <p:nvPr/>
        </p:nvSpPr>
        <p:spPr>
          <a:xfrm>
            <a:off x="6954840" y="416232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위기경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TextBox 34"/>
          <p:cNvSpPr/>
          <p:nvPr/>
        </p:nvSpPr>
        <p:spPr>
          <a:xfrm>
            <a:off x="3966480" y="2000160"/>
            <a:ext cx="11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과업에 대한 몰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74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746" name="직사각형 13"/>
              <p:cNvSpPr/>
              <p:nvPr/>
            </p:nvSpPr>
            <p:spPr>
              <a:xfrm>
                <a:off x="1380960" y="1385640"/>
                <a:ext cx="2158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arcia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정체성 지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4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5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51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5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53" name="TextBox 33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4" name="모서리가 둥근 직사각형 38"/>
          <p:cNvSpPr/>
          <p:nvPr/>
        </p:nvSpPr>
        <p:spPr>
          <a:xfrm>
            <a:off x="214200" y="2143080"/>
            <a:ext cx="3000600" cy="1000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위기를 경험하지 않고 주어진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역할에 몰입하지 못하는 상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직선 연결선 40"/>
          <p:cNvSpPr/>
          <p:nvPr/>
        </p:nvSpPr>
        <p:spPr>
          <a:xfrm>
            <a:off x="3214800" y="2643120"/>
            <a:ext cx="147600" cy="73656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모서리가 둥근 직사각형 42"/>
          <p:cNvSpPr/>
          <p:nvPr/>
        </p:nvSpPr>
        <p:spPr>
          <a:xfrm>
            <a:off x="5786280" y="2143080"/>
            <a:ext cx="3286440" cy="1000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0" tIns="46800" bIns="46800"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위기를 경험하고 있지만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과업이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역할에 몰입하지 못하는 상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직선 연결선 45"/>
          <p:cNvSpPr/>
          <p:nvPr/>
        </p:nvSpPr>
        <p:spPr>
          <a:xfrm>
            <a:off x="5529960" y="5240160"/>
            <a:ext cx="398520" cy="68904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모서리가 둥근 직사각형 59"/>
          <p:cNvSpPr/>
          <p:nvPr/>
        </p:nvSpPr>
        <p:spPr>
          <a:xfrm>
            <a:off x="5929200" y="5429160"/>
            <a:ext cx="3000600" cy="1000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위기를 경험한 다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확고한 정체성을 확립한 상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모서리가 둥근 직사각형 64"/>
          <p:cNvSpPr/>
          <p:nvPr/>
        </p:nvSpPr>
        <p:spPr>
          <a:xfrm>
            <a:off x="152280" y="5429160"/>
            <a:ext cx="3133800" cy="1000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위기를 경험하지 않고 정체성이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확립된 것처럼 행동하는 상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직선 연결선 65"/>
          <p:cNvSpPr/>
          <p:nvPr/>
        </p:nvSpPr>
        <p:spPr>
          <a:xfrm flipH="1">
            <a:off x="3286080" y="5240160"/>
            <a:ext cx="123840" cy="68904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1" name="타원 30"/>
          <p:cNvGrpSpPr/>
          <p:nvPr/>
        </p:nvGrpSpPr>
        <p:grpSpPr>
          <a:xfrm>
            <a:off x="195120" y="2365200"/>
            <a:ext cx="219240" cy="206640"/>
            <a:chOff x="195120" y="2365200"/>
            <a:chExt cx="219240" cy="206640"/>
          </a:xfrm>
        </p:grpSpPr>
        <p:pic>
          <p:nvPicPr>
            <p:cNvPr id="762" name="타원 30" descr=""/>
            <p:cNvPicPr/>
            <p:nvPr/>
          </p:nvPicPr>
          <p:blipFill>
            <a:blip r:embed="rId7"/>
            <a:stretch/>
          </p:blipFill>
          <p:spPr>
            <a:xfrm>
              <a:off x="195120" y="2365200"/>
              <a:ext cx="21924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3" name=""/>
            <p:cNvSpPr/>
            <p:nvPr/>
          </p:nvSpPr>
          <p:spPr>
            <a:xfrm rot="10800000">
              <a:off x="272520" y="2416320"/>
              <a:ext cx="7020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4" name="타원 31"/>
          <p:cNvGrpSpPr/>
          <p:nvPr/>
        </p:nvGrpSpPr>
        <p:grpSpPr>
          <a:xfrm>
            <a:off x="5797440" y="2365200"/>
            <a:ext cx="212760" cy="206640"/>
            <a:chOff x="5797440" y="2365200"/>
            <a:chExt cx="212760" cy="206640"/>
          </a:xfrm>
        </p:grpSpPr>
        <p:pic>
          <p:nvPicPr>
            <p:cNvPr id="765" name="타원 31" descr=""/>
            <p:cNvPicPr/>
            <p:nvPr/>
          </p:nvPicPr>
          <p:blipFill>
            <a:blip r:embed="rId8"/>
            <a:stretch/>
          </p:blipFill>
          <p:spPr>
            <a:xfrm>
              <a:off x="5797440" y="2365200"/>
              <a:ext cx="21276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6" name=""/>
            <p:cNvSpPr/>
            <p:nvPr/>
          </p:nvSpPr>
          <p:spPr>
            <a:xfrm rot="10800000">
              <a:off x="5872320" y="24163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7" name="직선 연결선 33"/>
          <p:cNvSpPr/>
          <p:nvPr/>
        </p:nvSpPr>
        <p:spPr>
          <a:xfrm flipH="1">
            <a:off x="5530680" y="2643120"/>
            <a:ext cx="255600" cy="73656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8" name="타원 39"/>
          <p:cNvGrpSpPr/>
          <p:nvPr/>
        </p:nvGrpSpPr>
        <p:grpSpPr>
          <a:xfrm>
            <a:off x="5937120" y="5651640"/>
            <a:ext cx="214560" cy="206280"/>
            <a:chOff x="5937120" y="5651640"/>
            <a:chExt cx="214560" cy="206280"/>
          </a:xfrm>
        </p:grpSpPr>
        <p:pic>
          <p:nvPicPr>
            <p:cNvPr id="769" name="타원 39" descr=""/>
            <p:cNvPicPr/>
            <p:nvPr/>
          </p:nvPicPr>
          <p:blipFill>
            <a:blip r:embed="rId9"/>
            <a:stretch/>
          </p:blipFill>
          <p:spPr>
            <a:xfrm>
              <a:off x="5937120" y="5651640"/>
              <a:ext cx="214560" cy="20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0" name=""/>
            <p:cNvSpPr/>
            <p:nvPr/>
          </p:nvSpPr>
          <p:spPr>
            <a:xfrm rot="10800000">
              <a:off x="6012000" y="57038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1" name="타원 41"/>
          <p:cNvGrpSpPr/>
          <p:nvPr/>
        </p:nvGrpSpPr>
        <p:grpSpPr>
          <a:xfrm>
            <a:off x="139680" y="5651640"/>
            <a:ext cx="214200" cy="206280"/>
            <a:chOff x="139680" y="5651640"/>
            <a:chExt cx="214200" cy="206280"/>
          </a:xfrm>
        </p:grpSpPr>
        <p:pic>
          <p:nvPicPr>
            <p:cNvPr id="772" name="타원 41" descr=""/>
            <p:cNvPicPr/>
            <p:nvPr/>
          </p:nvPicPr>
          <p:blipFill>
            <a:blip r:embed="rId10"/>
            <a:stretch/>
          </p:blipFill>
          <p:spPr>
            <a:xfrm>
              <a:off x="139680" y="5651640"/>
              <a:ext cx="214200" cy="20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3" name=""/>
            <p:cNvSpPr/>
            <p:nvPr/>
          </p:nvSpPr>
          <p:spPr>
            <a:xfrm rot="10800000">
              <a:off x="216000" y="57038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4" name="슬라이드 번호 개체 틀 36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90E98-2B23-46AD-9E38-708E30BFE828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921F7C82-4663-4323-8A3A-C35227B8C3FA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4121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  <a:ea typeface="굴림"/>
            </a:endParaRPr>
          </a:p>
        </p:txBody>
      </p:sp>
      <p:graphicFrame>
        <p:nvGraphicFramePr>
          <p:cNvPr id="777" name=""/>
          <p:cNvGraphicFramePr/>
          <p:nvPr/>
        </p:nvGraphicFramePr>
        <p:xfrm>
          <a:off x="422280" y="2214720"/>
          <a:ext cx="8350200" cy="4236840"/>
        </p:xfrm>
        <a:graphic>
          <a:graphicData uri="http://schemas.openxmlformats.org/drawingml/2006/table">
            <a:tbl>
              <a:tblPr/>
              <a:tblGrid>
                <a:gridCol w="2568600"/>
                <a:gridCol w="5781600"/>
              </a:tblGrid>
              <a:tr h="370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모음T"/>
                          <a:ea typeface="휴먼모음T"/>
                        </a:rPr>
                        <a:t>상 태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모음T"/>
                          <a:ea typeface="휴먼모음T"/>
                        </a:rPr>
                        <a:t>일반적 기술 및 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08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체성 혼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identity diffusio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분명한 선택을 내릴 수 없을 때 나타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혼란한 상태가 일반적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선택을 내리기가 힘들다거나 발달 단계상 아직 선택을 내릴 준비가 되어 있지 않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0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체성 폐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identity foreclosur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모와 같은 다른 사람이 내린 결정을 성급하게 채택할 때 나타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이는 바람직하지 않은데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다른 사람의 정체성을 바탕으로 선택을 내렸기 때문임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3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체성 유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identity moratorium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판단을 유보한 상태에서 나타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장기적 판단을 유보한 상태임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4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체성 성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identity achievemen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일정 기간의 갈등과 의사결정의 과정 후에 나타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체성 성취는 자신이 몰두할 목적이나 방향을 결정했음을 반영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78" name="Text Box 30"/>
          <p:cNvSpPr/>
          <p:nvPr/>
        </p:nvSpPr>
        <p:spPr>
          <a:xfrm>
            <a:off x="428760" y="1500120"/>
            <a:ext cx="430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휴먼모음"/>
              </a:rPr>
              <a:t>정체성 발달의 상태             </a:t>
            </a:r>
            <a:r>
              <a:rPr b="1" lang="en-US" sz="2000" spc="-1" strike="noStrike">
                <a:solidFill>
                  <a:srgbClr val="000000"/>
                </a:solidFill>
                <a:latin typeface="휴먼모음"/>
              </a:rPr>
              <a:t>p. 1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9" name="TextBox 6" descr=""/>
          <p:cNvPicPr/>
          <p:nvPr/>
        </p:nvPicPr>
        <p:blipFill>
          <a:blip r:embed="rId1"/>
          <a:stretch/>
        </p:blipFill>
        <p:spPr>
          <a:xfrm>
            <a:off x="3157560" y="291960"/>
            <a:ext cx="5456160" cy="59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4D6C5751-DE67-4199-B0A7-78B9283759B3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/>
          </p:nvPr>
        </p:nvSpPr>
        <p:spPr>
          <a:xfrm>
            <a:off x="457200" y="1220760"/>
            <a:ext cx="8229600" cy="542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아개념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</a:t>
            </a:r>
            <a:r>
              <a:rPr b="0" lang="ko-KR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신의 신체적</a:t>
            </a:r>
            <a:r>
              <a:rPr b="0" lang="en-US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사회적</a:t>
            </a:r>
            <a:r>
              <a:rPr b="0" lang="en-US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지적 능력에 대한 </a:t>
            </a:r>
            <a:r>
              <a:rPr b="0" lang="ko-KR" sz="2200" spc="-1" strike="noStrike" u="sng">
                <a:solidFill>
                  <a:srgbClr val="000000"/>
                </a:solidFill>
                <a:uFillTx/>
                <a:latin typeface="휴먼모음T"/>
                <a:ea typeface="휴먼모음T"/>
              </a:rPr>
              <a:t>인지적 평가</a:t>
            </a:r>
            <a:r>
              <a:rPr b="0" lang="en-US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아존중감</a:t>
            </a:r>
            <a:r>
              <a:rPr b="0" lang="en-US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self-esteem) ,</a:t>
            </a: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기가치</a:t>
            </a:r>
            <a:r>
              <a:rPr b="0" lang="en-US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self-worth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</a:t>
            </a:r>
            <a:r>
              <a:rPr b="0" lang="ko-KR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신에 대한 </a:t>
            </a:r>
            <a:r>
              <a:rPr b="0" lang="ko-KR" sz="2200" spc="-1" strike="noStrike" u="sng">
                <a:solidFill>
                  <a:srgbClr val="000000"/>
                </a:solidFill>
                <a:uFillTx/>
                <a:latin typeface="휴먼모음T"/>
                <a:ea typeface="휴먼모음T"/>
              </a:rPr>
              <a:t>정서적인 반응이나 평가</a:t>
            </a:r>
            <a:r>
              <a:rPr b="0" lang="en-US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e08500"/>
              </a:buClr>
              <a:buFont typeface="Wingdings" charset="2"/>
              <a:buChar char="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어린 아동은 타인과의 비교 경험이 부족하고 부모로부터 많은 지지를 받기 때문에 높은 자기존중과 비현실적일 정도의 긍정적인 자아개념을 가지는 경향이 있음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e08500"/>
              </a:buClr>
              <a:buFont typeface="Wingdings" charset="2"/>
              <a:buChar char="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초등학교 아동은 또래와 비교를 통해 자신의 수행을 보다 정확하게 평가할 수 있게 되어 자아존중감은 떨어지고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보다 더 현실적인 자아존중감을 가지게 됨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e08500"/>
              </a:buClr>
              <a:buFont typeface="Wingdings" charset="2"/>
              <a:buChar char="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청소년기는 자아개념과 정체성이 상호 영향을 미치게 됨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2" name="Rectangle 3" descr=""/>
          <p:cNvPicPr/>
          <p:nvPr/>
        </p:nvPicPr>
        <p:blipFill>
          <a:blip r:embed="rId1"/>
          <a:stretch/>
        </p:blipFill>
        <p:spPr>
          <a:xfrm>
            <a:off x="450720" y="285840"/>
            <a:ext cx="8547120" cy="635040"/>
          </a:xfrm>
          <a:prstGeom prst="rect">
            <a:avLst/>
          </a:prstGeom>
          <a:ln w="0">
            <a:noFill/>
          </a:ln>
        </p:spPr>
      </p:pic>
      <p:grpSp>
        <p:nvGrpSpPr>
          <p:cNvPr id="783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78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785" name="직사각형 13"/>
              <p:cNvSpPr/>
              <p:nvPr/>
            </p:nvSpPr>
            <p:spPr>
              <a:xfrm>
                <a:off x="1252440" y="1385640"/>
                <a:ext cx="79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자아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8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8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9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2" name="TextBox 33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9449BE47-3F86-4190-BFE6-A47B5D754ABC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1"/>
          <p:cNvSpPr>
            <a:spLocks noGrp="1"/>
          </p:cNvSpPr>
          <p:nvPr>
            <p:ph/>
          </p:nvPr>
        </p:nvSpPr>
        <p:spPr>
          <a:xfrm>
            <a:off x="457200" y="1431720"/>
            <a:ext cx="8229600" cy="71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아개념과 성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5" name="Rectangle 3" descr=""/>
          <p:cNvPicPr/>
          <p:nvPr/>
        </p:nvPicPr>
        <p:blipFill>
          <a:blip r:embed="rId1"/>
          <a:stretch/>
        </p:blipFill>
        <p:spPr>
          <a:xfrm>
            <a:off x="450720" y="291960"/>
            <a:ext cx="8547120" cy="628920"/>
          </a:xfrm>
          <a:prstGeom prst="rect">
            <a:avLst/>
          </a:prstGeom>
          <a:ln w="0">
            <a:noFill/>
          </a:ln>
        </p:spPr>
      </p:pic>
      <p:sp>
        <p:nvSpPr>
          <p:cNvPr id="796" name="Text Box 30"/>
          <p:cNvSpPr/>
          <p:nvPr/>
        </p:nvSpPr>
        <p:spPr>
          <a:xfrm>
            <a:off x="1689120" y="6175440"/>
            <a:ext cx="731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자아개념의 여러 다른 차원과 학업 성취와의 관계      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p. 14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7" name="Group 54"/>
          <p:cNvGrpSpPr/>
          <p:nvPr/>
        </p:nvGrpSpPr>
        <p:grpSpPr>
          <a:xfrm>
            <a:off x="843120" y="2374920"/>
            <a:ext cx="7851600" cy="3625200"/>
            <a:chOff x="843120" y="2374920"/>
            <a:chExt cx="7851600" cy="3625200"/>
          </a:xfrm>
        </p:grpSpPr>
        <p:grpSp>
          <p:nvGrpSpPr>
            <p:cNvPr id="798" name="Group 5"/>
            <p:cNvGrpSpPr/>
            <p:nvPr/>
          </p:nvGrpSpPr>
          <p:grpSpPr>
            <a:xfrm>
              <a:off x="3224160" y="2374920"/>
              <a:ext cx="1536840" cy="745920"/>
              <a:chOff x="3224160" y="2374920"/>
              <a:chExt cx="1536840" cy="745920"/>
            </a:xfrm>
          </p:grpSpPr>
          <p:sp>
            <p:nvSpPr>
              <p:cNvPr id="799" name="AutoShape 6"/>
              <p:cNvSpPr/>
              <p:nvPr/>
            </p:nvSpPr>
            <p:spPr>
              <a:xfrm>
                <a:off x="3227400" y="2374920"/>
                <a:ext cx="1533600" cy="7459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4f81bd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" name="Rectangle 7"/>
              <p:cNvSpPr/>
              <p:nvPr/>
            </p:nvSpPr>
            <p:spPr>
              <a:xfrm>
                <a:off x="3224160" y="2424960"/>
                <a:ext cx="1533600" cy="647280"/>
              </a:xfrm>
              <a:prstGeom prst="rect">
                <a:avLst/>
              </a:prstGeom>
              <a:gradFill rotWithShape="0">
                <a:gsLst>
                  <a:gs pos="0">
                    <a:srgbClr val="800080"/>
                  </a:gs>
                  <a:gs pos="50000">
                    <a:srgbClr val="ffffff"/>
                  </a:gs>
                  <a:gs pos="100000">
                    <a:srgbClr val="800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일반적인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자아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1" name="Line 26"/>
            <p:cNvSpPr/>
            <p:nvPr/>
          </p:nvSpPr>
          <p:spPr>
            <a:xfrm>
              <a:off x="4014720" y="3506760"/>
              <a:ext cx="362592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Line 27"/>
            <p:cNvSpPr/>
            <p:nvPr/>
          </p:nvSpPr>
          <p:spPr>
            <a:xfrm>
              <a:off x="4354560" y="3127320"/>
              <a:ext cx="14400" cy="36036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Line 28"/>
            <p:cNvSpPr/>
            <p:nvPr/>
          </p:nvSpPr>
          <p:spPr>
            <a:xfrm>
              <a:off x="4019760" y="3490920"/>
              <a:ext cx="1440" cy="23184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Line 29"/>
            <p:cNvSpPr/>
            <p:nvPr/>
          </p:nvSpPr>
          <p:spPr>
            <a:xfrm>
              <a:off x="7621560" y="3479760"/>
              <a:ext cx="9720" cy="24120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05" name="Group 31"/>
            <p:cNvGrpSpPr/>
            <p:nvPr/>
          </p:nvGrpSpPr>
          <p:grpSpPr>
            <a:xfrm>
              <a:off x="6863040" y="3726000"/>
              <a:ext cx="1549080" cy="798120"/>
              <a:chOff x="6863040" y="3726000"/>
              <a:chExt cx="1549080" cy="798120"/>
            </a:xfrm>
          </p:grpSpPr>
          <p:sp>
            <p:nvSpPr>
              <p:cNvPr id="806" name="AutoShape 32"/>
              <p:cNvSpPr/>
              <p:nvPr/>
            </p:nvSpPr>
            <p:spPr>
              <a:xfrm>
                <a:off x="6866280" y="3726000"/>
                <a:ext cx="1545840" cy="798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4f81bd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" name="Rectangle 33"/>
              <p:cNvSpPr/>
              <p:nvPr/>
            </p:nvSpPr>
            <p:spPr>
              <a:xfrm>
                <a:off x="6863040" y="3779640"/>
                <a:ext cx="1545840" cy="692640"/>
              </a:xfrm>
              <a:prstGeom prst="rect">
                <a:avLst/>
              </a:prstGeom>
              <a:gradFill rotWithShape="0">
                <a:gsLst>
                  <a:gs pos="0">
                    <a:srgbClr val="800080"/>
                  </a:gs>
                  <a:gs pos="50000">
                    <a:srgbClr val="ffffff"/>
                  </a:gs>
                  <a:gs pos="100000">
                    <a:srgbClr val="800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신체적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자아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8" name="Group 34"/>
            <p:cNvGrpSpPr/>
            <p:nvPr/>
          </p:nvGrpSpPr>
          <p:grpSpPr>
            <a:xfrm>
              <a:off x="3211560" y="3719520"/>
              <a:ext cx="1563840" cy="745920"/>
              <a:chOff x="3211560" y="3719520"/>
              <a:chExt cx="1563840" cy="745920"/>
            </a:xfrm>
          </p:grpSpPr>
          <p:sp>
            <p:nvSpPr>
              <p:cNvPr id="809" name="AutoShape 35"/>
              <p:cNvSpPr/>
              <p:nvPr/>
            </p:nvSpPr>
            <p:spPr>
              <a:xfrm>
                <a:off x="3214800" y="3719520"/>
                <a:ext cx="1560600" cy="7459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4f81bd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Rectangle 36"/>
              <p:cNvSpPr/>
              <p:nvPr/>
            </p:nvSpPr>
            <p:spPr>
              <a:xfrm>
                <a:off x="3211560" y="3769560"/>
                <a:ext cx="1560600" cy="647280"/>
              </a:xfrm>
              <a:prstGeom prst="rect">
                <a:avLst/>
              </a:prstGeom>
              <a:gradFill rotWithShape="0">
                <a:gsLst>
                  <a:gs pos="0">
                    <a:srgbClr val="800080"/>
                  </a:gs>
                  <a:gs pos="50000">
                    <a:srgbClr val="ffffff"/>
                  </a:gs>
                  <a:gs pos="100000">
                    <a:srgbClr val="800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학업적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자아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1" name="Group 37"/>
            <p:cNvGrpSpPr/>
            <p:nvPr/>
          </p:nvGrpSpPr>
          <p:grpSpPr>
            <a:xfrm>
              <a:off x="3230640" y="4851360"/>
              <a:ext cx="1549440" cy="1148760"/>
              <a:chOff x="3230640" y="4851360"/>
              <a:chExt cx="1549440" cy="1148760"/>
            </a:xfrm>
          </p:grpSpPr>
          <p:sp>
            <p:nvSpPr>
              <p:cNvPr id="812" name="AutoShape 38"/>
              <p:cNvSpPr/>
              <p:nvPr/>
            </p:nvSpPr>
            <p:spPr>
              <a:xfrm>
                <a:off x="3233880" y="4851360"/>
                <a:ext cx="1546200" cy="114876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4f81bd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Rectangle 39"/>
              <p:cNvSpPr/>
              <p:nvPr/>
            </p:nvSpPr>
            <p:spPr>
              <a:xfrm>
                <a:off x="3230640" y="4928760"/>
                <a:ext cx="1546200" cy="996840"/>
              </a:xfrm>
              <a:prstGeom prst="rect">
                <a:avLst/>
              </a:prstGeom>
              <a:gradFill rotWithShape="0">
                <a:gsLst>
                  <a:gs pos="0">
                    <a:srgbClr val="800080"/>
                  </a:gs>
                  <a:gs pos="50000">
                    <a:srgbClr val="ffffff"/>
                  </a:gs>
                  <a:gs pos="100000">
                    <a:srgbClr val="800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수학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,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영어 및 기타 과목에서의 자아개념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4" name="Group 40"/>
            <p:cNvGrpSpPr/>
            <p:nvPr/>
          </p:nvGrpSpPr>
          <p:grpSpPr>
            <a:xfrm>
              <a:off x="5067360" y="3718080"/>
              <a:ext cx="1536840" cy="798120"/>
              <a:chOff x="5067360" y="3718080"/>
              <a:chExt cx="1536840" cy="798120"/>
            </a:xfrm>
          </p:grpSpPr>
          <p:sp>
            <p:nvSpPr>
              <p:cNvPr id="815" name="AutoShape 41"/>
              <p:cNvSpPr/>
              <p:nvPr/>
            </p:nvSpPr>
            <p:spPr>
              <a:xfrm>
                <a:off x="5070600" y="3718080"/>
                <a:ext cx="1533600" cy="798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4f81bd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6" name="Rectangle 42"/>
              <p:cNvSpPr/>
              <p:nvPr/>
            </p:nvSpPr>
            <p:spPr>
              <a:xfrm>
                <a:off x="5067360" y="3771720"/>
                <a:ext cx="1533600" cy="692640"/>
              </a:xfrm>
              <a:prstGeom prst="rect">
                <a:avLst/>
              </a:prstGeom>
              <a:gradFill rotWithShape="0">
                <a:gsLst>
                  <a:gs pos="0">
                    <a:srgbClr val="800080"/>
                  </a:gs>
                  <a:gs pos="50000">
                    <a:srgbClr val="ffffff"/>
                  </a:gs>
                  <a:gs pos="100000">
                    <a:srgbClr val="800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사회적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자아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7" name="Text Box 43"/>
            <p:cNvSpPr/>
            <p:nvPr/>
          </p:nvSpPr>
          <p:spPr>
            <a:xfrm>
              <a:off x="874800" y="2489040"/>
              <a:ext cx="1749600" cy="67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학업성취와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낮은 상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Line 44"/>
            <p:cNvSpPr/>
            <p:nvPr/>
          </p:nvSpPr>
          <p:spPr>
            <a:xfrm>
              <a:off x="4021200" y="4481640"/>
              <a:ext cx="14400" cy="36036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Line 45"/>
            <p:cNvSpPr/>
            <p:nvPr/>
          </p:nvSpPr>
          <p:spPr>
            <a:xfrm>
              <a:off x="7699320" y="4514760"/>
              <a:ext cx="14400" cy="36036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Line 46"/>
            <p:cNvSpPr/>
            <p:nvPr/>
          </p:nvSpPr>
          <p:spPr>
            <a:xfrm>
              <a:off x="5810400" y="4508640"/>
              <a:ext cx="14400" cy="36036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Line 47"/>
            <p:cNvSpPr/>
            <p:nvPr/>
          </p:nvSpPr>
          <p:spPr>
            <a:xfrm flipH="1" flipV="1">
              <a:off x="2604960" y="2773080"/>
              <a:ext cx="507960" cy="468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Line 48"/>
            <p:cNvSpPr/>
            <p:nvPr/>
          </p:nvSpPr>
          <p:spPr>
            <a:xfrm flipH="1" flipV="1">
              <a:off x="2600280" y="4059000"/>
              <a:ext cx="508320" cy="468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Line 49"/>
            <p:cNvSpPr/>
            <p:nvPr/>
          </p:nvSpPr>
          <p:spPr>
            <a:xfrm flipH="1" flipV="1">
              <a:off x="2579400" y="5360760"/>
              <a:ext cx="507960" cy="468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Text Box 50"/>
            <p:cNvSpPr/>
            <p:nvPr/>
          </p:nvSpPr>
          <p:spPr>
            <a:xfrm>
              <a:off x="843120" y="3711600"/>
              <a:ext cx="1749240" cy="67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학업성취와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중간정도 상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Text Box 51"/>
            <p:cNvSpPr/>
            <p:nvPr/>
          </p:nvSpPr>
          <p:spPr>
            <a:xfrm>
              <a:off x="887400" y="4919760"/>
              <a:ext cx="1749600" cy="67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학업성취와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높은 상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Text Box 52"/>
            <p:cNvSpPr/>
            <p:nvPr/>
          </p:nvSpPr>
          <p:spPr>
            <a:xfrm>
              <a:off x="5257800" y="4979880"/>
              <a:ext cx="3436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학업성취와 사실상 상관 없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Line 53"/>
            <p:cNvSpPr/>
            <p:nvPr/>
          </p:nvSpPr>
          <p:spPr>
            <a:xfrm>
              <a:off x="5834160" y="3486240"/>
              <a:ext cx="3240" cy="25704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/>
          </p:nvPr>
        </p:nvSpPr>
        <p:spPr>
          <a:xfrm>
            <a:off x="326880" y="999720"/>
            <a:ext cx="8490240" cy="520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9" name="Rectangle 3" descr=""/>
          <p:cNvPicPr/>
          <p:nvPr/>
        </p:nvPicPr>
        <p:blipFill>
          <a:blip r:embed="rId1"/>
          <a:stretch/>
        </p:blipFill>
        <p:spPr>
          <a:xfrm>
            <a:off x="450720" y="291960"/>
            <a:ext cx="8547120" cy="628920"/>
          </a:xfrm>
          <a:prstGeom prst="rect">
            <a:avLst/>
          </a:prstGeom>
          <a:ln w="0">
            <a:noFill/>
          </a:ln>
        </p:spPr>
      </p:pic>
      <p:grpSp>
        <p:nvGrpSpPr>
          <p:cNvPr id="830" name="Group 5"/>
          <p:cNvGrpSpPr/>
          <p:nvPr/>
        </p:nvGrpSpPr>
        <p:grpSpPr>
          <a:xfrm>
            <a:off x="577800" y="3114720"/>
            <a:ext cx="8111880" cy="761760"/>
            <a:chOff x="577800" y="3114720"/>
            <a:chExt cx="8111880" cy="761760"/>
          </a:xfrm>
        </p:grpSpPr>
        <p:sp>
          <p:nvSpPr>
            <p:cNvPr id="831" name="Freeform 6"/>
            <p:cNvSpPr/>
            <p:nvPr/>
          </p:nvSpPr>
          <p:spPr>
            <a:xfrm>
              <a:off x="843480" y="3553560"/>
              <a:ext cx="7580160" cy="3229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Rectangle 7"/>
            <p:cNvSpPr/>
            <p:nvPr/>
          </p:nvSpPr>
          <p:spPr>
            <a:xfrm>
              <a:off x="577800" y="3114720"/>
              <a:ext cx="8111880" cy="668160"/>
            </a:xfrm>
            <a:prstGeom prst="rect">
              <a:avLst/>
            </a:prstGeom>
            <a:gradFill rotWithShape="0">
              <a:gsLst>
                <a:gs pos="0">
                  <a:srgbClr val="b1efd0"/>
                </a:gs>
                <a:gs pos="100000">
                  <a:srgbClr val="77e3a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생이 보여주는 자립성과 주도성에 적절한 보상을 제공하는 것이 필요하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3" name="Group 8"/>
          <p:cNvGrpSpPr/>
          <p:nvPr/>
        </p:nvGrpSpPr>
        <p:grpSpPr>
          <a:xfrm>
            <a:off x="590400" y="2282760"/>
            <a:ext cx="8113680" cy="788760"/>
            <a:chOff x="590400" y="2282760"/>
            <a:chExt cx="8113680" cy="788760"/>
          </a:xfrm>
        </p:grpSpPr>
        <p:sp>
          <p:nvSpPr>
            <p:cNvPr id="834" name="Freeform 9"/>
            <p:cNvSpPr/>
            <p:nvPr/>
          </p:nvSpPr>
          <p:spPr>
            <a:xfrm>
              <a:off x="856080" y="2737080"/>
              <a:ext cx="7581960" cy="3344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Rectangle 10"/>
            <p:cNvSpPr/>
            <p:nvPr/>
          </p:nvSpPr>
          <p:spPr>
            <a:xfrm>
              <a:off x="590400" y="2282760"/>
              <a:ext cx="8113680" cy="691920"/>
            </a:xfrm>
            <a:prstGeom prst="rect">
              <a:avLst/>
            </a:prstGeom>
            <a:gradFill rotWithShape="0">
              <a:gsLst>
                <a:gs pos="0">
                  <a:srgbClr val="f6e1bd"/>
                </a:gs>
                <a:gs pos="100000">
                  <a:srgbClr val="eab7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일정한 권위를 가지고 상호작용하는 것이 친구같이 상호작용하는 것보다 바람직하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6" name="Group 11"/>
          <p:cNvGrpSpPr/>
          <p:nvPr/>
        </p:nvGrpSpPr>
        <p:grpSpPr>
          <a:xfrm>
            <a:off x="603360" y="1562040"/>
            <a:ext cx="8086320" cy="738000"/>
            <a:chOff x="603360" y="1562040"/>
            <a:chExt cx="8086320" cy="738000"/>
          </a:xfrm>
        </p:grpSpPr>
        <p:sp>
          <p:nvSpPr>
            <p:cNvPr id="837" name="Freeform 12"/>
            <p:cNvSpPr/>
            <p:nvPr/>
          </p:nvSpPr>
          <p:spPr>
            <a:xfrm>
              <a:off x="867960" y="1987200"/>
              <a:ext cx="7556400" cy="3128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Rectangle 13"/>
            <p:cNvSpPr/>
            <p:nvPr/>
          </p:nvSpPr>
          <p:spPr>
            <a:xfrm>
              <a:off x="603360" y="1562040"/>
              <a:ext cx="8086320" cy="647280"/>
            </a:xfrm>
            <a:prstGeom prst="rect">
              <a:avLst/>
            </a:prstGeom>
            <a:gradFill rotWithShape="0">
              <a:gsLst>
                <a:gs pos="0">
                  <a:srgbClr val="f7f4dd"/>
                </a:gs>
                <a:gs pos="100000">
                  <a:srgbClr val="dacb5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모든 학생들에게 자상하고 진심 어린 관심을 전달하는 것이 필요하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9" name="Group 14"/>
          <p:cNvGrpSpPr/>
          <p:nvPr/>
        </p:nvGrpSpPr>
        <p:grpSpPr>
          <a:xfrm>
            <a:off x="577800" y="3924360"/>
            <a:ext cx="8124480" cy="801360"/>
            <a:chOff x="577800" y="3924360"/>
            <a:chExt cx="8124480" cy="801360"/>
          </a:xfrm>
        </p:grpSpPr>
        <p:sp>
          <p:nvSpPr>
            <p:cNvPr id="840" name="Freeform 15"/>
            <p:cNvSpPr/>
            <p:nvPr/>
          </p:nvSpPr>
          <p:spPr>
            <a:xfrm>
              <a:off x="843840" y="4385880"/>
              <a:ext cx="7592040" cy="3398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Rectangle 16"/>
            <p:cNvSpPr/>
            <p:nvPr/>
          </p:nvSpPr>
          <p:spPr>
            <a:xfrm>
              <a:off x="577800" y="3924360"/>
              <a:ext cx="8124480" cy="703080"/>
            </a:xfrm>
            <a:prstGeom prst="rect">
              <a:avLst/>
            </a:prstGeom>
            <a:gradFill rotWithShape="0">
              <a:gsLst>
                <a:gs pos="0">
                  <a:srgbClr val="cdd6fe"/>
                </a:gs>
                <a:gs pos="100000">
                  <a:srgbClr val="9eb0f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모든 학습자에게 적당히 높은 기대를 갖고 있음을 간접적으로 전달하는 것이 중요하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2" name="Group 17"/>
          <p:cNvGrpSpPr/>
          <p:nvPr/>
        </p:nvGrpSpPr>
        <p:grpSpPr>
          <a:xfrm>
            <a:off x="569880" y="4767120"/>
            <a:ext cx="8086320" cy="857160"/>
            <a:chOff x="569880" y="4767120"/>
            <a:chExt cx="8086320" cy="857160"/>
          </a:xfrm>
        </p:grpSpPr>
        <p:sp>
          <p:nvSpPr>
            <p:cNvPr id="843" name="Freeform 18"/>
            <p:cNvSpPr/>
            <p:nvPr/>
          </p:nvSpPr>
          <p:spPr>
            <a:xfrm>
              <a:off x="834480" y="5260680"/>
              <a:ext cx="7556400" cy="36360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Rectangle 19"/>
            <p:cNvSpPr/>
            <p:nvPr/>
          </p:nvSpPr>
          <p:spPr>
            <a:xfrm>
              <a:off x="569880" y="4767120"/>
              <a:ext cx="8086320" cy="751680"/>
            </a:xfrm>
            <a:prstGeom prst="rect">
              <a:avLst/>
            </a:prstGeom>
            <a:gradFill rotWithShape="0">
              <a:gsLst>
                <a:gs pos="0">
                  <a:srgbClr val="f7f4dd"/>
                </a:gs>
                <a:gs pos="100000">
                  <a:srgbClr val="dacb5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생들이 어렵다고 생각하는 과제에서 성공경험을 할 수 있도록 학습활동을 면밀하게 계획해야 한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5" name="Group 20"/>
          <p:cNvGrpSpPr/>
          <p:nvPr/>
        </p:nvGrpSpPr>
        <p:grpSpPr>
          <a:xfrm>
            <a:off x="546120" y="5634000"/>
            <a:ext cx="8113320" cy="788760"/>
            <a:chOff x="546120" y="5634000"/>
            <a:chExt cx="8113320" cy="788760"/>
          </a:xfrm>
        </p:grpSpPr>
        <p:sp>
          <p:nvSpPr>
            <p:cNvPr id="846" name="Freeform 21"/>
            <p:cNvSpPr/>
            <p:nvPr/>
          </p:nvSpPr>
          <p:spPr>
            <a:xfrm>
              <a:off x="811800" y="6088320"/>
              <a:ext cx="7581600" cy="3344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Rectangle 22"/>
            <p:cNvSpPr/>
            <p:nvPr/>
          </p:nvSpPr>
          <p:spPr>
            <a:xfrm>
              <a:off x="546120" y="5634000"/>
              <a:ext cx="8113320" cy="691920"/>
            </a:xfrm>
            <a:prstGeom prst="rect">
              <a:avLst/>
            </a:prstGeom>
            <a:gradFill rotWithShape="0">
              <a:gsLst>
                <a:gs pos="0">
                  <a:srgbClr val="f6e1bd"/>
                </a:gs>
                <a:gs pos="100000">
                  <a:srgbClr val="eab7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경쟁을 피하고 능력향상에 강조를 두는 평가 체계를 활용하는 것이 바람직하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8" name="TextBox 12" descr=""/>
          <p:cNvPicPr/>
          <p:nvPr/>
        </p:nvPicPr>
        <p:blipFill>
          <a:blip r:embed="rId1"/>
          <a:stretch/>
        </p:blipFill>
        <p:spPr>
          <a:xfrm>
            <a:off x="3943440" y="291960"/>
            <a:ext cx="5292720" cy="592200"/>
          </a:xfrm>
          <a:prstGeom prst="rect">
            <a:avLst/>
          </a:prstGeom>
          <a:ln w="0">
            <a:noFill/>
          </a:ln>
        </p:spPr>
      </p:pic>
      <p:grpSp>
        <p:nvGrpSpPr>
          <p:cNvPr id="849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85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51" name="직사각형 13"/>
              <p:cNvSpPr/>
              <p:nvPr/>
            </p:nvSpPr>
            <p:spPr>
              <a:xfrm>
                <a:off x="1407240" y="1385640"/>
                <a:ext cx="2187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Piaget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5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5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56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58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9" name="그룹 91"/>
          <p:cNvGrpSpPr/>
          <p:nvPr/>
        </p:nvGrpSpPr>
        <p:grpSpPr>
          <a:xfrm>
            <a:off x="285840" y="2143080"/>
            <a:ext cx="8501040" cy="1143000"/>
            <a:chOff x="285840" y="2143080"/>
            <a:chExt cx="8501040" cy="1143000"/>
          </a:xfrm>
        </p:grpSpPr>
        <p:pic>
          <p:nvPicPr>
            <p:cNvPr id="860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42856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61" name="그룹 34"/>
            <p:cNvGrpSpPr/>
            <p:nvPr/>
          </p:nvGrpSpPr>
          <p:grpSpPr>
            <a:xfrm>
              <a:off x="857160" y="2233440"/>
              <a:ext cx="349200" cy="380880"/>
              <a:chOff x="857160" y="2233440"/>
              <a:chExt cx="349200" cy="380880"/>
            </a:xfrm>
          </p:grpSpPr>
          <p:pic>
            <p:nvPicPr>
              <p:cNvPr id="862" name="Picture 177" descr="bull"/>
              <p:cNvPicPr/>
              <p:nvPr/>
            </p:nvPicPr>
            <p:blipFill>
              <a:blip r:embed="rId4"/>
              <a:stretch/>
            </p:blipFill>
            <p:spPr>
              <a:xfrm>
                <a:off x="857160" y="2260800"/>
                <a:ext cx="349200" cy="353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3" name="TextBox 36"/>
              <p:cNvSpPr/>
              <p:nvPr/>
            </p:nvSpPr>
            <p:spPr>
              <a:xfrm>
                <a:off x="891360" y="223344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4" name="직사각형 43"/>
            <p:cNvSpPr/>
            <p:nvPr/>
          </p:nvSpPr>
          <p:spPr>
            <a:xfrm>
              <a:off x="1911960" y="2143080"/>
              <a:ext cx="462168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전도덕적 혹은 전인습적 단계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(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pre-moral stage: 2~4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세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65" name="타원 44"/>
            <p:cNvGrpSpPr/>
            <p:nvPr/>
          </p:nvGrpSpPr>
          <p:grpSpPr>
            <a:xfrm>
              <a:off x="1152000" y="2865240"/>
              <a:ext cx="213120" cy="207000"/>
              <a:chOff x="1152000" y="2865240"/>
              <a:chExt cx="213120" cy="207000"/>
            </a:xfrm>
          </p:grpSpPr>
          <p:pic>
            <p:nvPicPr>
              <p:cNvPr id="866" name="타원 44" descr=""/>
              <p:cNvPicPr/>
              <p:nvPr/>
            </p:nvPicPr>
            <p:blipFill>
              <a:blip r:embed="rId5"/>
              <a:stretch/>
            </p:blipFill>
            <p:spPr>
              <a:xfrm>
                <a:off x="1152000" y="286524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7" name=""/>
              <p:cNvSpPr/>
              <p:nvPr/>
            </p:nvSpPr>
            <p:spPr>
              <a:xfrm rot="10800000">
                <a:off x="1228680" y="2916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8" name="직사각형 45"/>
            <p:cNvSpPr/>
            <p:nvPr/>
          </p:nvSpPr>
          <p:spPr>
            <a:xfrm>
              <a:off x="1357200" y="2676600"/>
              <a:ext cx="721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규칙을 거의 인식하지 못하는 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직선 연결선 46"/>
            <p:cNvSpPr/>
            <p:nvPr/>
          </p:nvSpPr>
          <p:spPr>
            <a:xfrm>
              <a:off x="7426440" y="2419200"/>
              <a:ext cx="931680" cy="936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0" name="그룹 92"/>
          <p:cNvGrpSpPr/>
          <p:nvPr/>
        </p:nvGrpSpPr>
        <p:grpSpPr>
          <a:xfrm>
            <a:off x="285840" y="3571920"/>
            <a:ext cx="8572320" cy="1143000"/>
            <a:chOff x="285840" y="3571920"/>
            <a:chExt cx="8572320" cy="1143000"/>
          </a:xfrm>
        </p:grpSpPr>
        <p:pic>
          <p:nvPicPr>
            <p:cNvPr id="871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385740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72" name="그룹 34"/>
            <p:cNvGrpSpPr/>
            <p:nvPr/>
          </p:nvGrpSpPr>
          <p:grpSpPr>
            <a:xfrm>
              <a:off x="857160" y="3662280"/>
              <a:ext cx="349200" cy="380880"/>
              <a:chOff x="857160" y="3662280"/>
              <a:chExt cx="349200" cy="380880"/>
            </a:xfrm>
          </p:grpSpPr>
          <p:pic>
            <p:nvPicPr>
              <p:cNvPr id="873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857160" y="3687480"/>
                <a:ext cx="349200" cy="355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4" name="TextBox 36"/>
              <p:cNvSpPr/>
              <p:nvPr/>
            </p:nvSpPr>
            <p:spPr>
              <a:xfrm>
                <a:off x="891360" y="36622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5" name="직사각형 52"/>
            <p:cNvSpPr/>
            <p:nvPr/>
          </p:nvSpPr>
          <p:spPr>
            <a:xfrm>
              <a:off x="1603800" y="3571920"/>
              <a:ext cx="417060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타율적 도덕성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(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heteronomous stage: 4~8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세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)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6" name="타원 53"/>
            <p:cNvGrpSpPr/>
            <p:nvPr/>
          </p:nvGrpSpPr>
          <p:grpSpPr>
            <a:xfrm>
              <a:off x="1152000" y="4291560"/>
              <a:ext cx="213120" cy="213120"/>
              <a:chOff x="1152000" y="4291560"/>
              <a:chExt cx="213120" cy="213120"/>
            </a:xfrm>
          </p:grpSpPr>
          <p:pic>
            <p:nvPicPr>
              <p:cNvPr id="877" name="타원 53" descr=""/>
              <p:cNvPicPr/>
              <p:nvPr/>
            </p:nvPicPr>
            <p:blipFill>
              <a:blip r:embed="rId8"/>
              <a:stretch/>
            </p:blipFill>
            <p:spPr>
              <a:xfrm>
                <a:off x="1152000" y="4291560"/>
                <a:ext cx="213120" cy="213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8" name=""/>
              <p:cNvSpPr/>
              <p:nvPr/>
            </p:nvSpPr>
            <p:spPr>
              <a:xfrm rot="10800000">
                <a:off x="1228680" y="43452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9" name="직사각형 54"/>
            <p:cNvSpPr/>
            <p:nvPr/>
          </p:nvSpPr>
          <p:spPr>
            <a:xfrm>
              <a:off x="1357200" y="4105440"/>
              <a:ext cx="75009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규칙이나 질서를 절대적인 것으로 간주하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위의 결과를 중심으로 선악판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직선 연결선 55"/>
            <p:cNvSpPr/>
            <p:nvPr/>
          </p:nvSpPr>
          <p:spPr>
            <a:xfrm>
              <a:off x="7429680" y="3855960"/>
              <a:ext cx="9284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1" name="그룹 101"/>
          <p:cNvGrpSpPr/>
          <p:nvPr/>
        </p:nvGrpSpPr>
        <p:grpSpPr>
          <a:xfrm>
            <a:off x="285840" y="5072040"/>
            <a:ext cx="8501040" cy="1143000"/>
            <a:chOff x="285840" y="5072040"/>
            <a:chExt cx="8501040" cy="1143000"/>
          </a:xfrm>
        </p:grpSpPr>
        <p:pic>
          <p:nvPicPr>
            <p:cNvPr id="882" name="Picture 5" descr="233"/>
            <p:cNvPicPr/>
            <p:nvPr/>
          </p:nvPicPr>
          <p:blipFill>
            <a:blip r:embed="rId9"/>
            <a:srcRect l="0" t="0" r="24313" b="0"/>
            <a:stretch/>
          </p:blipFill>
          <p:spPr>
            <a:xfrm>
              <a:off x="285840" y="535752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83" name="그룹 34"/>
            <p:cNvGrpSpPr/>
            <p:nvPr/>
          </p:nvGrpSpPr>
          <p:grpSpPr>
            <a:xfrm>
              <a:off x="857160" y="5162400"/>
              <a:ext cx="349200" cy="380880"/>
              <a:chOff x="857160" y="5162400"/>
              <a:chExt cx="349200" cy="380880"/>
            </a:xfrm>
          </p:grpSpPr>
          <p:pic>
            <p:nvPicPr>
              <p:cNvPr id="884" name="Picture 177" descr="bull"/>
              <p:cNvPicPr/>
              <p:nvPr/>
            </p:nvPicPr>
            <p:blipFill>
              <a:blip r:embed="rId10"/>
              <a:stretch/>
            </p:blipFill>
            <p:spPr>
              <a:xfrm>
                <a:off x="857160" y="5187240"/>
                <a:ext cx="349200" cy="356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5" name="TextBox 36"/>
              <p:cNvSpPr/>
              <p:nvPr/>
            </p:nvSpPr>
            <p:spPr>
              <a:xfrm>
                <a:off x="891360" y="516240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6" name="직사각형 61"/>
            <p:cNvSpPr/>
            <p:nvPr/>
          </p:nvSpPr>
          <p:spPr>
            <a:xfrm>
              <a:off x="1489320" y="5072040"/>
              <a:ext cx="337932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자율적 도덕성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(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autonomous: 8~12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세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87" name="타원 62"/>
            <p:cNvGrpSpPr/>
            <p:nvPr/>
          </p:nvGrpSpPr>
          <p:grpSpPr>
            <a:xfrm>
              <a:off x="1152000" y="5797440"/>
              <a:ext cx="213120" cy="207000"/>
              <a:chOff x="1152000" y="5797440"/>
              <a:chExt cx="213120" cy="207000"/>
            </a:xfrm>
          </p:grpSpPr>
          <p:pic>
            <p:nvPicPr>
              <p:cNvPr id="888" name="타원 62" descr=""/>
              <p:cNvPicPr/>
              <p:nvPr/>
            </p:nvPicPr>
            <p:blipFill>
              <a:blip r:embed="rId11"/>
              <a:stretch/>
            </p:blipFill>
            <p:spPr>
              <a:xfrm>
                <a:off x="1152000" y="579744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9" name=""/>
              <p:cNvSpPr/>
              <p:nvPr/>
            </p:nvSpPr>
            <p:spPr>
              <a:xfrm rot="10800000">
                <a:off x="1228680" y="58456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90" name="직사각형 63"/>
            <p:cNvSpPr/>
            <p:nvPr/>
          </p:nvSpPr>
          <p:spPr>
            <a:xfrm>
              <a:off x="1357200" y="5605560"/>
              <a:ext cx="721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도와 동기를 기준으로 선악을 판단하는 도덕적 상대주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직선 연결선 64"/>
            <p:cNvSpPr/>
            <p:nvPr/>
          </p:nvSpPr>
          <p:spPr>
            <a:xfrm>
              <a:off x="7429680" y="5357520"/>
              <a:ext cx="92844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92" name="Picture 2" descr=""/>
          <p:cNvPicPr/>
          <p:nvPr/>
        </p:nvPicPr>
        <p:blipFill>
          <a:blip r:embed="rId12"/>
          <a:stretch/>
        </p:blipFill>
        <p:spPr>
          <a:xfrm>
            <a:off x="7711920" y="5205240"/>
            <a:ext cx="1359000" cy="1298880"/>
          </a:xfrm>
          <a:prstGeom prst="rect">
            <a:avLst/>
          </a:prstGeom>
          <a:ln w="0">
            <a:noFill/>
          </a:ln>
        </p:spPr>
      </p:pic>
      <p:sp>
        <p:nvSpPr>
          <p:cNvPr id="893" name="슬라이드 번호 개체 틀 38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A0A51-FFAE-4D6C-8A94-B23C3375A0CD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A43A8438-C418-45D0-88AF-E7358497A34D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1"/>
          <p:cNvSpPr>
            <a:spLocks noGrp="1"/>
          </p:cNvSpPr>
          <p:nvPr>
            <p:ph/>
          </p:nvPr>
        </p:nvSpPr>
        <p:spPr>
          <a:xfrm>
            <a:off x="456840" y="1495080"/>
            <a:ext cx="8217000" cy="15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피아제의 내재화의 원리 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내재화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internalization)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는 아동의 사고와 행동에 대한 내면적 근원으로부터의 통제를 의미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외재적 도덕성 단계에서 자율적 도덕성 단계로 발전됨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6" name="Rectangle 3" descr=""/>
          <p:cNvPicPr/>
          <p:nvPr/>
        </p:nvPicPr>
        <p:blipFill>
          <a:blip r:embed="rId1"/>
          <a:stretch/>
        </p:blipFill>
        <p:spPr>
          <a:xfrm>
            <a:off x="426960" y="158760"/>
            <a:ext cx="8845560" cy="822240"/>
          </a:xfrm>
          <a:prstGeom prst="rect">
            <a:avLst/>
          </a:prstGeom>
          <a:ln w="0">
            <a:noFill/>
          </a:ln>
        </p:spPr>
      </p:pic>
      <p:grpSp>
        <p:nvGrpSpPr>
          <p:cNvPr id="897" name="Group 16"/>
          <p:cNvGrpSpPr/>
          <p:nvPr/>
        </p:nvGrpSpPr>
        <p:grpSpPr>
          <a:xfrm>
            <a:off x="747720" y="3228840"/>
            <a:ext cx="7601040" cy="3272040"/>
            <a:chOff x="747720" y="3228840"/>
            <a:chExt cx="7601040" cy="3272040"/>
          </a:xfrm>
        </p:grpSpPr>
        <p:sp>
          <p:nvSpPr>
            <p:cNvPr id="898" name="AutoShape 5"/>
            <p:cNvSpPr/>
            <p:nvPr/>
          </p:nvSpPr>
          <p:spPr>
            <a:xfrm>
              <a:off x="797040" y="3990960"/>
              <a:ext cx="3255840" cy="2509920"/>
            </a:xfrm>
            <a:prstGeom prst="roundRect">
              <a:avLst>
                <a:gd name="adj" fmla="val 4690"/>
              </a:avLst>
            </a:prstGeom>
            <a:solidFill>
              <a:srgbClr val="a9dc8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AutoShape 6"/>
            <p:cNvSpPr/>
            <p:nvPr/>
          </p:nvSpPr>
          <p:spPr>
            <a:xfrm>
              <a:off x="747720" y="3228840"/>
              <a:ext cx="3456000" cy="9306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6b828"/>
                </a:gs>
                <a:gs pos="100000">
                  <a:srgbClr val="2f61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Text Box 7"/>
            <p:cNvSpPr/>
            <p:nvPr/>
          </p:nvSpPr>
          <p:spPr>
            <a:xfrm>
              <a:off x="817560" y="3286080"/>
              <a:ext cx="3282840" cy="76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ffffff"/>
                  </a:solidFill>
                  <a:latin typeface="굴림"/>
                </a:rPr>
                <a:t>외재적 도덕성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굴림"/>
                </a:rPr>
                <a:t>(external morality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Text Box 8"/>
            <p:cNvSpPr/>
            <p:nvPr/>
          </p:nvSpPr>
          <p:spPr>
            <a:xfrm>
              <a:off x="942840" y="4205160"/>
              <a:ext cx="302436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아동은 규칙을 고정되고 영구적이며 권위 있는 인물에 의해 외적으로 부과되는 것으로 인식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(10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세 정도까지 지속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AutoShape 10"/>
            <p:cNvSpPr/>
            <p:nvPr/>
          </p:nvSpPr>
          <p:spPr>
            <a:xfrm>
              <a:off x="4829040" y="3827520"/>
              <a:ext cx="3240360" cy="2673360"/>
            </a:xfrm>
            <a:prstGeom prst="roundRect">
              <a:avLst>
                <a:gd name="adj" fmla="val 4690"/>
              </a:avLst>
            </a:prstGeom>
            <a:solidFill>
              <a:srgbClr val="6fc5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AutoShape 11"/>
            <p:cNvSpPr/>
            <p:nvPr/>
          </p:nvSpPr>
          <p:spPr>
            <a:xfrm>
              <a:off x="4818240" y="3241800"/>
              <a:ext cx="3384360" cy="9046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4b71dd"/>
                </a:gs>
                <a:gs pos="100000">
                  <a:srgbClr val="2334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Text Box 13"/>
            <p:cNvSpPr/>
            <p:nvPr/>
          </p:nvSpPr>
          <p:spPr>
            <a:xfrm>
              <a:off x="4956120" y="4168800"/>
              <a:ext cx="302436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아동은 공정성에 대한 합리적인 견해를 갖게 되고 내가 대우받고 싶은 대로 남을 대우하는 상호적 과정으로서 정의를 이해하게 됨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Text Box 15"/>
            <p:cNvSpPr/>
            <p:nvPr/>
          </p:nvSpPr>
          <p:spPr>
            <a:xfrm>
              <a:off x="4740120" y="3290760"/>
              <a:ext cx="3608640" cy="76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ffffff"/>
                  </a:solidFill>
                  <a:latin typeface="굴림"/>
                </a:rPr>
                <a:t>자율적 도덕성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굴림"/>
                </a:rPr>
                <a:t>(autonomous morality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6" name="Freeform 14"/>
          <p:cNvSpPr/>
          <p:nvPr/>
        </p:nvSpPr>
        <p:spPr>
          <a:xfrm rot="992400">
            <a:off x="3568320" y="3066840"/>
            <a:ext cx="1579680" cy="714240"/>
          </a:xfrm>
          <a:prstGeom prst="pie">
            <a:avLst/>
          </a:prstGeom>
          <a:gradFill rotWithShape="0">
            <a:gsLst>
              <a:gs pos="0">
                <a:srgbClr val="b48eed">
                  <a:alpha val="32156"/>
                </a:srgbClr>
              </a:gs>
              <a:gs pos="100000">
                <a:srgbClr val="ad83eb"/>
              </a:gs>
            </a:gsLst>
            <a:lin ang="2061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7" name="Group 90"/>
          <p:cNvGrpSpPr/>
          <p:nvPr/>
        </p:nvGrpSpPr>
        <p:grpSpPr>
          <a:xfrm>
            <a:off x="-152280" y="2643120"/>
            <a:ext cx="3438000" cy="3428640"/>
            <a:chOff x="-152280" y="2643120"/>
            <a:chExt cx="3438000" cy="3428640"/>
          </a:xfrm>
        </p:grpSpPr>
        <p:sp>
          <p:nvSpPr>
            <p:cNvPr id="908" name="Oval 91"/>
            <p:cNvSpPr/>
            <p:nvPr/>
          </p:nvSpPr>
          <p:spPr>
            <a:xfrm flipH="1">
              <a:off x="-152280" y="2643120"/>
              <a:ext cx="3438000" cy="3428640"/>
            </a:xfrm>
            <a:prstGeom prst="ellipse">
              <a:avLst/>
            </a:prstGeom>
            <a:noFill/>
            <a:ln w="1260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Oval 92"/>
            <p:cNvSpPr/>
            <p:nvPr/>
          </p:nvSpPr>
          <p:spPr>
            <a:xfrm flipH="1">
              <a:off x="74520" y="2877840"/>
              <a:ext cx="2986560" cy="2978640"/>
            </a:xfrm>
            <a:prstGeom prst="ellipse">
              <a:avLst/>
            </a:prstGeom>
            <a:noFill/>
            <a:ln w="2844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Oval 93"/>
            <p:cNvSpPr/>
            <p:nvPr/>
          </p:nvSpPr>
          <p:spPr>
            <a:xfrm flipH="1">
              <a:off x="301320" y="3136320"/>
              <a:ext cx="2511360" cy="2504880"/>
            </a:xfrm>
            <a:prstGeom prst="ellipse">
              <a:avLst/>
            </a:prstGeom>
            <a:noFill/>
            <a:ln w="3816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Oval 94"/>
            <p:cNvSpPr/>
            <p:nvPr/>
          </p:nvSpPr>
          <p:spPr>
            <a:xfrm flipH="1">
              <a:off x="559800" y="3394440"/>
              <a:ext cx="2036520" cy="2031480"/>
            </a:xfrm>
            <a:prstGeom prst="ellipse">
              <a:avLst/>
            </a:prstGeom>
            <a:noFill/>
            <a:ln w="5724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Oval 95"/>
            <p:cNvSpPr/>
            <p:nvPr/>
          </p:nvSpPr>
          <p:spPr>
            <a:xfrm flipH="1">
              <a:off x="786960" y="3642480"/>
              <a:ext cx="1561680" cy="1557360"/>
            </a:xfrm>
            <a:prstGeom prst="ellipse">
              <a:avLst/>
            </a:prstGeom>
            <a:noFill/>
            <a:ln w="5724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Oval 96"/>
            <p:cNvSpPr/>
            <p:nvPr/>
          </p:nvSpPr>
          <p:spPr>
            <a:xfrm flipH="1">
              <a:off x="1013760" y="3857760"/>
              <a:ext cx="1108080" cy="1105200"/>
            </a:xfrm>
            <a:prstGeom prst="ellipse">
              <a:avLst/>
            </a:prstGeom>
            <a:noFill/>
            <a:ln w="7632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Oval 97"/>
            <p:cNvSpPr/>
            <p:nvPr/>
          </p:nvSpPr>
          <p:spPr>
            <a:xfrm flipH="1">
              <a:off x="1218240" y="4073040"/>
              <a:ext cx="698040" cy="696240"/>
            </a:xfrm>
            <a:prstGeom prst="ellipse">
              <a:avLst/>
            </a:prstGeom>
            <a:noFill/>
            <a:ln w="936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15" name="TextBox 12" descr=""/>
          <p:cNvPicPr/>
          <p:nvPr/>
        </p:nvPicPr>
        <p:blipFill>
          <a:blip r:embed="rId1"/>
          <a:stretch/>
        </p:blipFill>
        <p:spPr>
          <a:xfrm>
            <a:off x="3943440" y="506520"/>
            <a:ext cx="5249880" cy="590400"/>
          </a:xfrm>
          <a:prstGeom prst="rect">
            <a:avLst/>
          </a:prstGeom>
          <a:ln w="0">
            <a:noFill/>
          </a:ln>
        </p:spPr>
      </p:pic>
      <p:pic>
        <p:nvPicPr>
          <p:cNvPr id="916" name="Picture 2" descr=""/>
          <p:cNvPicPr/>
          <p:nvPr/>
        </p:nvPicPr>
        <p:blipFill>
          <a:blip r:embed="rId2"/>
          <a:stretch/>
        </p:blipFill>
        <p:spPr>
          <a:xfrm>
            <a:off x="506520" y="3273480"/>
            <a:ext cx="2200320" cy="2305080"/>
          </a:xfrm>
          <a:prstGeom prst="rect">
            <a:avLst/>
          </a:prstGeom>
          <a:ln w="0">
            <a:noFill/>
          </a:ln>
        </p:spPr>
      </p:pic>
      <p:grpSp>
        <p:nvGrpSpPr>
          <p:cNvPr id="917" name="그룹 14"/>
          <p:cNvGrpSpPr/>
          <p:nvPr/>
        </p:nvGrpSpPr>
        <p:grpSpPr>
          <a:xfrm>
            <a:off x="3027960" y="3423600"/>
            <a:ext cx="5616000" cy="407160"/>
            <a:chOff x="3027960" y="3423600"/>
            <a:chExt cx="5616000" cy="407160"/>
          </a:xfrm>
        </p:grpSpPr>
        <p:sp>
          <p:nvSpPr>
            <p:cNvPr id="918" name="Rectangle 69"/>
            <p:cNvSpPr/>
            <p:nvPr/>
          </p:nvSpPr>
          <p:spPr>
            <a:xfrm>
              <a:off x="3389040" y="3429000"/>
              <a:ext cx="525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이란 도덕적 판단의 구조를 의미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19" name="그룹 231"/>
            <p:cNvGrpSpPr/>
            <p:nvPr/>
          </p:nvGrpSpPr>
          <p:grpSpPr>
            <a:xfrm>
              <a:off x="3027960" y="3423600"/>
              <a:ext cx="4557240" cy="407160"/>
              <a:chOff x="3027960" y="3423600"/>
              <a:chExt cx="4557240" cy="407160"/>
            </a:xfrm>
          </p:grpSpPr>
          <p:sp>
            <p:nvSpPr>
              <p:cNvPr id="920" name="Line 68"/>
              <p:cNvSpPr/>
              <p:nvPr/>
            </p:nvSpPr>
            <p:spPr>
              <a:xfrm>
                <a:off x="3328920" y="3749760"/>
                <a:ext cx="425628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21" name="Group 74"/>
              <p:cNvGrpSpPr/>
              <p:nvPr/>
            </p:nvGrpSpPr>
            <p:grpSpPr>
              <a:xfrm>
                <a:off x="3027960" y="3423600"/>
                <a:ext cx="398880" cy="407160"/>
                <a:chOff x="3027960" y="3423600"/>
                <a:chExt cx="398880" cy="407160"/>
              </a:xfrm>
            </p:grpSpPr>
            <p:pic>
              <p:nvPicPr>
                <p:cNvPr id="922" name="Picture 75" descr="circuler_1"/>
                <p:cNvPicPr/>
                <p:nvPr/>
              </p:nvPicPr>
              <p:blipFill>
                <a:blip r:embed="rId3"/>
                <a:stretch/>
              </p:blipFill>
              <p:spPr>
                <a:xfrm rot="4978800">
                  <a:off x="3087000" y="3487680"/>
                  <a:ext cx="276840" cy="27288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923" name="Oval 76"/>
                <p:cNvGrpSpPr/>
                <p:nvPr/>
              </p:nvGrpSpPr>
              <p:grpSpPr>
                <a:xfrm>
                  <a:off x="3086280" y="3479400"/>
                  <a:ext cx="280800" cy="285840"/>
                  <a:chOff x="3086280" y="3479400"/>
                  <a:chExt cx="280800" cy="285840"/>
                </a:xfrm>
              </p:grpSpPr>
              <p:pic>
                <p:nvPicPr>
                  <p:cNvPr id="924" name="Oval 7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86280" y="3479400"/>
                    <a:ext cx="28080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25" name=""/>
                  <p:cNvSpPr/>
                  <p:nvPr/>
                </p:nvSpPr>
                <p:spPr>
                  <a:xfrm rot="4976400">
                    <a:off x="3129480" y="3524400"/>
                    <a:ext cx="194040" cy="193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6" name="Group 77"/>
                <p:cNvGrpSpPr/>
                <p:nvPr/>
              </p:nvGrpSpPr>
              <p:grpSpPr>
                <a:xfrm>
                  <a:off x="3090960" y="3542400"/>
                  <a:ext cx="109080" cy="236160"/>
                  <a:chOff x="3090960" y="3542400"/>
                  <a:chExt cx="109080" cy="236160"/>
                </a:xfrm>
              </p:grpSpPr>
              <p:grpSp>
                <p:nvGrpSpPr>
                  <p:cNvPr id="927" name="Group 78"/>
                  <p:cNvGrpSpPr/>
                  <p:nvPr/>
                </p:nvGrpSpPr>
                <p:grpSpPr>
                  <a:xfrm>
                    <a:off x="3096000" y="3586320"/>
                    <a:ext cx="104040" cy="192240"/>
                    <a:chOff x="3096000" y="3586320"/>
                    <a:chExt cx="104040" cy="192240"/>
                  </a:xfrm>
                </p:grpSpPr>
                <p:sp>
                  <p:nvSpPr>
                    <p:cNvPr id="928" name="AutoShape 79"/>
                    <p:cNvSpPr/>
                    <p:nvPr/>
                  </p:nvSpPr>
                  <p:spPr>
                    <a:xfrm flipH="1" flipV="1" rot="8941800">
                      <a:off x="3129480" y="36370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29" name="AutoShape 80"/>
                    <p:cNvSpPr/>
                    <p:nvPr/>
                  </p:nvSpPr>
                  <p:spPr>
                    <a:xfrm flipH="1" flipV="1" rot="9757200">
                      <a:off x="3118680" y="36165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0" name="AutoShape 81"/>
                    <p:cNvSpPr/>
                    <p:nvPr/>
                  </p:nvSpPr>
                  <p:spPr>
                    <a:xfrm flipH="1" flipV="1" rot="10053000">
                      <a:off x="3114360" y="360360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1" name="AutoShape 82"/>
                    <p:cNvSpPr/>
                    <p:nvPr/>
                  </p:nvSpPr>
                  <p:spPr>
                    <a:xfrm flipH="1" flipV="1" rot="10585200">
                      <a:off x="3110760" y="358704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32" name="Group 83"/>
                  <p:cNvGrpSpPr/>
                  <p:nvPr/>
                </p:nvGrpSpPr>
                <p:grpSpPr>
                  <a:xfrm>
                    <a:off x="3090960" y="3542400"/>
                    <a:ext cx="80640" cy="198720"/>
                    <a:chOff x="3090960" y="3542400"/>
                    <a:chExt cx="80640" cy="198720"/>
                  </a:xfrm>
                </p:grpSpPr>
                <p:sp>
                  <p:nvSpPr>
                    <p:cNvPr id="933" name="AutoShape 84"/>
                    <p:cNvSpPr/>
                    <p:nvPr/>
                  </p:nvSpPr>
                  <p:spPr>
                    <a:xfrm flipH="1" flipV="1" rot="10294800">
                      <a:off x="3109680" y="359748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4" name="AutoShape 85"/>
                    <p:cNvSpPr/>
                    <p:nvPr/>
                  </p:nvSpPr>
                  <p:spPr>
                    <a:xfrm flipH="1" flipV="1" rot="11110200">
                      <a:off x="3107160" y="357408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5" name="AutoShape 86"/>
                    <p:cNvSpPr/>
                    <p:nvPr/>
                  </p:nvSpPr>
                  <p:spPr>
                    <a:xfrm flipH="1" flipV="1" rot="11406000">
                      <a:off x="3108960" y="35607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6" name="AutoShape 87"/>
                    <p:cNvSpPr/>
                    <p:nvPr/>
                  </p:nvSpPr>
                  <p:spPr>
                    <a:xfrm flipH="1" flipV="1" rot="11938200">
                      <a:off x="3112560" y="35445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937" name="Arc 88"/>
                <p:cNvSpPr/>
                <p:nvPr/>
              </p:nvSpPr>
              <p:spPr>
                <a:xfrm flipH="1" rot="1129200">
                  <a:off x="3071880" y="3465000"/>
                  <a:ext cx="311040" cy="32400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938" name="Picture 89" descr="light_shadow1"/>
                <p:cNvPicPr/>
                <p:nvPr/>
              </p:nvPicPr>
              <p:blipFill>
                <a:blip r:embed="rId5"/>
                <a:srcRect l="0" t="23760" r="0" b="0"/>
                <a:stretch/>
              </p:blipFill>
              <p:spPr>
                <a:xfrm rot="2404800">
                  <a:off x="3163320" y="350208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grpSp>
        <p:nvGrpSpPr>
          <p:cNvPr id="939" name="그룹 35"/>
          <p:cNvGrpSpPr/>
          <p:nvPr/>
        </p:nvGrpSpPr>
        <p:grpSpPr>
          <a:xfrm>
            <a:off x="3031200" y="4857840"/>
            <a:ext cx="5184000" cy="411120"/>
            <a:chOff x="3031200" y="4857840"/>
            <a:chExt cx="5184000" cy="411120"/>
          </a:xfrm>
        </p:grpSpPr>
        <p:sp>
          <p:nvSpPr>
            <p:cNvPr id="940" name="Rectangle 71"/>
            <p:cNvSpPr/>
            <p:nvPr/>
          </p:nvSpPr>
          <p:spPr>
            <a:xfrm>
              <a:off x="3386160" y="4857840"/>
              <a:ext cx="482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발달의 주요기제는 인지갈등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41" name="그룹 233"/>
            <p:cNvGrpSpPr/>
            <p:nvPr/>
          </p:nvGrpSpPr>
          <p:grpSpPr>
            <a:xfrm>
              <a:off x="3031200" y="4861800"/>
              <a:ext cx="4534920" cy="407160"/>
              <a:chOff x="3031200" y="4861800"/>
              <a:chExt cx="4534920" cy="407160"/>
            </a:xfrm>
          </p:grpSpPr>
          <p:grpSp>
            <p:nvGrpSpPr>
              <p:cNvPr id="942" name="Group 115"/>
              <p:cNvGrpSpPr/>
              <p:nvPr/>
            </p:nvGrpSpPr>
            <p:grpSpPr>
              <a:xfrm>
                <a:off x="3031200" y="4861800"/>
                <a:ext cx="398880" cy="407160"/>
                <a:chOff x="3031200" y="4861800"/>
                <a:chExt cx="398880" cy="407160"/>
              </a:xfrm>
            </p:grpSpPr>
            <p:pic>
              <p:nvPicPr>
                <p:cNvPr id="943" name="Picture 116" descr="circuler_1"/>
                <p:cNvPicPr/>
                <p:nvPr/>
              </p:nvPicPr>
              <p:blipFill>
                <a:blip r:embed="rId6"/>
                <a:stretch/>
              </p:blipFill>
              <p:spPr>
                <a:xfrm rot="4978800">
                  <a:off x="3090240" y="4925880"/>
                  <a:ext cx="276840" cy="27288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944" name="Oval 117"/>
                <p:cNvGrpSpPr/>
                <p:nvPr/>
              </p:nvGrpSpPr>
              <p:grpSpPr>
                <a:xfrm>
                  <a:off x="3086640" y="4919400"/>
                  <a:ext cx="285480" cy="286200"/>
                  <a:chOff x="3086640" y="4919400"/>
                  <a:chExt cx="285480" cy="286200"/>
                </a:xfrm>
              </p:grpSpPr>
              <p:pic>
                <p:nvPicPr>
                  <p:cNvPr id="945" name="Oval 11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86640" y="4919400"/>
                    <a:ext cx="285480" cy="2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46" name=""/>
                  <p:cNvSpPr/>
                  <p:nvPr/>
                </p:nvSpPr>
                <p:spPr>
                  <a:xfrm rot="4976400">
                    <a:off x="3132360" y="4965120"/>
                    <a:ext cx="194400" cy="19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47" name="Group 118"/>
                <p:cNvGrpSpPr/>
                <p:nvPr/>
              </p:nvGrpSpPr>
              <p:grpSpPr>
                <a:xfrm>
                  <a:off x="3094200" y="4980600"/>
                  <a:ext cx="109080" cy="236160"/>
                  <a:chOff x="3094200" y="4980600"/>
                  <a:chExt cx="109080" cy="236160"/>
                </a:xfrm>
              </p:grpSpPr>
              <p:grpSp>
                <p:nvGrpSpPr>
                  <p:cNvPr id="948" name="Group 119"/>
                  <p:cNvGrpSpPr/>
                  <p:nvPr/>
                </p:nvGrpSpPr>
                <p:grpSpPr>
                  <a:xfrm>
                    <a:off x="3099240" y="5024520"/>
                    <a:ext cx="104040" cy="192240"/>
                    <a:chOff x="3099240" y="5024520"/>
                    <a:chExt cx="104040" cy="192240"/>
                  </a:xfrm>
                </p:grpSpPr>
                <p:sp>
                  <p:nvSpPr>
                    <p:cNvPr id="949" name="AutoShape 120"/>
                    <p:cNvSpPr/>
                    <p:nvPr/>
                  </p:nvSpPr>
                  <p:spPr>
                    <a:xfrm flipH="1" flipV="1" rot="8941800">
                      <a:off x="3132720" y="50752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0" name="AutoShape 121"/>
                    <p:cNvSpPr/>
                    <p:nvPr/>
                  </p:nvSpPr>
                  <p:spPr>
                    <a:xfrm flipH="1" flipV="1" rot="9757200">
                      <a:off x="3121920" y="50547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1" name="AutoShape 122"/>
                    <p:cNvSpPr/>
                    <p:nvPr/>
                  </p:nvSpPr>
                  <p:spPr>
                    <a:xfrm flipH="1" flipV="1" rot="10053000">
                      <a:off x="3117600" y="504180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2" name="AutoShape 123"/>
                    <p:cNvSpPr/>
                    <p:nvPr/>
                  </p:nvSpPr>
                  <p:spPr>
                    <a:xfrm flipH="1" flipV="1" rot="10585200">
                      <a:off x="3114000" y="502524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53" name="Group 124"/>
                  <p:cNvGrpSpPr/>
                  <p:nvPr/>
                </p:nvGrpSpPr>
                <p:grpSpPr>
                  <a:xfrm>
                    <a:off x="3094200" y="4980600"/>
                    <a:ext cx="80640" cy="198720"/>
                    <a:chOff x="3094200" y="4980600"/>
                    <a:chExt cx="80640" cy="198720"/>
                  </a:xfrm>
                </p:grpSpPr>
                <p:sp>
                  <p:nvSpPr>
                    <p:cNvPr id="954" name="AutoShape 125"/>
                    <p:cNvSpPr/>
                    <p:nvPr/>
                  </p:nvSpPr>
                  <p:spPr>
                    <a:xfrm flipH="1" flipV="1" rot="10294800">
                      <a:off x="3112920" y="503568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5" name="AutoShape 126"/>
                    <p:cNvSpPr/>
                    <p:nvPr/>
                  </p:nvSpPr>
                  <p:spPr>
                    <a:xfrm flipH="1" flipV="1" rot="11110200">
                      <a:off x="3110400" y="501228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6" name="AutoShape 127"/>
                    <p:cNvSpPr/>
                    <p:nvPr/>
                  </p:nvSpPr>
                  <p:spPr>
                    <a:xfrm flipH="1" flipV="1" rot="11406000">
                      <a:off x="3112200" y="49989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7" name="AutoShape 128"/>
                    <p:cNvSpPr/>
                    <p:nvPr/>
                  </p:nvSpPr>
                  <p:spPr>
                    <a:xfrm flipH="1" flipV="1" rot="11938200">
                      <a:off x="3115800" y="49827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958" name="Arc 129"/>
                <p:cNvSpPr/>
                <p:nvPr/>
              </p:nvSpPr>
              <p:spPr>
                <a:xfrm flipH="1" rot="1129200">
                  <a:off x="3075120" y="4903200"/>
                  <a:ext cx="311040" cy="32400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959" name="Picture 130" descr="light_shadow1"/>
                <p:cNvPicPr/>
                <p:nvPr/>
              </p:nvPicPr>
              <p:blipFill>
                <a:blip r:embed="rId8"/>
                <a:srcRect l="0" t="23760" r="0" b="0"/>
                <a:stretch/>
              </p:blipFill>
              <p:spPr>
                <a:xfrm rot="2404800">
                  <a:off x="3166560" y="494028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960" name="Line 163"/>
              <p:cNvSpPr/>
              <p:nvPr/>
            </p:nvSpPr>
            <p:spPr>
              <a:xfrm>
                <a:off x="3309840" y="5192640"/>
                <a:ext cx="425628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61" name="그룹 55"/>
          <p:cNvGrpSpPr/>
          <p:nvPr/>
        </p:nvGrpSpPr>
        <p:grpSpPr>
          <a:xfrm>
            <a:off x="3170520" y="4101840"/>
            <a:ext cx="6330600" cy="406080"/>
            <a:chOff x="3170520" y="4101840"/>
            <a:chExt cx="6330600" cy="406080"/>
          </a:xfrm>
        </p:grpSpPr>
        <p:sp>
          <p:nvSpPr>
            <p:cNvPr id="962" name="Rectangle 70"/>
            <p:cNvSpPr/>
            <p:nvPr/>
          </p:nvSpPr>
          <p:spPr>
            <a:xfrm>
              <a:off x="3514680" y="4119480"/>
              <a:ext cx="5986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판단은 도덕적 행위를 결정하는 가장 중요한 요인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3" name="그룹 232"/>
            <p:cNvGrpSpPr/>
            <p:nvPr/>
          </p:nvGrpSpPr>
          <p:grpSpPr>
            <a:xfrm>
              <a:off x="3170520" y="4101840"/>
              <a:ext cx="4533480" cy="406080"/>
              <a:chOff x="3170520" y="4101840"/>
              <a:chExt cx="4533480" cy="406080"/>
            </a:xfrm>
          </p:grpSpPr>
          <p:grpSp>
            <p:nvGrpSpPr>
              <p:cNvPr id="964" name="Group 99"/>
              <p:cNvGrpSpPr/>
              <p:nvPr/>
            </p:nvGrpSpPr>
            <p:grpSpPr>
              <a:xfrm>
                <a:off x="3170520" y="4101840"/>
                <a:ext cx="398880" cy="406080"/>
                <a:chOff x="3170520" y="4101840"/>
                <a:chExt cx="398880" cy="406080"/>
              </a:xfrm>
            </p:grpSpPr>
            <p:pic>
              <p:nvPicPr>
                <p:cNvPr id="965" name="Picture 100" descr="circuler_1"/>
                <p:cNvPicPr/>
                <p:nvPr/>
              </p:nvPicPr>
              <p:blipFill>
                <a:blip r:embed="rId9"/>
                <a:stretch/>
              </p:blipFill>
              <p:spPr>
                <a:xfrm rot="4977000">
                  <a:off x="3230640" y="4165920"/>
                  <a:ext cx="275760" cy="272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966" name="Oval 101"/>
                <p:cNvGrpSpPr/>
                <p:nvPr/>
              </p:nvGrpSpPr>
              <p:grpSpPr>
                <a:xfrm>
                  <a:off x="3224880" y="4158000"/>
                  <a:ext cx="285480" cy="286560"/>
                  <a:chOff x="3224880" y="4158000"/>
                  <a:chExt cx="285480" cy="286560"/>
                </a:xfrm>
              </p:grpSpPr>
              <p:pic>
                <p:nvPicPr>
                  <p:cNvPr id="967" name="Oval 101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224880" y="4158000"/>
                    <a:ext cx="285480" cy="2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68" name=""/>
                  <p:cNvSpPr/>
                  <p:nvPr/>
                </p:nvSpPr>
                <p:spPr>
                  <a:xfrm rot="4976400">
                    <a:off x="3270240" y="4205880"/>
                    <a:ext cx="193680" cy="19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69" name="Group 102"/>
                <p:cNvGrpSpPr/>
                <p:nvPr/>
              </p:nvGrpSpPr>
              <p:grpSpPr>
                <a:xfrm>
                  <a:off x="3234600" y="4221000"/>
                  <a:ext cx="108000" cy="235080"/>
                  <a:chOff x="3234600" y="4221000"/>
                  <a:chExt cx="108000" cy="235080"/>
                </a:xfrm>
              </p:grpSpPr>
              <p:grpSp>
                <p:nvGrpSpPr>
                  <p:cNvPr id="970" name="Group 103"/>
                  <p:cNvGrpSpPr/>
                  <p:nvPr/>
                </p:nvGrpSpPr>
                <p:grpSpPr>
                  <a:xfrm>
                    <a:off x="3238920" y="4264920"/>
                    <a:ext cx="103680" cy="191160"/>
                    <a:chOff x="3238920" y="4264920"/>
                    <a:chExt cx="103680" cy="191160"/>
                  </a:xfrm>
                </p:grpSpPr>
                <p:sp>
                  <p:nvSpPr>
                    <p:cNvPr id="971" name="AutoShape 104"/>
                    <p:cNvSpPr/>
                    <p:nvPr/>
                  </p:nvSpPr>
                  <p:spPr>
                    <a:xfrm flipH="1" flipV="1" rot="8941800">
                      <a:off x="3272400" y="431532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2" name="AutoShape 105"/>
                    <p:cNvSpPr/>
                    <p:nvPr/>
                  </p:nvSpPr>
                  <p:spPr>
                    <a:xfrm flipH="1" flipV="1" rot="9757200">
                      <a:off x="3260520" y="4294800"/>
                      <a:ext cx="3672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3" name="AutoShape 106"/>
                    <p:cNvSpPr/>
                    <p:nvPr/>
                  </p:nvSpPr>
                  <p:spPr>
                    <a:xfrm flipH="1" flipV="1" rot="10053000">
                      <a:off x="3257280" y="428184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4" name="AutoShape 107"/>
                    <p:cNvSpPr/>
                    <p:nvPr/>
                  </p:nvSpPr>
                  <p:spPr>
                    <a:xfrm flipH="1" flipV="1" rot="10585200">
                      <a:off x="3254040" y="426564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75" name="Group 108"/>
                  <p:cNvGrpSpPr/>
                  <p:nvPr/>
                </p:nvGrpSpPr>
                <p:grpSpPr>
                  <a:xfrm>
                    <a:off x="3234600" y="4221000"/>
                    <a:ext cx="80280" cy="197640"/>
                    <a:chOff x="3234600" y="4221000"/>
                    <a:chExt cx="80280" cy="197640"/>
                  </a:xfrm>
                </p:grpSpPr>
                <p:sp>
                  <p:nvSpPr>
                    <p:cNvPr id="976" name="AutoShape 109"/>
                    <p:cNvSpPr/>
                    <p:nvPr/>
                  </p:nvSpPr>
                  <p:spPr>
                    <a:xfrm flipH="1" flipV="1" rot="10294800">
                      <a:off x="3252960" y="4275720"/>
                      <a:ext cx="36720" cy="14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7" name="AutoShape 110"/>
                    <p:cNvSpPr/>
                    <p:nvPr/>
                  </p:nvSpPr>
                  <p:spPr>
                    <a:xfrm flipH="1" flipV="1" rot="11110200">
                      <a:off x="3251160" y="4251960"/>
                      <a:ext cx="3672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8" name="AutoShape 111"/>
                    <p:cNvSpPr/>
                    <p:nvPr/>
                  </p:nvSpPr>
                  <p:spPr>
                    <a:xfrm flipH="1" flipV="1" rot="11406000">
                      <a:off x="3252240" y="4239000"/>
                      <a:ext cx="3672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9" name="AutoShape 112"/>
                    <p:cNvSpPr/>
                    <p:nvPr/>
                  </p:nvSpPr>
                  <p:spPr>
                    <a:xfrm flipH="1" flipV="1" rot="11938200">
                      <a:off x="3255840" y="4223160"/>
                      <a:ext cx="3672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980" name="Arc 113"/>
                <p:cNvSpPr/>
                <p:nvPr/>
              </p:nvSpPr>
              <p:spPr>
                <a:xfrm flipH="1" rot="1129200">
                  <a:off x="3214080" y="4143240"/>
                  <a:ext cx="311040" cy="32292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981" name="Picture 114" descr="light_shadow1"/>
                <p:cNvPicPr/>
                <p:nvPr/>
              </p:nvPicPr>
              <p:blipFill>
                <a:blip r:embed="rId11"/>
                <a:srcRect l="0" t="23760" r="0" b="0"/>
                <a:stretch/>
              </p:blipFill>
              <p:spPr>
                <a:xfrm rot="2407800">
                  <a:off x="3306240" y="4179960"/>
                  <a:ext cx="203760" cy="1332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982" name="Line 164"/>
              <p:cNvSpPr/>
              <p:nvPr/>
            </p:nvSpPr>
            <p:spPr>
              <a:xfrm>
                <a:off x="3448080" y="4438080"/>
                <a:ext cx="425592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83" name="그룹 75"/>
          <p:cNvGrpSpPr/>
          <p:nvPr/>
        </p:nvGrpSpPr>
        <p:grpSpPr>
          <a:xfrm>
            <a:off x="2670480" y="5567040"/>
            <a:ext cx="5173200" cy="407520"/>
            <a:chOff x="2670480" y="5567040"/>
            <a:chExt cx="5173200" cy="407520"/>
          </a:xfrm>
        </p:grpSpPr>
        <p:sp>
          <p:nvSpPr>
            <p:cNvPr id="984" name="Rectangle 73"/>
            <p:cNvSpPr/>
            <p:nvPr/>
          </p:nvSpPr>
          <p:spPr>
            <a:xfrm>
              <a:off x="3014640" y="5572080"/>
              <a:ext cx="482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발달에는 인지발달이 필수적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5" name="그룹 235"/>
            <p:cNvGrpSpPr/>
            <p:nvPr/>
          </p:nvGrpSpPr>
          <p:grpSpPr>
            <a:xfrm>
              <a:off x="2670480" y="5567040"/>
              <a:ext cx="4539960" cy="407520"/>
              <a:chOff x="2670480" y="5567040"/>
              <a:chExt cx="4539960" cy="407520"/>
            </a:xfrm>
          </p:grpSpPr>
          <p:grpSp>
            <p:nvGrpSpPr>
              <p:cNvPr id="986" name="Group 147"/>
              <p:cNvGrpSpPr/>
              <p:nvPr/>
            </p:nvGrpSpPr>
            <p:grpSpPr>
              <a:xfrm>
                <a:off x="2670480" y="5567040"/>
                <a:ext cx="399240" cy="407520"/>
                <a:chOff x="2670480" y="5567040"/>
                <a:chExt cx="399240" cy="407520"/>
              </a:xfrm>
            </p:grpSpPr>
            <p:pic>
              <p:nvPicPr>
                <p:cNvPr id="987" name="Picture 148" descr="circuler_1"/>
                <p:cNvPicPr/>
                <p:nvPr/>
              </p:nvPicPr>
              <p:blipFill>
                <a:blip r:embed="rId12"/>
                <a:stretch/>
              </p:blipFill>
              <p:spPr>
                <a:xfrm rot="4974600">
                  <a:off x="2729520" y="5631120"/>
                  <a:ext cx="277200" cy="272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988" name="Oval 149"/>
                <p:cNvGrpSpPr/>
                <p:nvPr/>
              </p:nvGrpSpPr>
              <p:grpSpPr>
                <a:xfrm>
                  <a:off x="2725920" y="5620680"/>
                  <a:ext cx="285480" cy="286560"/>
                  <a:chOff x="2725920" y="5620680"/>
                  <a:chExt cx="285480" cy="286560"/>
                </a:xfrm>
              </p:grpSpPr>
              <p:pic>
                <p:nvPicPr>
                  <p:cNvPr id="989" name="Oval 149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2725920" y="5620680"/>
                    <a:ext cx="285480" cy="2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90" name=""/>
                  <p:cNvSpPr/>
                  <p:nvPr/>
                </p:nvSpPr>
                <p:spPr>
                  <a:xfrm rot="4976400">
                    <a:off x="2770920" y="5670360"/>
                    <a:ext cx="194760" cy="19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91" name="Group 150"/>
                <p:cNvGrpSpPr/>
                <p:nvPr/>
              </p:nvGrpSpPr>
              <p:grpSpPr>
                <a:xfrm>
                  <a:off x="2734200" y="5685840"/>
                  <a:ext cx="108720" cy="236520"/>
                  <a:chOff x="2734200" y="5685840"/>
                  <a:chExt cx="108720" cy="236520"/>
                </a:xfrm>
              </p:grpSpPr>
              <p:grpSp>
                <p:nvGrpSpPr>
                  <p:cNvPr id="992" name="Group 151"/>
                  <p:cNvGrpSpPr/>
                  <p:nvPr/>
                </p:nvGrpSpPr>
                <p:grpSpPr>
                  <a:xfrm>
                    <a:off x="2738880" y="5729760"/>
                    <a:ext cx="104040" cy="192600"/>
                    <a:chOff x="2738880" y="5729760"/>
                    <a:chExt cx="104040" cy="192600"/>
                  </a:xfrm>
                </p:grpSpPr>
                <p:sp>
                  <p:nvSpPr>
                    <p:cNvPr id="993" name="AutoShape 152"/>
                    <p:cNvSpPr/>
                    <p:nvPr/>
                  </p:nvSpPr>
                  <p:spPr>
                    <a:xfrm flipH="1" flipV="1" rot="8941800">
                      <a:off x="2772000" y="5780160"/>
                      <a:ext cx="3636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4" name="AutoShape 153"/>
                    <p:cNvSpPr/>
                    <p:nvPr/>
                  </p:nvSpPr>
                  <p:spPr>
                    <a:xfrm flipH="1" flipV="1" rot="9757200">
                      <a:off x="2761560" y="576000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5" name="AutoShape 154"/>
                    <p:cNvSpPr/>
                    <p:nvPr/>
                  </p:nvSpPr>
                  <p:spPr>
                    <a:xfrm flipH="1" flipV="1" rot="10053000">
                      <a:off x="2757240" y="5746680"/>
                      <a:ext cx="36720" cy="14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6" name="AutoShape 155"/>
                    <p:cNvSpPr/>
                    <p:nvPr/>
                  </p:nvSpPr>
                  <p:spPr>
                    <a:xfrm flipH="1" flipV="1" rot="10585200">
                      <a:off x="2753640" y="5730120"/>
                      <a:ext cx="36720" cy="14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97" name="Group 156"/>
                  <p:cNvGrpSpPr/>
                  <p:nvPr/>
                </p:nvGrpSpPr>
                <p:grpSpPr>
                  <a:xfrm>
                    <a:off x="2734200" y="5685840"/>
                    <a:ext cx="80640" cy="199080"/>
                    <a:chOff x="2734200" y="5685840"/>
                    <a:chExt cx="80640" cy="199080"/>
                  </a:xfrm>
                </p:grpSpPr>
                <p:sp>
                  <p:nvSpPr>
                    <p:cNvPr id="998" name="AutoShape 157"/>
                    <p:cNvSpPr/>
                    <p:nvPr/>
                  </p:nvSpPr>
                  <p:spPr>
                    <a:xfrm flipH="1" flipV="1" rot="10294800">
                      <a:off x="2752920" y="57405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9" name="AutoShape 158"/>
                    <p:cNvSpPr/>
                    <p:nvPr/>
                  </p:nvSpPr>
                  <p:spPr>
                    <a:xfrm flipH="1" flipV="1" rot="11110200">
                      <a:off x="2750400" y="571752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00" name="AutoShape 159"/>
                    <p:cNvSpPr/>
                    <p:nvPr/>
                  </p:nvSpPr>
                  <p:spPr>
                    <a:xfrm flipH="1" flipV="1" rot="11406000">
                      <a:off x="2752200" y="570384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01" name="AutoShape 160"/>
                    <p:cNvSpPr/>
                    <p:nvPr/>
                  </p:nvSpPr>
                  <p:spPr>
                    <a:xfrm flipH="1" flipV="1" rot="11938200">
                      <a:off x="2755800" y="568764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002" name="Arc 161"/>
                <p:cNvSpPr/>
                <p:nvPr/>
              </p:nvSpPr>
              <p:spPr>
                <a:xfrm flipH="1" rot="1129200">
                  <a:off x="2714040" y="5608440"/>
                  <a:ext cx="311040" cy="32436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003" name="Picture 162" descr="light_shadow1"/>
                <p:cNvPicPr/>
                <p:nvPr/>
              </p:nvPicPr>
              <p:blipFill>
                <a:blip r:embed="rId14"/>
                <a:srcRect l="0" t="23760" r="0" b="0"/>
                <a:stretch/>
              </p:blipFill>
              <p:spPr>
                <a:xfrm rot="2404800">
                  <a:off x="2806200" y="564516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004" name="Line 166"/>
              <p:cNvSpPr/>
              <p:nvPr/>
            </p:nvSpPr>
            <p:spPr>
              <a:xfrm>
                <a:off x="2954160" y="5908680"/>
                <a:ext cx="425628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05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00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07" name="직사각형 13"/>
              <p:cNvSpPr/>
              <p:nvPr/>
            </p:nvSpPr>
            <p:spPr>
              <a:xfrm>
                <a:off x="1456200" y="1385640"/>
                <a:ext cx="253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Kohlberg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1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1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12" name="Freeform 5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1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14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5" name="그룹 91"/>
          <p:cNvGrpSpPr/>
          <p:nvPr/>
        </p:nvGrpSpPr>
        <p:grpSpPr>
          <a:xfrm>
            <a:off x="682560" y="1857240"/>
            <a:ext cx="3221640" cy="551160"/>
            <a:chOff x="682560" y="1857240"/>
            <a:chExt cx="3221640" cy="551160"/>
          </a:xfrm>
        </p:grpSpPr>
        <p:grpSp>
          <p:nvGrpSpPr>
            <p:cNvPr id="1016" name="그룹 34"/>
            <p:cNvGrpSpPr/>
            <p:nvPr/>
          </p:nvGrpSpPr>
          <p:grpSpPr>
            <a:xfrm>
              <a:off x="682560" y="1947600"/>
              <a:ext cx="349200" cy="381240"/>
              <a:chOff x="682560" y="1947600"/>
              <a:chExt cx="349200" cy="381240"/>
            </a:xfrm>
          </p:grpSpPr>
          <p:pic>
            <p:nvPicPr>
              <p:cNvPr id="1017" name="Picture 177" descr="bull"/>
              <p:cNvPicPr/>
              <p:nvPr/>
            </p:nvPicPr>
            <p:blipFill>
              <a:blip r:embed="rId16"/>
              <a:stretch/>
            </p:blipFill>
            <p:spPr>
              <a:xfrm>
                <a:off x="682560" y="197424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18" name="TextBox 36"/>
              <p:cNvSpPr/>
              <p:nvPr/>
            </p:nvSpPr>
            <p:spPr>
              <a:xfrm>
                <a:off x="718920" y="194760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9" name="직사각형 108"/>
            <p:cNvSpPr/>
            <p:nvPr/>
          </p:nvSpPr>
          <p:spPr>
            <a:xfrm>
              <a:off x="1369080" y="1857240"/>
              <a:ext cx="253512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Kohlberg 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이론의 기본견해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0" name="그룹 14"/>
          <p:cNvGrpSpPr/>
          <p:nvPr/>
        </p:nvGrpSpPr>
        <p:grpSpPr>
          <a:xfrm>
            <a:off x="2741760" y="2710080"/>
            <a:ext cx="5933880" cy="407520"/>
            <a:chOff x="2741760" y="2710080"/>
            <a:chExt cx="5933880" cy="407520"/>
          </a:xfrm>
        </p:grpSpPr>
        <p:sp>
          <p:nvSpPr>
            <p:cNvPr id="1021" name="Rectangle 69"/>
            <p:cNvSpPr/>
            <p:nvPr/>
          </p:nvSpPr>
          <p:spPr>
            <a:xfrm>
              <a:off x="3103200" y="2714760"/>
              <a:ext cx="5572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적 딜레마를 이용하여 도덕판단단계를 측정하였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2" name="그룹 231"/>
            <p:cNvGrpSpPr/>
            <p:nvPr/>
          </p:nvGrpSpPr>
          <p:grpSpPr>
            <a:xfrm>
              <a:off x="2741760" y="2710080"/>
              <a:ext cx="4557600" cy="407520"/>
              <a:chOff x="2741760" y="2710080"/>
              <a:chExt cx="4557600" cy="407520"/>
            </a:xfrm>
          </p:grpSpPr>
          <p:sp>
            <p:nvSpPr>
              <p:cNvPr id="1023" name="Line 68"/>
              <p:cNvSpPr/>
              <p:nvPr/>
            </p:nvSpPr>
            <p:spPr>
              <a:xfrm>
                <a:off x="3043080" y="3035880"/>
                <a:ext cx="425628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4" name="Group 74"/>
              <p:cNvGrpSpPr/>
              <p:nvPr/>
            </p:nvGrpSpPr>
            <p:grpSpPr>
              <a:xfrm>
                <a:off x="2741760" y="2710080"/>
                <a:ext cx="399240" cy="407520"/>
                <a:chOff x="2741760" y="2710080"/>
                <a:chExt cx="399240" cy="407520"/>
              </a:xfrm>
            </p:grpSpPr>
            <p:pic>
              <p:nvPicPr>
                <p:cNvPr id="1025" name="Picture 75" descr="circuler_1"/>
                <p:cNvPicPr/>
                <p:nvPr/>
              </p:nvPicPr>
              <p:blipFill>
                <a:blip r:embed="rId17"/>
                <a:stretch/>
              </p:blipFill>
              <p:spPr>
                <a:xfrm rot="4974600">
                  <a:off x="2800800" y="2774160"/>
                  <a:ext cx="277200" cy="272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026" name="Oval 76"/>
                <p:cNvGrpSpPr/>
                <p:nvPr/>
              </p:nvGrpSpPr>
              <p:grpSpPr>
                <a:xfrm>
                  <a:off x="2799720" y="2768040"/>
                  <a:ext cx="285480" cy="286560"/>
                  <a:chOff x="2799720" y="2768040"/>
                  <a:chExt cx="285480" cy="286560"/>
                </a:xfrm>
              </p:grpSpPr>
              <p:pic>
                <p:nvPicPr>
                  <p:cNvPr id="1027" name="Oval 76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2799720" y="2768040"/>
                    <a:ext cx="285480" cy="2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28" name=""/>
                  <p:cNvSpPr/>
                  <p:nvPr/>
                </p:nvSpPr>
                <p:spPr>
                  <a:xfrm rot="4976400">
                    <a:off x="2842920" y="2813400"/>
                    <a:ext cx="194760" cy="19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29" name="Group 77"/>
                <p:cNvGrpSpPr/>
                <p:nvPr/>
              </p:nvGrpSpPr>
              <p:grpSpPr>
                <a:xfrm>
                  <a:off x="2804040" y="2830680"/>
                  <a:ext cx="109080" cy="236880"/>
                  <a:chOff x="2804040" y="2830680"/>
                  <a:chExt cx="109080" cy="236880"/>
                </a:xfrm>
              </p:grpSpPr>
              <p:grpSp>
                <p:nvGrpSpPr>
                  <p:cNvPr id="1030" name="Group 78"/>
                  <p:cNvGrpSpPr/>
                  <p:nvPr/>
                </p:nvGrpSpPr>
                <p:grpSpPr>
                  <a:xfrm>
                    <a:off x="2809080" y="2874600"/>
                    <a:ext cx="104040" cy="192960"/>
                    <a:chOff x="2809080" y="2874600"/>
                    <a:chExt cx="104040" cy="192960"/>
                  </a:xfrm>
                </p:grpSpPr>
                <p:sp>
                  <p:nvSpPr>
                    <p:cNvPr id="1031" name="AutoShape 79"/>
                    <p:cNvSpPr/>
                    <p:nvPr/>
                  </p:nvSpPr>
                  <p:spPr>
                    <a:xfrm flipH="1" flipV="1" rot="8941800">
                      <a:off x="2842200" y="2925360"/>
                      <a:ext cx="3636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2" name="AutoShape 80"/>
                    <p:cNvSpPr/>
                    <p:nvPr/>
                  </p:nvSpPr>
                  <p:spPr>
                    <a:xfrm flipH="1" flipV="1" rot="9757200">
                      <a:off x="2831760" y="290484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3" name="AutoShape 81"/>
                    <p:cNvSpPr/>
                    <p:nvPr/>
                  </p:nvSpPr>
                  <p:spPr>
                    <a:xfrm flipH="1" flipV="1" rot="10053000">
                      <a:off x="2827440" y="2891520"/>
                      <a:ext cx="36720" cy="14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4" name="AutoShape 82"/>
                    <p:cNvSpPr/>
                    <p:nvPr/>
                  </p:nvSpPr>
                  <p:spPr>
                    <a:xfrm flipH="1" flipV="1" rot="10585200">
                      <a:off x="2823840" y="2874960"/>
                      <a:ext cx="36720" cy="14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35" name="Group 83"/>
                  <p:cNvGrpSpPr/>
                  <p:nvPr/>
                </p:nvGrpSpPr>
                <p:grpSpPr>
                  <a:xfrm>
                    <a:off x="2804040" y="2830680"/>
                    <a:ext cx="80640" cy="199080"/>
                    <a:chOff x="2804040" y="2830680"/>
                    <a:chExt cx="80640" cy="199080"/>
                  </a:xfrm>
                </p:grpSpPr>
                <p:sp>
                  <p:nvSpPr>
                    <p:cNvPr id="1036" name="AutoShape 84"/>
                    <p:cNvSpPr/>
                    <p:nvPr/>
                  </p:nvSpPr>
                  <p:spPr>
                    <a:xfrm flipH="1" flipV="1" rot="10294800">
                      <a:off x="2822760" y="288540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7" name="AutoShape 85"/>
                    <p:cNvSpPr/>
                    <p:nvPr/>
                  </p:nvSpPr>
                  <p:spPr>
                    <a:xfrm flipH="1" flipV="1" rot="11110200">
                      <a:off x="2820240" y="286272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8" name="AutoShape 86"/>
                    <p:cNvSpPr/>
                    <p:nvPr/>
                  </p:nvSpPr>
                  <p:spPr>
                    <a:xfrm flipH="1" flipV="1" rot="11406000">
                      <a:off x="2822040" y="284868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9" name="AutoShape 87"/>
                    <p:cNvSpPr/>
                    <p:nvPr/>
                  </p:nvSpPr>
                  <p:spPr>
                    <a:xfrm flipH="1" flipV="1" rot="11938200">
                      <a:off x="2825640" y="283248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040" name="Arc 88"/>
                <p:cNvSpPr/>
                <p:nvPr/>
              </p:nvSpPr>
              <p:spPr>
                <a:xfrm flipH="1" rot="1129200">
                  <a:off x="2785320" y="2751480"/>
                  <a:ext cx="311040" cy="32436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041" name="Picture 89" descr="light_shadow1"/>
                <p:cNvPicPr/>
                <p:nvPr/>
              </p:nvPicPr>
              <p:blipFill>
                <a:blip r:embed="rId19"/>
                <a:srcRect l="0" t="23760" r="0" b="0"/>
                <a:stretch/>
              </p:blipFill>
              <p:spPr>
                <a:xfrm rot="2404800">
                  <a:off x="2877480" y="278820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sp>
        <p:nvSpPr>
          <p:cNvPr id="1042" name="슬라이드 번호 개체 틀 124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6D8EA-F8AE-4B04-BFB3-F2D668693074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3" name="TextBox 12" descr=""/>
          <p:cNvPicPr/>
          <p:nvPr/>
        </p:nvPicPr>
        <p:blipFill>
          <a:blip r:embed="rId1"/>
          <a:stretch/>
        </p:blipFill>
        <p:spPr>
          <a:xfrm>
            <a:off x="3943440" y="506520"/>
            <a:ext cx="529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4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04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46" name="직사각형 13"/>
              <p:cNvSpPr/>
              <p:nvPr/>
            </p:nvSpPr>
            <p:spPr>
              <a:xfrm>
                <a:off x="1456200" y="1385640"/>
                <a:ext cx="253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Kohlberg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4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5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5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5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53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054" name=""/>
          <p:cNvGraphicFramePr/>
          <p:nvPr/>
        </p:nvGraphicFramePr>
        <p:xfrm>
          <a:off x="1428840" y="2714760"/>
          <a:ext cx="6643440" cy="3500280"/>
        </p:xfrm>
        <a:graphic>
          <a:graphicData uri="http://schemas.openxmlformats.org/drawingml/2006/table">
            <a:tbl>
              <a:tblPr/>
              <a:tblGrid>
                <a:gridCol w="1928880"/>
                <a:gridCol w="4714560"/>
              </a:tblGrid>
              <a:tr h="500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도덕판단 수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도덕판단 단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</a:tr>
              <a:tr h="5000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전인습수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1: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처벌회피 및 복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500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2: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상대적 쾌락주의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시장 교환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7f7f7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00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인습수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3: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대인관계 조화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타인과의 조화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2880">
                      <a:solidFill>
                        <a:srgbClr val="7f7f7f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500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4: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사회질서 및 권위 유지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법과 질서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7f7f7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00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후인습수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5: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사회계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2880">
                      <a:solidFill>
                        <a:srgbClr val="7f7f7f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500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6: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보편적인 도덕원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pSp>
        <p:nvGrpSpPr>
          <p:cNvPr id="1055" name="그룹 91"/>
          <p:cNvGrpSpPr/>
          <p:nvPr/>
        </p:nvGrpSpPr>
        <p:grpSpPr>
          <a:xfrm>
            <a:off x="727920" y="2017800"/>
            <a:ext cx="5152320" cy="551160"/>
            <a:chOff x="727920" y="2017800"/>
            <a:chExt cx="5152320" cy="551160"/>
          </a:xfrm>
        </p:grpSpPr>
        <p:grpSp>
          <p:nvGrpSpPr>
            <p:cNvPr id="1056" name="그룹 34"/>
            <p:cNvGrpSpPr/>
            <p:nvPr/>
          </p:nvGrpSpPr>
          <p:grpSpPr>
            <a:xfrm>
              <a:off x="727920" y="2121120"/>
              <a:ext cx="362880" cy="370080"/>
              <a:chOff x="727920" y="2121120"/>
              <a:chExt cx="362880" cy="370080"/>
            </a:xfrm>
          </p:grpSpPr>
          <p:pic>
            <p:nvPicPr>
              <p:cNvPr id="1057" name="Picture 177" descr="bull"/>
              <p:cNvPicPr/>
              <p:nvPr/>
            </p:nvPicPr>
            <p:blipFill>
              <a:blip r:embed="rId3"/>
              <a:stretch/>
            </p:blipFill>
            <p:spPr>
              <a:xfrm>
                <a:off x="731160" y="2133360"/>
                <a:ext cx="359640" cy="357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8" name="TextBox 36"/>
              <p:cNvSpPr/>
              <p:nvPr/>
            </p:nvSpPr>
            <p:spPr>
              <a:xfrm>
                <a:off x="727920" y="2121120"/>
                <a:ext cx="362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★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9" name="직사각형 95"/>
            <p:cNvSpPr/>
            <p:nvPr/>
          </p:nvSpPr>
          <p:spPr>
            <a:xfrm>
              <a:off x="1877400" y="2017800"/>
              <a:ext cx="40028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도덕판단의 수준 및 특성               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p. 15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0" name="슬라이드 번호 개체 틀 16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E88D7-DF91-4173-A901-C7E2C67B339D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2874D62B-8D94-4773-A0BC-CB24B9C87248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2" name=""/>
          <p:cNvGraphicFramePr/>
          <p:nvPr/>
        </p:nvGraphicFramePr>
        <p:xfrm>
          <a:off x="484200" y="1924200"/>
          <a:ext cx="8153280" cy="4155840"/>
        </p:xfrm>
        <a:graphic>
          <a:graphicData uri="http://schemas.openxmlformats.org/drawingml/2006/table">
            <a:tbl>
              <a:tblPr/>
              <a:tblGrid>
                <a:gridCol w="3373560"/>
                <a:gridCol w="4779720"/>
              </a:tblGrid>
              <a:tr h="1909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수준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1. 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전인습 수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preconventional ethic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기중심성의 윤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10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세 이하의 아동에게서 일반적으로 나타남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‘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전인습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’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이라고 불리는 이유는 아동이 일반적으로 타인에 의해 부과되는 규칙을 완전히 이해하지 못하기 때문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122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처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-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복종 단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punishment-obedience)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행동의 결과가 옳은지 그른지의 도덕적 판단을 결정하며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이때 타인의 필요나 감정을 고려하지 않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3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상대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쾌락주의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market exchange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“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나에게 좋은 것이 뭐지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?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”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의 윤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신에게 이득이 있는지에 따라 규칙을 지키고 호의를 나눌 지가 결정됨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3" name="Text Box 18"/>
          <p:cNvSpPr/>
          <p:nvPr/>
        </p:nvSpPr>
        <p:spPr>
          <a:xfrm>
            <a:off x="466560" y="1447920"/>
            <a:ext cx="431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콜버그의 도덕성 발달단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4" name="제목 5" descr=""/>
          <p:cNvPicPr/>
          <p:nvPr/>
        </p:nvPicPr>
        <p:blipFill>
          <a:blip r:embed="rId1"/>
          <a:stretch/>
        </p:blipFill>
        <p:spPr>
          <a:xfrm>
            <a:off x="835200" y="281160"/>
            <a:ext cx="7291080" cy="78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TextBox 12" descr=""/>
          <p:cNvPicPr/>
          <p:nvPr/>
        </p:nvPicPr>
        <p:blipFill>
          <a:blip r:embed="rId1"/>
          <a:stretch/>
        </p:blipFill>
        <p:spPr>
          <a:xfrm>
            <a:off x="3638520" y="506520"/>
            <a:ext cx="5426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37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37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374" name="직사각형 13"/>
              <p:cNvSpPr/>
              <p:nvPr/>
            </p:nvSpPr>
            <p:spPr>
              <a:xfrm>
                <a:off x="1319760" y="1385640"/>
                <a:ext cx="1008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신의 구조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37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7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37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8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81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그룹 91"/>
          <p:cNvGrpSpPr/>
          <p:nvPr/>
        </p:nvGrpSpPr>
        <p:grpSpPr>
          <a:xfrm>
            <a:off x="285840" y="2071800"/>
            <a:ext cx="8501040" cy="1143000"/>
            <a:chOff x="285840" y="2071800"/>
            <a:chExt cx="8501040" cy="1143000"/>
          </a:xfrm>
        </p:grpSpPr>
        <p:pic>
          <p:nvPicPr>
            <p:cNvPr id="383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35728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384" name="그룹 34"/>
            <p:cNvGrpSpPr/>
            <p:nvPr/>
          </p:nvGrpSpPr>
          <p:grpSpPr>
            <a:xfrm>
              <a:off x="857160" y="2162160"/>
              <a:ext cx="349200" cy="380880"/>
              <a:chOff x="857160" y="2162160"/>
              <a:chExt cx="349200" cy="380880"/>
            </a:xfrm>
          </p:grpSpPr>
          <p:pic>
            <p:nvPicPr>
              <p:cNvPr id="385" name="Picture 177" descr="bull"/>
              <p:cNvPicPr/>
              <p:nvPr/>
            </p:nvPicPr>
            <p:blipFill>
              <a:blip r:embed="rId4"/>
              <a:stretch/>
            </p:blipFill>
            <p:spPr>
              <a:xfrm>
                <a:off x="857160" y="2188080"/>
                <a:ext cx="349200" cy="354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6" name="TextBox 36"/>
              <p:cNvSpPr/>
              <p:nvPr/>
            </p:nvSpPr>
            <p:spPr>
              <a:xfrm>
                <a:off x="891360" y="216216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7" name="직사각형 41"/>
            <p:cNvSpPr/>
            <p:nvPr/>
          </p:nvSpPr>
          <p:spPr>
            <a:xfrm>
              <a:off x="1271160" y="2071800"/>
              <a:ext cx="160416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의식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(conscious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8" name="타원 42"/>
            <p:cNvGrpSpPr/>
            <p:nvPr/>
          </p:nvGrpSpPr>
          <p:grpSpPr>
            <a:xfrm>
              <a:off x="1152000" y="2792160"/>
              <a:ext cx="213120" cy="207000"/>
              <a:chOff x="1152000" y="2792160"/>
              <a:chExt cx="213120" cy="207000"/>
            </a:xfrm>
          </p:grpSpPr>
          <p:pic>
            <p:nvPicPr>
              <p:cNvPr id="389" name="타원 42" descr=""/>
              <p:cNvPicPr/>
              <p:nvPr/>
            </p:nvPicPr>
            <p:blipFill>
              <a:blip r:embed="rId5"/>
              <a:stretch/>
            </p:blipFill>
            <p:spPr>
              <a:xfrm>
                <a:off x="1152000" y="279216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0" name=""/>
              <p:cNvSpPr/>
              <p:nvPr/>
            </p:nvSpPr>
            <p:spPr>
              <a:xfrm rot="10800000">
                <a:off x="1228680" y="2845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1" name="직사각형 43"/>
            <p:cNvSpPr/>
            <p:nvPr/>
          </p:nvSpPr>
          <p:spPr>
            <a:xfrm>
              <a:off x="1357200" y="2605320"/>
              <a:ext cx="721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현재 인식할 수 있는 사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감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각 등으로 구성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직선 연결선 44"/>
            <p:cNvSpPr/>
            <p:nvPr/>
          </p:nvSpPr>
          <p:spPr>
            <a:xfrm flipV="1">
              <a:off x="4536360" y="2355840"/>
              <a:ext cx="382284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3" name="그룹 92"/>
          <p:cNvGrpSpPr/>
          <p:nvPr/>
        </p:nvGrpSpPr>
        <p:grpSpPr>
          <a:xfrm>
            <a:off x="285840" y="3357720"/>
            <a:ext cx="8572320" cy="1143000"/>
            <a:chOff x="285840" y="3357720"/>
            <a:chExt cx="8572320" cy="1143000"/>
          </a:xfrm>
        </p:grpSpPr>
        <p:pic>
          <p:nvPicPr>
            <p:cNvPr id="394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364320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395" name="그룹 34"/>
            <p:cNvGrpSpPr/>
            <p:nvPr/>
          </p:nvGrpSpPr>
          <p:grpSpPr>
            <a:xfrm>
              <a:off x="857160" y="3448080"/>
              <a:ext cx="349200" cy="380880"/>
              <a:chOff x="857160" y="3448080"/>
              <a:chExt cx="349200" cy="380880"/>
            </a:xfrm>
          </p:grpSpPr>
          <p:pic>
            <p:nvPicPr>
              <p:cNvPr id="396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857160" y="347436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7" name="TextBox 36"/>
              <p:cNvSpPr/>
              <p:nvPr/>
            </p:nvSpPr>
            <p:spPr>
              <a:xfrm>
                <a:off x="891360" y="34480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8" name="직사각형 50"/>
            <p:cNvSpPr/>
            <p:nvPr/>
          </p:nvSpPr>
          <p:spPr>
            <a:xfrm>
              <a:off x="1345320" y="3357720"/>
              <a:ext cx="224136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전의식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(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preconscious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)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9" name="타원 51"/>
            <p:cNvGrpSpPr/>
            <p:nvPr/>
          </p:nvGrpSpPr>
          <p:grpSpPr>
            <a:xfrm>
              <a:off x="1152000" y="4078440"/>
              <a:ext cx="213120" cy="207000"/>
              <a:chOff x="1152000" y="4078440"/>
              <a:chExt cx="213120" cy="207000"/>
            </a:xfrm>
          </p:grpSpPr>
          <p:pic>
            <p:nvPicPr>
              <p:cNvPr id="400" name="타원 51" descr=""/>
              <p:cNvPicPr/>
              <p:nvPr/>
            </p:nvPicPr>
            <p:blipFill>
              <a:blip r:embed="rId8"/>
              <a:stretch/>
            </p:blipFill>
            <p:spPr>
              <a:xfrm>
                <a:off x="1152000" y="407844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1" name=""/>
              <p:cNvSpPr/>
              <p:nvPr/>
            </p:nvSpPr>
            <p:spPr>
              <a:xfrm rot="10800000">
                <a:off x="1228680" y="4131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2" name="직사각형 52"/>
            <p:cNvSpPr/>
            <p:nvPr/>
          </p:nvSpPr>
          <p:spPr>
            <a:xfrm>
              <a:off x="1357200" y="3891240"/>
              <a:ext cx="75009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원할 때 쉽게 의식화할 수 있는 기억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꿈 등으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구성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직선 연결선 53"/>
            <p:cNvSpPr/>
            <p:nvPr/>
          </p:nvSpPr>
          <p:spPr>
            <a:xfrm flipV="1">
              <a:off x="4537080" y="3641760"/>
              <a:ext cx="382104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4" name="그룹 68"/>
          <p:cNvGrpSpPr/>
          <p:nvPr/>
        </p:nvGrpSpPr>
        <p:grpSpPr>
          <a:xfrm>
            <a:off x="285840" y="4656240"/>
            <a:ext cx="8501040" cy="1630440"/>
            <a:chOff x="285840" y="4656240"/>
            <a:chExt cx="8501040" cy="1630440"/>
          </a:xfrm>
        </p:grpSpPr>
        <p:grpSp>
          <p:nvGrpSpPr>
            <p:cNvPr id="405" name="그룹 101"/>
            <p:cNvGrpSpPr/>
            <p:nvPr/>
          </p:nvGrpSpPr>
          <p:grpSpPr>
            <a:xfrm>
              <a:off x="285840" y="4656240"/>
              <a:ext cx="8501040" cy="1630440"/>
              <a:chOff x="285840" y="4656240"/>
              <a:chExt cx="8501040" cy="1630440"/>
            </a:xfrm>
          </p:grpSpPr>
          <p:pic>
            <p:nvPicPr>
              <p:cNvPr id="406" name="Picture 5" descr="233"/>
              <p:cNvPicPr/>
              <p:nvPr/>
            </p:nvPicPr>
            <p:blipFill>
              <a:blip r:embed="rId9"/>
              <a:srcRect l="0" t="0" r="24313" b="0"/>
              <a:stretch/>
            </p:blipFill>
            <p:spPr>
              <a:xfrm>
                <a:off x="285840" y="4941720"/>
                <a:ext cx="8501040" cy="13449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407" name="그룹 34"/>
              <p:cNvGrpSpPr/>
              <p:nvPr/>
            </p:nvGrpSpPr>
            <p:grpSpPr>
              <a:xfrm>
                <a:off x="857160" y="4746600"/>
                <a:ext cx="349200" cy="380880"/>
                <a:chOff x="857160" y="4746600"/>
                <a:chExt cx="349200" cy="380880"/>
              </a:xfrm>
            </p:grpSpPr>
            <p:pic>
              <p:nvPicPr>
                <p:cNvPr id="408" name="Picture 177" descr="bull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57160" y="4772520"/>
                  <a:ext cx="349200" cy="354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09" name="TextBox 36"/>
                <p:cNvSpPr/>
                <p:nvPr/>
              </p:nvSpPr>
              <p:spPr>
                <a:xfrm>
                  <a:off x="891360" y="474660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0" name="직사각형 59"/>
              <p:cNvSpPr/>
              <p:nvPr/>
            </p:nvSpPr>
            <p:spPr>
              <a:xfrm>
                <a:off x="1304640" y="4656240"/>
                <a:ext cx="203724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무의식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unconscious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1" name="타원 60"/>
              <p:cNvGrpSpPr/>
              <p:nvPr/>
            </p:nvGrpSpPr>
            <p:grpSpPr>
              <a:xfrm>
                <a:off x="1152000" y="5376960"/>
                <a:ext cx="213120" cy="207000"/>
                <a:chOff x="1152000" y="5376960"/>
                <a:chExt cx="213120" cy="207000"/>
              </a:xfrm>
            </p:grpSpPr>
            <p:pic>
              <p:nvPicPr>
                <p:cNvPr id="412" name="타원 60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1152000" y="5376960"/>
                  <a:ext cx="213120" cy="20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13" name=""/>
                <p:cNvSpPr/>
                <p:nvPr/>
              </p:nvSpPr>
              <p:spPr>
                <a:xfrm rot="10800000">
                  <a:off x="1228680" y="542952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4" name="직사각형 61"/>
              <p:cNvSpPr/>
              <p:nvPr/>
            </p:nvSpPr>
            <p:spPr>
              <a:xfrm>
                <a:off x="1357200" y="5189400"/>
                <a:ext cx="72151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전혀 의식할 수 없는 부분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신의 가장 큰 부분으로 모든 행동에 영향을 미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직선 연결선 62"/>
              <p:cNvSpPr/>
              <p:nvPr/>
            </p:nvSpPr>
            <p:spPr>
              <a:xfrm>
                <a:off x="4537080" y="4941720"/>
                <a:ext cx="3821040" cy="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6" name="타원 67"/>
            <p:cNvGrpSpPr/>
            <p:nvPr/>
          </p:nvGrpSpPr>
          <p:grpSpPr>
            <a:xfrm>
              <a:off x="1152000" y="5779080"/>
              <a:ext cx="213120" cy="213120"/>
              <a:chOff x="1152000" y="5779080"/>
              <a:chExt cx="213120" cy="213120"/>
            </a:xfrm>
          </p:grpSpPr>
          <p:pic>
            <p:nvPicPr>
              <p:cNvPr id="417" name="타원 67" descr=""/>
              <p:cNvPicPr/>
              <p:nvPr/>
            </p:nvPicPr>
            <p:blipFill>
              <a:blip r:embed="rId12"/>
              <a:stretch/>
            </p:blipFill>
            <p:spPr>
              <a:xfrm>
                <a:off x="1152000" y="5779080"/>
                <a:ext cx="213120" cy="213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8" name=""/>
              <p:cNvSpPr/>
              <p:nvPr/>
            </p:nvSpPr>
            <p:spPr>
              <a:xfrm rot="10800000">
                <a:off x="1228680" y="58323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19" name="슬라이드 번호 개체 틀 40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FEA87-0C19-4B3A-9C1F-5485B768FD30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AC514BD8-01B2-4E2F-8CFD-9696EC6F97BF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6" name=""/>
          <p:cNvGraphicFramePr/>
          <p:nvPr/>
        </p:nvGraphicFramePr>
        <p:xfrm>
          <a:off x="584280" y="1952640"/>
          <a:ext cx="8058240" cy="4151160"/>
        </p:xfrm>
        <a:graphic>
          <a:graphicData uri="http://schemas.openxmlformats.org/drawingml/2006/table">
            <a:tbl>
              <a:tblPr/>
              <a:tblGrid>
                <a:gridCol w="3360600"/>
                <a:gridCol w="4697640"/>
              </a:tblGrid>
              <a:tr h="1405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수준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2. 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인습 수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conventional ethic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타인의 윤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일반적으로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0-12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세에 나타남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사회적 규칙과 계약에 순응하는 단계이므로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‘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인습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’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이라고 불림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3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타인과의 조화단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interpersonal harmony)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타인이 어떻게 생각할지에 대한 염려에 기초해 윤리적 결정을 내림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타인을 기쁘게 하고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도와주고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타인이 허락하는지가 중요한 기준이 됨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7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4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법과 질서단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law and order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법과 규칙 그리고 사회질서에 근거한 윤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규칙과 법은 절대적이고 그 자체로서 존경 받고 지켜야 한다는 믿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7" name="Text Box 18"/>
          <p:cNvSpPr/>
          <p:nvPr/>
        </p:nvSpPr>
        <p:spPr>
          <a:xfrm>
            <a:off x="563400" y="1401840"/>
            <a:ext cx="567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콜버그의 도덕성 발달단계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계속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8" name="제목 5" descr=""/>
          <p:cNvPicPr/>
          <p:nvPr/>
        </p:nvPicPr>
        <p:blipFill>
          <a:blip r:embed="rId1"/>
          <a:stretch/>
        </p:blipFill>
        <p:spPr>
          <a:xfrm>
            <a:off x="835200" y="249120"/>
            <a:ext cx="7291080" cy="81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66C5410D-CEC0-4C8B-8FA6-C4A3BE76134B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0" name="Rectangle 3" descr=""/>
          <p:cNvPicPr/>
          <p:nvPr/>
        </p:nvPicPr>
        <p:blipFill>
          <a:blip r:embed="rId1"/>
          <a:stretch/>
        </p:blipFill>
        <p:spPr>
          <a:xfrm>
            <a:off x="426960" y="158760"/>
            <a:ext cx="8845560" cy="822240"/>
          </a:xfrm>
          <a:prstGeom prst="rect">
            <a:avLst/>
          </a:prstGeom>
          <a:ln w="0">
            <a:noFill/>
          </a:ln>
        </p:spPr>
      </p:pic>
      <p:sp>
        <p:nvSpPr>
          <p:cNvPr id="1071" name="Text Box 18"/>
          <p:cNvSpPr/>
          <p:nvPr/>
        </p:nvSpPr>
        <p:spPr>
          <a:xfrm>
            <a:off x="544680" y="1236600"/>
            <a:ext cx="571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콜버그의 도덕성 발달단계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계속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2" name=""/>
          <p:cNvGraphicFramePr/>
          <p:nvPr/>
        </p:nvGraphicFramePr>
        <p:xfrm>
          <a:off x="579600" y="1714680"/>
          <a:ext cx="8049960" cy="4632120"/>
        </p:xfrm>
        <a:graphic>
          <a:graphicData uri="http://schemas.openxmlformats.org/drawingml/2006/table">
            <a:tbl>
              <a:tblPr/>
              <a:tblGrid>
                <a:gridCol w="3078000"/>
                <a:gridCol w="4971960"/>
              </a:tblGrid>
              <a:tr h="1609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수준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3. 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후인습 수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postconventional ethic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‘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원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’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principles)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의 윤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20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세 이전에 도달하는 경우는 거의 없으며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전체 인구 중 적은 수만이 도달함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사회규칙의 기저에 내재해 있는 보편적 원리에 초점을 맞춤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61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5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사회계약 단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social contract)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규칙과 법은 사회에 이로운 행동에 대한 사람들의 합의를 나타낸다는 믿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따라서 규칙이 더 이상 사회에 필요하지 않다면 규칙을 바꿀 수 있다는 생각을 가짐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11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6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보편적 원리 단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universal principles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보통 사람들에게는 거의 찾아볼 수 없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도덕성 또는 윤리에 대한 결정이 사회규칙을 초월한 추상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보편적 원리에 근거해 이루어짐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3" name="TextBox 12" descr=""/>
          <p:cNvPicPr/>
          <p:nvPr/>
        </p:nvPicPr>
        <p:blipFill>
          <a:blip r:embed="rId1"/>
          <a:stretch/>
        </p:blipFill>
        <p:spPr>
          <a:xfrm>
            <a:off x="3943440" y="506520"/>
            <a:ext cx="529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7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07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76" name="직사각형 13"/>
              <p:cNvSpPr/>
              <p:nvPr/>
            </p:nvSpPr>
            <p:spPr>
              <a:xfrm>
                <a:off x="1456200" y="1385640"/>
                <a:ext cx="253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Kohlberg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7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8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8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8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83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4" name="그룹 91"/>
          <p:cNvGrpSpPr/>
          <p:nvPr/>
        </p:nvGrpSpPr>
        <p:grpSpPr>
          <a:xfrm>
            <a:off x="682560" y="1857240"/>
            <a:ext cx="3510000" cy="551160"/>
            <a:chOff x="682560" y="1857240"/>
            <a:chExt cx="3510000" cy="551160"/>
          </a:xfrm>
        </p:grpSpPr>
        <p:grpSp>
          <p:nvGrpSpPr>
            <p:cNvPr id="1085" name="그룹 34"/>
            <p:cNvGrpSpPr/>
            <p:nvPr/>
          </p:nvGrpSpPr>
          <p:grpSpPr>
            <a:xfrm>
              <a:off x="682560" y="1947600"/>
              <a:ext cx="349200" cy="381240"/>
              <a:chOff x="682560" y="1947600"/>
              <a:chExt cx="349200" cy="381240"/>
            </a:xfrm>
          </p:grpSpPr>
          <p:pic>
            <p:nvPicPr>
              <p:cNvPr id="1086" name="Picture 177" descr="bull"/>
              <p:cNvPicPr/>
              <p:nvPr/>
            </p:nvPicPr>
            <p:blipFill>
              <a:blip r:embed="rId3"/>
              <a:stretch/>
            </p:blipFill>
            <p:spPr>
              <a:xfrm>
                <a:off x="682560" y="197424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7" name="TextBox 36"/>
              <p:cNvSpPr/>
              <p:nvPr/>
            </p:nvSpPr>
            <p:spPr>
              <a:xfrm>
                <a:off x="718560" y="194760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8" name="직사각형 34"/>
            <p:cNvSpPr/>
            <p:nvPr/>
          </p:nvSpPr>
          <p:spPr>
            <a:xfrm>
              <a:off x="1439280" y="1857240"/>
              <a:ext cx="275328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Kohlberg 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이론의 교육적 적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9" name="그룹 47"/>
          <p:cNvGrpSpPr/>
          <p:nvPr/>
        </p:nvGrpSpPr>
        <p:grpSpPr>
          <a:xfrm>
            <a:off x="285840" y="2558880"/>
            <a:ext cx="8715240" cy="1013040"/>
            <a:chOff x="285840" y="2558880"/>
            <a:chExt cx="8715240" cy="1013040"/>
          </a:xfrm>
        </p:grpSpPr>
        <p:pic>
          <p:nvPicPr>
            <p:cNvPr id="1090" name="Picture 5" descr="233"/>
            <p:cNvPicPr/>
            <p:nvPr/>
          </p:nvPicPr>
          <p:blipFill>
            <a:blip r:embed="rId4"/>
            <a:srcRect l="0" t="0" r="24313" b="0"/>
            <a:stretch/>
          </p:blipFill>
          <p:spPr>
            <a:xfrm>
              <a:off x="285840" y="271440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91" name="그룹 142"/>
            <p:cNvGrpSpPr/>
            <p:nvPr/>
          </p:nvGrpSpPr>
          <p:grpSpPr>
            <a:xfrm>
              <a:off x="1147680" y="2558880"/>
              <a:ext cx="1090080" cy="505440"/>
              <a:chOff x="1147680" y="2558880"/>
              <a:chExt cx="1090080" cy="505440"/>
            </a:xfrm>
          </p:grpSpPr>
          <p:grpSp>
            <p:nvGrpSpPr>
              <p:cNvPr id="1092" name="그룹 97"/>
              <p:cNvGrpSpPr/>
              <p:nvPr/>
            </p:nvGrpSpPr>
            <p:grpSpPr>
              <a:xfrm>
                <a:off x="1147680" y="2650680"/>
                <a:ext cx="295200" cy="337320"/>
                <a:chOff x="1147680" y="2650680"/>
                <a:chExt cx="295200" cy="337320"/>
              </a:xfrm>
            </p:grpSpPr>
            <p:pic>
              <p:nvPicPr>
                <p:cNvPr id="1093" name="Picture 177" descr="bull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157760" y="2687760"/>
                  <a:ext cx="28188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94" name="TextBox 146"/>
                <p:cNvSpPr/>
                <p:nvPr/>
              </p:nvSpPr>
              <p:spPr>
                <a:xfrm>
                  <a:off x="1147680" y="265068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95" name="직사각형 40"/>
              <p:cNvSpPr/>
              <p:nvPr/>
            </p:nvSpPr>
            <p:spPr>
              <a:xfrm>
                <a:off x="1508400" y="2558880"/>
                <a:ext cx="7293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교육목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96" name="직선 연결선 43"/>
            <p:cNvSpPr/>
            <p:nvPr/>
          </p:nvSpPr>
          <p:spPr>
            <a:xfrm>
              <a:off x="3643200" y="2855880"/>
              <a:ext cx="457200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7" name="타원 44"/>
            <p:cNvGrpSpPr/>
            <p:nvPr/>
          </p:nvGrpSpPr>
          <p:grpSpPr>
            <a:xfrm>
              <a:off x="1267920" y="3163680"/>
              <a:ext cx="213120" cy="207360"/>
              <a:chOff x="1267920" y="3163680"/>
              <a:chExt cx="213120" cy="207360"/>
            </a:xfrm>
          </p:grpSpPr>
          <p:pic>
            <p:nvPicPr>
              <p:cNvPr id="1098" name="타원 44" descr=""/>
              <p:cNvPicPr/>
              <p:nvPr/>
            </p:nvPicPr>
            <p:blipFill>
              <a:blip r:embed="rId6"/>
              <a:stretch/>
            </p:blipFill>
            <p:spPr>
              <a:xfrm>
                <a:off x="1267920" y="3163680"/>
                <a:ext cx="213120" cy="207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99" name=""/>
              <p:cNvSpPr/>
              <p:nvPr/>
            </p:nvSpPr>
            <p:spPr>
              <a:xfrm rot="10800000">
                <a:off x="1344960" y="321444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0" name="직사각형 45"/>
            <p:cNvSpPr/>
            <p:nvPr/>
          </p:nvSpPr>
          <p:spPr>
            <a:xfrm>
              <a:off x="1428840" y="2992320"/>
              <a:ext cx="7572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추상적인 도덕적 원리에 대한 추리능력 발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1" name="그룹 48"/>
          <p:cNvGrpSpPr/>
          <p:nvPr/>
        </p:nvGrpSpPr>
        <p:grpSpPr>
          <a:xfrm>
            <a:off x="285840" y="3811680"/>
            <a:ext cx="8572320" cy="1011240"/>
            <a:chOff x="285840" y="3811680"/>
            <a:chExt cx="8572320" cy="1011240"/>
          </a:xfrm>
        </p:grpSpPr>
        <p:pic>
          <p:nvPicPr>
            <p:cNvPr id="1102" name="Picture 5" descr="233"/>
            <p:cNvPicPr/>
            <p:nvPr/>
          </p:nvPicPr>
          <p:blipFill>
            <a:blip r:embed="rId7"/>
            <a:srcRect l="0" t="0" r="24313" b="0"/>
            <a:stretch/>
          </p:blipFill>
          <p:spPr>
            <a:xfrm>
              <a:off x="285840" y="3963960"/>
              <a:ext cx="8501040" cy="8589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103" name="그룹 142"/>
            <p:cNvGrpSpPr/>
            <p:nvPr/>
          </p:nvGrpSpPr>
          <p:grpSpPr>
            <a:xfrm>
              <a:off x="1152000" y="3811680"/>
              <a:ext cx="1085760" cy="505440"/>
              <a:chOff x="1152000" y="3811680"/>
              <a:chExt cx="1085760" cy="505440"/>
            </a:xfrm>
          </p:grpSpPr>
          <p:grpSp>
            <p:nvGrpSpPr>
              <p:cNvPr id="1104" name="그룹 97"/>
              <p:cNvGrpSpPr/>
              <p:nvPr/>
            </p:nvGrpSpPr>
            <p:grpSpPr>
              <a:xfrm>
                <a:off x="1152000" y="3901320"/>
                <a:ext cx="305640" cy="337320"/>
                <a:chOff x="1152000" y="3901320"/>
                <a:chExt cx="305640" cy="337320"/>
              </a:xfrm>
            </p:grpSpPr>
            <p:pic>
              <p:nvPicPr>
                <p:cNvPr id="1105" name="Picture 177" descr="bull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158120" y="3938040"/>
                  <a:ext cx="286560" cy="286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06" name="TextBox 146"/>
                <p:cNvSpPr/>
                <p:nvPr/>
              </p:nvSpPr>
              <p:spPr>
                <a:xfrm>
                  <a:off x="1152000" y="390132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07" name="직사각형 55"/>
              <p:cNvSpPr/>
              <p:nvPr/>
            </p:nvSpPr>
            <p:spPr>
              <a:xfrm>
                <a:off x="1508400" y="3811680"/>
                <a:ext cx="7293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교육내용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8" name="직선 연결선 51"/>
            <p:cNvSpPr/>
            <p:nvPr/>
          </p:nvSpPr>
          <p:spPr>
            <a:xfrm>
              <a:off x="3643200" y="4106880"/>
              <a:ext cx="457200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9" name="타원 52"/>
            <p:cNvGrpSpPr/>
            <p:nvPr/>
          </p:nvGrpSpPr>
          <p:grpSpPr>
            <a:xfrm>
              <a:off x="1267920" y="4413600"/>
              <a:ext cx="213120" cy="207000"/>
              <a:chOff x="1267920" y="4413600"/>
              <a:chExt cx="213120" cy="207000"/>
            </a:xfrm>
          </p:grpSpPr>
          <p:pic>
            <p:nvPicPr>
              <p:cNvPr id="1110" name="타원 52" descr=""/>
              <p:cNvPicPr/>
              <p:nvPr/>
            </p:nvPicPr>
            <p:blipFill>
              <a:blip r:embed="rId9"/>
              <a:stretch/>
            </p:blipFill>
            <p:spPr>
              <a:xfrm>
                <a:off x="1267920" y="441360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1" name=""/>
              <p:cNvSpPr/>
              <p:nvPr/>
            </p:nvSpPr>
            <p:spPr>
              <a:xfrm rot="10800000">
                <a:off x="1344960" y="446508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2" name="직사각형 53"/>
            <p:cNvSpPr/>
            <p:nvPr/>
          </p:nvSpPr>
          <p:spPr>
            <a:xfrm>
              <a:off x="1285920" y="4235400"/>
              <a:ext cx="7572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적 갈등상황을 제시하여 인지갈등을 유발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3" name="그룹 58"/>
          <p:cNvGrpSpPr/>
          <p:nvPr/>
        </p:nvGrpSpPr>
        <p:grpSpPr>
          <a:xfrm>
            <a:off x="285840" y="5072040"/>
            <a:ext cx="8572320" cy="1000080"/>
            <a:chOff x="285840" y="5072040"/>
            <a:chExt cx="8572320" cy="1000080"/>
          </a:xfrm>
        </p:grpSpPr>
        <p:pic>
          <p:nvPicPr>
            <p:cNvPr id="1114" name="Picture 5" descr="233"/>
            <p:cNvPicPr/>
            <p:nvPr/>
          </p:nvPicPr>
          <p:blipFill>
            <a:blip r:embed="rId10"/>
            <a:srcRect l="0" t="0" r="24313" b="0"/>
            <a:stretch/>
          </p:blipFill>
          <p:spPr>
            <a:xfrm>
              <a:off x="285840" y="5214960"/>
              <a:ext cx="8501040" cy="8571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115" name="그룹 142"/>
            <p:cNvGrpSpPr/>
            <p:nvPr/>
          </p:nvGrpSpPr>
          <p:grpSpPr>
            <a:xfrm>
              <a:off x="1157400" y="5072040"/>
              <a:ext cx="1080360" cy="505440"/>
              <a:chOff x="1157400" y="5072040"/>
              <a:chExt cx="1080360" cy="505440"/>
            </a:xfrm>
          </p:grpSpPr>
          <p:grpSp>
            <p:nvGrpSpPr>
              <p:cNvPr id="1116" name="그룹 97"/>
              <p:cNvGrpSpPr/>
              <p:nvPr/>
            </p:nvGrpSpPr>
            <p:grpSpPr>
              <a:xfrm>
                <a:off x="1157400" y="5151240"/>
                <a:ext cx="283680" cy="337320"/>
                <a:chOff x="1157400" y="5151240"/>
                <a:chExt cx="283680" cy="337320"/>
              </a:xfrm>
            </p:grpSpPr>
            <p:pic>
              <p:nvPicPr>
                <p:cNvPr id="1117" name="Picture 177" descr="bull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1157760" y="5187240"/>
                  <a:ext cx="283320" cy="286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18" name="TextBox 146"/>
                <p:cNvSpPr/>
                <p:nvPr/>
              </p:nvSpPr>
              <p:spPr>
                <a:xfrm>
                  <a:off x="1157400" y="515124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19" name="직사각형 65"/>
              <p:cNvSpPr/>
              <p:nvPr/>
            </p:nvSpPr>
            <p:spPr>
              <a:xfrm>
                <a:off x="1508400" y="5072040"/>
                <a:ext cx="7293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교육방법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20" name="직선 연결선 61"/>
            <p:cNvSpPr/>
            <p:nvPr/>
          </p:nvSpPr>
          <p:spPr>
            <a:xfrm>
              <a:off x="3643200" y="5356080"/>
              <a:ext cx="457200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21" name="타원 62"/>
            <p:cNvGrpSpPr/>
            <p:nvPr/>
          </p:nvGrpSpPr>
          <p:grpSpPr>
            <a:xfrm>
              <a:off x="1267920" y="5663160"/>
              <a:ext cx="213120" cy="207000"/>
              <a:chOff x="1267920" y="5663160"/>
              <a:chExt cx="213120" cy="207000"/>
            </a:xfrm>
          </p:grpSpPr>
          <p:pic>
            <p:nvPicPr>
              <p:cNvPr id="1122" name="타원 62" descr=""/>
              <p:cNvPicPr/>
              <p:nvPr/>
            </p:nvPicPr>
            <p:blipFill>
              <a:blip r:embed="rId12"/>
              <a:stretch/>
            </p:blipFill>
            <p:spPr>
              <a:xfrm>
                <a:off x="1267920" y="566316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23" name=""/>
              <p:cNvSpPr/>
              <p:nvPr/>
            </p:nvSpPr>
            <p:spPr>
              <a:xfrm rot="10800000">
                <a:off x="1344960" y="5715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24" name="직사각형 63"/>
            <p:cNvSpPr/>
            <p:nvPr/>
          </p:nvSpPr>
          <p:spPr>
            <a:xfrm>
              <a:off x="1285920" y="5484600"/>
              <a:ext cx="7572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적 갈등상황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대한 토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25" name="Picture 12" descr="C:\Documents and Settings\신형수\Local Settings\Temporary Internet Files\Content.IE5\9JTT3WZL\MCj04217600000[1].wmf"/>
          <p:cNvPicPr/>
          <p:nvPr/>
        </p:nvPicPr>
        <p:blipFill>
          <a:blip r:embed="rId13"/>
          <a:stretch/>
        </p:blipFill>
        <p:spPr>
          <a:xfrm>
            <a:off x="7500960" y="5357880"/>
            <a:ext cx="1174680" cy="993600"/>
          </a:xfrm>
          <a:prstGeom prst="rect">
            <a:avLst/>
          </a:prstGeom>
          <a:ln w="0">
            <a:noFill/>
          </a:ln>
        </p:spPr>
      </p:pic>
      <p:sp>
        <p:nvSpPr>
          <p:cNvPr id="1126" name="슬라이드 번호 개체 틀 46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7B870-D035-4538-8B1D-F5B874AD5838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7" name="TextBox 12" descr=""/>
          <p:cNvPicPr/>
          <p:nvPr/>
        </p:nvPicPr>
        <p:blipFill>
          <a:blip r:embed="rId1"/>
          <a:stretch/>
        </p:blipFill>
        <p:spPr>
          <a:xfrm>
            <a:off x="3943440" y="506520"/>
            <a:ext cx="529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28" name="그룹 29"/>
          <p:cNvGrpSpPr/>
          <p:nvPr/>
        </p:nvGrpSpPr>
        <p:grpSpPr>
          <a:xfrm>
            <a:off x="1143000" y="2643120"/>
            <a:ext cx="7105680" cy="593640"/>
            <a:chOff x="1143000" y="2643120"/>
            <a:chExt cx="7105680" cy="593640"/>
          </a:xfrm>
        </p:grpSpPr>
        <p:grpSp>
          <p:nvGrpSpPr>
            <p:cNvPr id="1129" name="Group 17"/>
            <p:cNvGrpSpPr/>
            <p:nvPr/>
          </p:nvGrpSpPr>
          <p:grpSpPr>
            <a:xfrm>
              <a:off x="1425240" y="2643120"/>
              <a:ext cx="6575040" cy="593640"/>
              <a:chOff x="1425240" y="2643120"/>
              <a:chExt cx="6575040" cy="593640"/>
            </a:xfrm>
          </p:grpSpPr>
          <p:sp>
            <p:nvSpPr>
              <p:cNvPr id="1130" name="Rectangle 18"/>
              <p:cNvSpPr/>
              <p:nvPr/>
            </p:nvSpPr>
            <p:spPr>
              <a:xfrm flipH="1">
                <a:off x="1446120" y="2643120"/>
                <a:ext cx="396072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1" name="Rectangle 19"/>
              <p:cNvSpPr/>
              <p:nvPr/>
            </p:nvSpPr>
            <p:spPr>
              <a:xfrm flipH="1">
                <a:off x="1425240" y="2703240"/>
                <a:ext cx="657504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2" name="Group 20"/>
            <p:cNvGrpSpPr/>
            <p:nvPr/>
          </p:nvGrpSpPr>
          <p:grpSpPr>
            <a:xfrm>
              <a:off x="1143000" y="2660400"/>
              <a:ext cx="529920" cy="526680"/>
              <a:chOff x="1143000" y="2660400"/>
              <a:chExt cx="529920" cy="526680"/>
            </a:xfrm>
          </p:grpSpPr>
          <p:sp>
            <p:nvSpPr>
              <p:cNvPr id="1133" name="Oval 21"/>
              <p:cNvSpPr/>
              <p:nvPr/>
            </p:nvSpPr>
            <p:spPr>
              <a:xfrm>
                <a:off x="1143000" y="26629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34" name="Picture 22" descr="cir_lighteffect0"/>
              <p:cNvPicPr/>
              <p:nvPr/>
            </p:nvPicPr>
            <p:blipFill>
              <a:blip r:embed="rId2"/>
              <a:stretch/>
            </p:blipFill>
            <p:spPr>
              <a:xfrm>
                <a:off x="1187640" y="26604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35" name="Group 35"/>
            <p:cNvGrpSpPr/>
            <p:nvPr/>
          </p:nvGrpSpPr>
          <p:grpSpPr>
            <a:xfrm>
              <a:off x="1182960" y="2781000"/>
              <a:ext cx="362880" cy="280800"/>
              <a:chOff x="1182960" y="2781000"/>
              <a:chExt cx="362880" cy="280800"/>
            </a:xfrm>
          </p:grpSpPr>
          <p:grpSp>
            <p:nvGrpSpPr>
              <p:cNvPr id="1136" name="Group 36"/>
              <p:cNvGrpSpPr/>
              <p:nvPr/>
            </p:nvGrpSpPr>
            <p:grpSpPr>
              <a:xfrm>
                <a:off x="1182960" y="2781000"/>
                <a:ext cx="362880" cy="280800"/>
                <a:chOff x="1182960" y="2781000"/>
                <a:chExt cx="362880" cy="280800"/>
              </a:xfrm>
            </p:grpSpPr>
            <p:sp>
              <p:nvSpPr>
                <p:cNvPr id="1137" name="AutoShape 37"/>
                <p:cNvSpPr/>
                <p:nvPr/>
              </p:nvSpPr>
              <p:spPr>
                <a:xfrm>
                  <a:off x="1258200" y="28681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8" name="AutoShape 38"/>
                <p:cNvSpPr/>
                <p:nvPr/>
              </p:nvSpPr>
              <p:spPr>
                <a:xfrm rot="20706600">
                  <a:off x="1202760" y="28144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39" name="Line 39"/>
              <p:cNvSpPr/>
              <p:nvPr/>
            </p:nvSpPr>
            <p:spPr>
              <a:xfrm flipV="1">
                <a:off x="1233720" y="28569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40" name="Rectangle 42"/>
            <p:cNvSpPr/>
            <p:nvPr/>
          </p:nvSpPr>
          <p:spPr>
            <a:xfrm>
              <a:off x="1714320" y="274464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도덕적 판단수준이 높다고 해서 도덕적으로 행동하는 것은 아니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1" name="그룹 42"/>
          <p:cNvGrpSpPr/>
          <p:nvPr/>
        </p:nvGrpSpPr>
        <p:grpSpPr>
          <a:xfrm>
            <a:off x="1143000" y="3405240"/>
            <a:ext cx="7072200" cy="593640"/>
            <a:chOff x="1143000" y="3405240"/>
            <a:chExt cx="7072200" cy="593640"/>
          </a:xfrm>
        </p:grpSpPr>
        <p:grpSp>
          <p:nvGrpSpPr>
            <p:cNvPr id="1142" name="Group 17"/>
            <p:cNvGrpSpPr/>
            <p:nvPr/>
          </p:nvGrpSpPr>
          <p:grpSpPr>
            <a:xfrm>
              <a:off x="1424880" y="3405240"/>
              <a:ext cx="6574680" cy="593640"/>
              <a:chOff x="1424880" y="3405240"/>
              <a:chExt cx="6574680" cy="593640"/>
            </a:xfrm>
          </p:grpSpPr>
          <p:sp>
            <p:nvSpPr>
              <p:cNvPr id="1143" name="Rectangle 18"/>
              <p:cNvSpPr/>
              <p:nvPr/>
            </p:nvSpPr>
            <p:spPr>
              <a:xfrm flipH="1">
                <a:off x="1445400" y="340524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4" name="Rectangle 19"/>
              <p:cNvSpPr/>
              <p:nvPr/>
            </p:nvSpPr>
            <p:spPr>
              <a:xfrm flipH="1">
                <a:off x="1424520" y="346536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5" name="Group 20"/>
            <p:cNvGrpSpPr/>
            <p:nvPr/>
          </p:nvGrpSpPr>
          <p:grpSpPr>
            <a:xfrm>
              <a:off x="1143000" y="3422520"/>
              <a:ext cx="529920" cy="526680"/>
              <a:chOff x="1143000" y="3422520"/>
              <a:chExt cx="529920" cy="526680"/>
            </a:xfrm>
          </p:grpSpPr>
          <p:sp>
            <p:nvSpPr>
              <p:cNvPr id="1146" name="Oval 21"/>
              <p:cNvSpPr/>
              <p:nvPr/>
            </p:nvSpPr>
            <p:spPr>
              <a:xfrm>
                <a:off x="1143000" y="342504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47" name="Picture 22" descr="cir_lighteffect0"/>
              <p:cNvPicPr/>
              <p:nvPr/>
            </p:nvPicPr>
            <p:blipFill>
              <a:blip r:embed="rId3"/>
              <a:stretch/>
            </p:blipFill>
            <p:spPr>
              <a:xfrm>
                <a:off x="1187640" y="342252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48" name="Group 35"/>
            <p:cNvGrpSpPr/>
            <p:nvPr/>
          </p:nvGrpSpPr>
          <p:grpSpPr>
            <a:xfrm>
              <a:off x="1182960" y="3543120"/>
              <a:ext cx="362880" cy="280800"/>
              <a:chOff x="1182960" y="3543120"/>
              <a:chExt cx="362880" cy="280800"/>
            </a:xfrm>
          </p:grpSpPr>
          <p:grpSp>
            <p:nvGrpSpPr>
              <p:cNvPr id="1149" name="Group 36"/>
              <p:cNvGrpSpPr/>
              <p:nvPr/>
            </p:nvGrpSpPr>
            <p:grpSpPr>
              <a:xfrm>
                <a:off x="1182960" y="3543120"/>
                <a:ext cx="362880" cy="280800"/>
                <a:chOff x="1182960" y="3543120"/>
                <a:chExt cx="362880" cy="280800"/>
              </a:xfrm>
            </p:grpSpPr>
            <p:sp>
              <p:nvSpPr>
                <p:cNvPr id="1150" name="AutoShape 37"/>
                <p:cNvSpPr/>
                <p:nvPr/>
              </p:nvSpPr>
              <p:spPr>
                <a:xfrm>
                  <a:off x="1258200" y="363024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1" name="AutoShape 38"/>
                <p:cNvSpPr/>
                <p:nvPr/>
              </p:nvSpPr>
              <p:spPr>
                <a:xfrm rot="20706600">
                  <a:off x="1202760" y="357660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2" name="Line 39"/>
              <p:cNvSpPr/>
              <p:nvPr/>
            </p:nvSpPr>
            <p:spPr>
              <a:xfrm flipV="1">
                <a:off x="1233720" y="361908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53" name="Rectangle 42"/>
            <p:cNvSpPr/>
            <p:nvPr/>
          </p:nvSpPr>
          <p:spPr>
            <a:xfrm>
              <a:off x="1680840" y="353520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후인습수준의 발달단계는 문화적으로 편향되어 있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4" name="그룹 55"/>
          <p:cNvGrpSpPr/>
          <p:nvPr/>
        </p:nvGrpSpPr>
        <p:grpSpPr>
          <a:xfrm>
            <a:off x="1143000" y="4168800"/>
            <a:ext cx="7072200" cy="593640"/>
            <a:chOff x="1143000" y="4168800"/>
            <a:chExt cx="7072200" cy="593640"/>
          </a:xfrm>
        </p:grpSpPr>
        <p:grpSp>
          <p:nvGrpSpPr>
            <p:cNvPr id="1155" name="Group 17"/>
            <p:cNvGrpSpPr/>
            <p:nvPr/>
          </p:nvGrpSpPr>
          <p:grpSpPr>
            <a:xfrm>
              <a:off x="1424880" y="4168800"/>
              <a:ext cx="6574680" cy="593640"/>
              <a:chOff x="1424880" y="4168800"/>
              <a:chExt cx="6574680" cy="593640"/>
            </a:xfrm>
          </p:grpSpPr>
          <p:sp>
            <p:nvSpPr>
              <p:cNvPr id="1156" name="Rectangle 18"/>
              <p:cNvSpPr/>
              <p:nvPr/>
            </p:nvSpPr>
            <p:spPr>
              <a:xfrm flipH="1">
                <a:off x="1445400" y="416880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7" name="Rectangle 19"/>
              <p:cNvSpPr/>
              <p:nvPr/>
            </p:nvSpPr>
            <p:spPr>
              <a:xfrm flipH="1">
                <a:off x="1424520" y="422892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8" name="Group 20"/>
            <p:cNvGrpSpPr/>
            <p:nvPr/>
          </p:nvGrpSpPr>
          <p:grpSpPr>
            <a:xfrm>
              <a:off x="1143000" y="4186080"/>
              <a:ext cx="529920" cy="526680"/>
              <a:chOff x="1143000" y="4186080"/>
              <a:chExt cx="529920" cy="526680"/>
            </a:xfrm>
          </p:grpSpPr>
          <p:sp>
            <p:nvSpPr>
              <p:cNvPr id="1159" name="Oval 21"/>
              <p:cNvSpPr/>
              <p:nvPr/>
            </p:nvSpPr>
            <p:spPr>
              <a:xfrm>
                <a:off x="1143000" y="418860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60" name="Picture 22" descr="cir_lighteffect0"/>
              <p:cNvPicPr/>
              <p:nvPr/>
            </p:nvPicPr>
            <p:blipFill>
              <a:blip r:embed="rId4"/>
              <a:stretch/>
            </p:blipFill>
            <p:spPr>
              <a:xfrm>
                <a:off x="1187640" y="418608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61" name="Group 35"/>
            <p:cNvGrpSpPr/>
            <p:nvPr/>
          </p:nvGrpSpPr>
          <p:grpSpPr>
            <a:xfrm>
              <a:off x="1182960" y="4306680"/>
              <a:ext cx="362880" cy="280800"/>
              <a:chOff x="1182960" y="4306680"/>
              <a:chExt cx="362880" cy="280800"/>
            </a:xfrm>
          </p:grpSpPr>
          <p:grpSp>
            <p:nvGrpSpPr>
              <p:cNvPr id="1162" name="Group 36"/>
              <p:cNvGrpSpPr/>
              <p:nvPr/>
            </p:nvGrpSpPr>
            <p:grpSpPr>
              <a:xfrm>
                <a:off x="1182960" y="4306680"/>
                <a:ext cx="362880" cy="280800"/>
                <a:chOff x="1182960" y="4306680"/>
                <a:chExt cx="362880" cy="280800"/>
              </a:xfrm>
            </p:grpSpPr>
            <p:sp>
              <p:nvSpPr>
                <p:cNvPr id="1163" name="AutoShape 37"/>
                <p:cNvSpPr/>
                <p:nvPr/>
              </p:nvSpPr>
              <p:spPr>
                <a:xfrm>
                  <a:off x="1258200" y="439380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4" name="AutoShape 38"/>
                <p:cNvSpPr/>
                <p:nvPr/>
              </p:nvSpPr>
              <p:spPr>
                <a:xfrm rot="20706600">
                  <a:off x="1202760" y="43401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65" name="Line 39"/>
              <p:cNvSpPr/>
              <p:nvPr/>
            </p:nvSpPr>
            <p:spPr>
              <a:xfrm flipV="1">
                <a:off x="1233720" y="438264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66" name="Rectangle 42"/>
            <p:cNvSpPr/>
            <p:nvPr/>
          </p:nvSpPr>
          <p:spPr>
            <a:xfrm>
              <a:off x="1680840" y="429876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도덕발달단계가 질적인 측면에서 뚜렷하게 구분되지 않는다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7" name="그룹 68"/>
          <p:cNvGrpSpPr/>
          <p:nvPr/>
        </p:nvGrpSpPr>
        <p:grpSpPr>
          <a:xfrm>
            <a:off x="1143000" y="4930920"/>
            <a:ext cx="7715160" cy="593640"/>
            <a:chOff x="1143000" y="4930920"/>
            <a:chExt cx="7715160" cy="593640"/>
          </a:xfrm>
        </p:grpSpPr>
        <p:grpSp>
          <p:nvGrpSpPr>
            <p:cNvPr id="1168" name="Group 17"/>
            <p:cNvGrpSpPr/>
            <p:nvPr/>
          </p:nvGrpSpPr>
          <p:grpSpPr>
            <a:xfrm>
              <a:off x="1424880" y="4930920"/>
              <a:ext cx="6574680" cy="593640"/>
              <a:chOff x="1424880" y="4930920"/>
              <a:chExt cx="6574680" cy="593640"/>
            </a:xfrm>
          </p:grpSpPr>
          <p:sp>
            <p:nvSpPr>
              <p:cNvPr id="1169" name="Rectangle 18"/>
              <p:cNvSpPr/>
              <p:nvPr/>
            </p:nvSpPr>
            <p:spPr>
              <a:xfrm flipH="1">
                <a:off x="1445400" y="49309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0" name="Rectangle 19"/>
              <p:cNvSpPr/>
              <p:nvPr/>
            </p:nvSpPr>
            <p:spPr>
              <a:xfrm flipH="1">
                <a:off x="1424520" y="49910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71" name="Group 20"/>
            <p:cNvGrpSpPr/>
            <p:nvPr/>
          </p:nvGrpSpPr>
          <p:grpSpPr>
            <a:xfrm>
              <a:off x="1143000" y="4948200"/>
              <a:ext cx="529920" cy="526680"/>
              <a:chOff x="1143000" y="4948200"/>
              <a:chExt cx="529920" cy="526680"/>
            </a:xfrm>
          </p:grpSpPr>
          <p:sp>
            <p:nvSpPr>
              <p:cNvPr id="1172" name="Oval 21"/>
              <p:cNvSpPr/>
              <p:nvPr/>
            </p:nvSpPr>
            <p:spPr>
              <a:xfrm>
                <a:off x="1143000" y="49507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73" name="Picture 22" descr="cir_lighteffect0"/>
              <p:cNvPicPr/>
              <p:nvPr/>
            </p:nvPicPr>
            <p:blipFill>
              <a:blip r:embed="rId5"/>
              <a:stretch/>
            </p:blipFill>
            <p:spPr>
              <a:xfrm>
                <a:off x="1187640" y="49482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74" name="Group 35"/>
            <p:cNvGrpSpPr/>
            <p:nvPr/>
          </p:nvGrpSpPr>
          <p:grpSpPr>
            <a:xfrm>
              <a:off x="1182960" y="5068800"/>
              <a:ext cx="362880" cy="280800"/>
              <a:chOff x="1182960" y="5068800"/>
              <a:chExt cx="362880" cy="280800"/>
            </a:xfrm>
          </p:grpSpPr>
          <p:grpSp>
            <p:nvGrpSpPr>
              <p:cNvPr id="1175" name="Group 36"/>
              <p:cNvGrpSpPr/>
              <p:nvPr/>
            </p:nvGrpSpPr>
            <p:grpSpPr>
              <a:xfrm>
                <a:off x="1182960" y="5068800"/>
                <a:ext cx="362880" cy="280800"/>
                <a:chOff x="1182960" y="5068800"/>
                <a:chExt cx="362880" cy="280800"/>
              </a:xfrm>
            </p:grpSpPr>
            <p:sp>
              <p:nvSpPr>
                <p:cNvPr id="1176" name="AutoShape 37"/>
                <p:cNvSpPr/>
                <p:nvPr/>
              </p:nvSpPr>
              <p:spPr>
                <a:xfrm>
                  <a:off x="1258200" y="51559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7" name="AutoShape 38"/>
                <p:cNvSpPr/>
                <p:nvPr/>
              </p:nvSpPr>
              <p:spPr>
                <a:xfrm rot="20706600">
                  <a:off x="1202760" y="51022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78" name="Line 39"/>
              <p:cNvSpPr/>
              <p:nvPr/>
            </p:nvSpPr>
            <p:spPr>
              <a:xfrm flipV="1">
                <a:off x="1233720" y="51447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79" name="Rectangle 42"/>
            <p:cNvSpPr/>
            <p:nvPr/>
          </p:nvSpPr>
          <p:spPr>
            <a:xfrm>
              <a:off x="1680840" y="5046840"/>
              <a:ext cx="7177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도덕발달의 퇴행은 도덕발달이론의 타당성에 대해 근본적인 의문을 제기한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0" name="그룹 81"/>
          <p:cNvGrpSpPr/>
          <p:nvPr/>
        </p:nvGrpSpPr>
        <p:grpSpPr>
          <a:xfrm>
            <a:off x="1143000" y="5692680"/>
            <a:ext cx="7072200" cy="593640"/>
            <a:chOff x="1143000" y="5692680"/>
            <a:chExt cx="7072200" cy="593640"/>
          </a:xfrm>
        </p:grpSpPr>
        <p:grpSp>
          <p:nvGrpSpPr>
            <p:cNvPr id="1181" name="Group 17"/>
            <p:cNvGrpSpPr/>
            <p:nvPr/>
          </p:nvGrpSpPr>
          <p:grpSpPr>
            <a:xfrm>
              <a:off x="1424880" y="5692680"/>
              <a:ext cx="6574680" cy="593640"/>
              <a:chOff x="1424880" y="5692680"/>
              <a:chExt cx="6574680" cy="593640"/>
            </a:xfrm>
          </p:grpSpPr>
          <p:sp>
            <p:nvSpPr>
              <p:cNvPr id="1182" name="Rectangle 18"/>
              <p:cNvSpPr/>
              <p:nvPr/>
            </p:nvSpPr>
            <p:spPr>
              <a:xfrm flipH="1">
                <a:off x="1445400" y="569268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3" name="Rectangle 19"/>
              <p:cNvSpPr/>
              <p:nvPr/>
            </p:nvSpPr>
            <p:spPr>
              <a:xfrm flipH="1">
                <a:off x="1424520" y="575280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4" name="Group 20"/>
            <p:cNvGrpSpPr/>
            <p:nvPr/>
          </p:nvGrpSpPr>
          <p:grpSpPr>
            <a:xfrm>
              <a:off x="1143000" y="5709960"/>
              <a:ext cx="529920" cy="527040"/>
              <a:chOff x="1143000" y="5709960"/>
              <a:chExt cx="529920" cy="527040"/>
            </a:xfrm>
          </p:grpSpPr>
          <p:sp>
            <p:nvSpPr>
              <p:cNvPr id="1185" name="Oval 21"/>
              <p:cNvSpPr/>
              <p:nvPr/>
            </p:nvSpPr>
            <p:spPr>
              <a:xfrm>
                <a:off x="1143000" y="5712480"/>
                <a:ext cx="529920" cy="52452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86" name="Picture 22" descr="cir_lighteffect0"/>
              <p:cNvPicPr/>
              <p:nvPr/>
            </p:nvPicPr>
            <p:blipFill>
              <a:blip r:embed="rId6"/>
              <a:stretch/>
            </p:blipFill>
            <p:spPr>
              <a:xfrm>
                <a:off x="1187640" y="5709960"/>
                <a:ext cx="438120" cy="438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87" name="Group 35"/>
            <p:cNvGrpSpPr/>
            <p:nvPr/>
          </p:nvGrpSpPr>
          <p:grpSpPr>
            <a:xfrm>
              <a:off x="1182960" y="5830560"/>
              <a:ext cx="362880" cy="280800"/>
              <a:chOff x="1182960" y="5830560"/>
              <a:chExt cx="362880" cy="280800"/>
            </a:xfrm>
          </p:grpSpPr>
          <p:grpSp>
            <p:nvGrpSpPr>
              <p:cNvPr id="1188" name="Group 36"/>
              <p:cNvGrpSpPr/>
              <p:nvPr/>
            </p:nvGrpSpPr>
            <p:grpSpPr>
              <a:xfrm>
                <a:off x="1182960" y="5830560"/>
                <a:ext cx="362880" cy="280800"/>
                <a:chOff x="1182960" y="5830560"/>
                <a:chExt cx="362880" cy="280800"/>
              </a:xfrm>
            </p:grpSpPr>
            <p:sp>
              <p:nvSpPr>
                <p:cNvPr id="1189" name="AutoShape 37"/>
                <p:cNvSpPr/>
                <p:nvPr/>
              </p:nvSpPr>
              <p:spPr>
                <a:xfrm>
                  <a:off x="1258200" y="59176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0" name="AutoShape 38"/>
                <p:cNvSpPr/>
                <p:nvPr/>
              </p:nvSpPr>
              <p:spPr>
                <a:xfrm rot="20706600">
                  <a:off x="1202760" y="586404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91" name="Line 39"/>
              <p:cNvSpPr/>
              <p:nvPr/>
            </p:nvSpPr>
            <p:spPr>
              <a:xfrm flipV="1">
                <a:off x="1233720" y="590652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2" name="Rectangle 42"/>
            <p:cNvSpPr/>
            <p:nvPr/>
          </p:nvSpPr>
          <p:spPr>
            <a:xfrm>
              <a:off x="1680840" y="582264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여성의 도덕발달을 왜곡하고 있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3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19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95" name="직사각형 13"/>
              <p:cNvSpPr/>
              <p:nvPr/>
            </p:nvSpPr>
            <p:spPr>
              <a:xfrm>
                <a:off x="1456200" y="1385640"/>
                <a:ext cx="253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Kohlberg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9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9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9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00" name="Freeform 5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0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02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3" name="그룹 91"/>
          <p:cNvGrpSpPr/>
          <p:nvPr/>
        </p:nvGrpSpPr>
        <p:grpSpPr>
          <a:xfrm>
            <a:off x="682560" y="1857240"/>
            <a:ext cx="3305880" cy="551160"/>
            <a:chOff x="682560" y="1857240"/>
            <a:chExt cx="3305880" cy="551160"/>
          </a:xfrm>
        </p:grpSpPr>
        <p:grpSp>
          <p:nvGrpSpPr>
            <p:cNvPr id="1204" name="그룹 34"/>
            <p:cNvGrpSpPr/>
            <p:nvPr/>
          </p:nvGrpSpPr>
          <p:grpSpPr>
            <a:xfrm>
              <a:off x="682560" y="1947600"/>
              <a:ext cx="349200" cy="381240"/>
              <a:chOff x="682560" y="1947600"/>
              <a:chExt cx="349200" cy="381240"/>
            </a:xfrm>
          </p:grpSpPr>
          <p:pic>
            <p:nvPicPr>
              <p:cNvPr id="1205" name="Picture 177" descr="bull"/>
              <p:cNvPicPr/>
              <p:nvPr/>
            </p:nvPicPr>
            <p:blipFill>
              <a:blip r:embed="rId8"/>
              <a:stretch/>
            </p:blipFill>
            <p:spPr>
              <a:xfrm>
                <a:off x="682560" y="197424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6" name="TextBox 96"/>
              <p:cNvSpPr/>
              <p:nvPr/>
            </p:nvSpPr>
            <p:spPr>
              <a:xfrm>
                <a:off x="718920" y="194760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4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7" name="직사각형 94"/>
            <p:cNvSpPr/>
            <p:nvPr/>
          </p:nvSpPr>
          <p:spPr>
            <a:xfrm>
              <a:off x="1387800" y="1857240"/>
              <a:ext cx="26006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Kohlberg 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이론에 대한 비판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8" name="슬라이드 번호 개체 틀 80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56687-7B8D-4176-B66C-72D23B46CC30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8FD4E91F-8CE0-406A-A268-0D8C1A760D9D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PlaceHolder 1"/>
          <p:cNvSpPr>
            <a:spLocks noGrp="1"/>
          </p:cNvSpPr>
          <p:nvPr>
            <p:ph/>
          </p:nvPr>
        </p:nvSpPr>
        <p:spPr>
          <a:xfrm>
            <a:off x="-71640" y="1503000"/>
            <a:ext cx="9072360" cy="55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치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shame)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신이 옳다고 믿는 방식대로 행동하거나 생각하지 않았을 때 일어나는 고통스런 감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죄책감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guilty)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다른 사람의 마음에 고통을 주었음을 알 때 느끼는 불편한 감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4f81bd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i="1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치와 죄책감을 느낀다는 것은 도덕성이 발달해 가고 있으며 미래의 행동이 개선될 것임을 나타냄</a:t>
            </a:r>
            <a:r>
              <a:rPr b="0" i="1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공감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empathy)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타인의 감정을 경험할 수 있는 능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c0504d"/>
              </a:buClr>
              <a:buFont typeface="휴먼모음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공감과 동정이 결합할 때 도덕적인고 친사회적인 행동이 나타날 가능성이 더욱 커짐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c0504d"/>
              </a:buClr>
              <a:buFont typeface="휴먼모음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공감은 학년기를 통해 발달해 나감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(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가까운 집단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&gt;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먼 집단으로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c0504d"/>
              </a:buClr>
              <a:buFont typeface="휴먼모음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사는 공감과 협동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나눔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상처받은 급우 위로하기 등과 같은 친사회적 행동을 길러줄 기회를 많이 가짐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1" name="제목 4" descr=""/>
          <p:cNvPicPr/>
          <p:nvPr/>
        </p:nvPicPr>
        <p:blipFill>
          <a:blip r:embed="rId1"/>
          <a:stretch/>
        </p:blipFill>
        <p:spPr>
          <a:xfrm>
            <a:off x="3700440" y="274680"/>
            <a:ext cx="545004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2" name="TextBox 12" descr=""/>
          <p:cNvPicPr/>
          <p:nvPr/>
        </p:nvPicPr>
        <p:blipFill>
          <a:blip r:embed="rId1"/>
          <a:stretch/>
        </p:blipFill>
        <p:spPr>
          <a:xfrm>
            <a:off x="3943440" y="506520"/>
            <a:ext cx="529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13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21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15" name="직사각형 13"/>
              <p:cNvSpPr/>
              <p:nvPr/>
            </p:nvSpPr>
            <p:spPr>
              <a:xfrm>
                <a:off x="1396440" y="1385640"/>
                <a:ext cx="2352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Gilligan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1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1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2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2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22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3" name="그룹 123"/>
          <p:cNvGrpSpPr/>
          <p:nvPr/>
        </p:nvGrpSpPr>
        <p:grpSpPr>
          <a:xfrm>
            <a:off x="642960" y="2071800"/>
            <a:ext cx="8143920" cy="1714320"/>
            <a:chOff x="642960" y="2071800"/>
            <a:chExt cx="8143920" cy="1714320"/>
          </a:xfrm>
        </p:grpSpPr>
        <p:pic>
          <p:nvPicPr>
            <p:cNvPr id="1224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642960" y="2071800"/>
              <a:ext cx="8072640" cy="17143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225" name="직사각형 29"/>
            <p:cNvSpPr/>
            <p:nvPr/>
          </p:nvSpPr>
          <p:spPr>
            <a:xfrm>
              <a:off x="857160" y="2071800"/>
              <a:ext cx="79297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남성과 여성의 도덕발달은 다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여성의 도덕발달은 추상적 원리가 아니라 공정성과 평등을 지향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배려의 도덕성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26" name="타원 30"/>
            <p:cNvGrpSpPr/>
            <p:nvPr/>
          </p:nvGrpSpPr>
          <p:grpSpPr>
            <a:xfrm>
              <a:off x="914400" y="2889360"/>
              <a:ext cx="213120" cy="213120"/>
              <a:chOff x="914400" y="2889360"/>
              <a:chExt cx="213120" cy="213120"/>
            </a:xfrm>
          </p:grpSpPr>
          <p:pic>
            <p:nvPicPr>
              <p:cNvPr id="1227" name="타원 30" descr=""/>
              <p:cNvPicPr/>
              <p:nvPr/>
            </p:nvPicPr>
            <p:blipFill>
              <a:blip r:embed="rId4"/>
              <a:stretch/>
            </p:blipFill>
            <p:spPr>
              <a:xfrm>
                <a:off x="914400" y="2889360"/>
                <a:ext cx="213120" cy="213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28" name=""/>
              <p:cNvSpPr/>
              <p:nvPr/>
            </p:nvSpPr>
            <p:spPr>
              <a:xfrm rot="10800000">
                <a:off x="987480" y="2943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29" name="타원 31"/>
            <p:cNvGrpSpPr/>
            <p:nvPr/>
          </p:nvGrpSpPr>
          <p:grpSpPr>
            <a:xfrm>
              <a:off x="914400" y="2365200"/>
              <a:ext cx="213120" cy="207000"/>
              <a:chOff x="914400" y="2365200"/>
              <a:chExt cx="213120" cy="207000"/>
            </a:xfrm>
          </p:grpSpPr>
          <p:pic>
            <p:nvPicPr>
              <p:cNvPr id="1230" name="타원 31" descr=""/>
              <p:cNvPicPr/>
              <p:nvPr/>
            </p:nvPicPr>
            <p:blipFill>
              <a:blip r:embed="rId5"/>
              <a:stretch/>
            </p:blipFill>
            <p:spPr>
              <a:xfrm>
                <a:off x="914400" y="236520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31" name=""/>
              <p:cNvSpPr/>
              <p:nvPr/>
            </p:nvSpPr>
            <p:spPr>
              <a:xfrm rot="10800000">
                <a:off x="987480" y="24163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32" name="그룹 35"/>
          <p:cNvGrpSpPr/>
          <p:nvPr/>
        </p:nvGrpSpPr>
        <p:grpSpPr>
          <a:xfrm>
            <a:off x="642960" y="4040280"/>
            <a:ext cx="8429760" cy="468360"/>
            <a:chOff x="642960" y="4040280"/>
            <a:chExt cx="8429760" cy="468360"/>
          </a:xfrm>
        </p:grpSpPr>
        <p:grpSp>
          <p:nvGrpSpPr>
            <p:cNvPr id="1233" name="그룹 48"/>
            <p:cNvGrpSpPr/>
            <p:nvPr/>
          </p:nvGrpSpPr>
          <p:grpSpPr>
            <a:xfrm>
              <a:off x="642960" y="4106880"/>
              <a:ext cx="8429760" cy="401760"/>
              <a:chOff x="642960" y="4106880"/>
              <a:chExt cx="8429760" cy="401760"/>
            </a:xfrm>
          </p:grpSpPr>
          <p:sp>
            <p:nvSpPr>
              <p:cNvPr id="1234" name="직사각형 13"/>
              <p:cNvSpPr/>
              <p:nvPr/>
            </p:nvSpPr>
            <p:spPr>
              <a:xfrm>
                <a:off x="1400760" y="4106880"/>
                <a:ext cx="2176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Turiel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영역구분 모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5" name="직선 연결선 18"/>
              <p:cNvSpPr/>
              <p:nvPr/>
            </p:nvSpPr>
            <p:spPr>
              <a:xfrm>
                <a:off x="642960" y="450720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36" name="그룹 49"/>
            <p:cNvGrpSpPr/>
            <p:nvPr/>
          </p:nvGrpSpPr>
          <p:grpSpPr>
            <a:xfrm>
              <a:off x="671400" y="4116240"/>
              <a:ext cx="328320" cy="319320"/>
              <a:chOff x="671400" y="4116240"/>
              <a:chExt cx="328320" cy="319320"/>
            </a:xfrm>
          </p:grpSpPr>
          <p:sp>
            <p:nvSpPr>
              <p:cNvPr id="1237" name="AutoShape 4"/>
              <p:cNvSpPr/>
              <p:nvPr/>
            </p:nvSpPr>
            <p:spPr>
              <a:xfrm>
                <a:off x="671400" y="411624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38" name="Freeform 5"/>
              <p:cNvGrpSpPr/>
              <p:nvPr/>
            </p:nvGrpSpPr>
            <p:grpSpPr>
              <a:xfrm>
                <a:off x="688680" y="4132800"/>
                <a:ext cx="170640" cy="171000"/>
                <a:chOff x="688680" y="4132800"/>
                <a:chExt cx="170640" cy="171000"/>
              </a:xfrm>
            </p:grpSpPr>
            <p:pic>
              <p:nvPicPr>
                <p:cNvPr id="1239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41328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40" name=""/>
                <p:cNvSpPr/>
                <p:nvPr/>
              </p:nvSpPr>
              <p:spPr>
                <a:xfrm>
                  <a:off x="691920" y="413640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41" name="TextBox 88"/>
            <p:cNvSpPr/>
            <p:nvPr/>
          </p:nvSpPr>
          <p:spPr>
            <a:xfrm>
              <a:off x="678240" y="40402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2" name="그룹 123"/>
          <p:cNvGrpSpPr/>
          <p:nvPr/>
        </p:nvGrpSpPr>
        <p:grpSpPr>
          <a:xfrm>
            <a:off x="642960" y="4786200"/>
            <a:ext cx="8143920" cy="1357560"/>
            <a:chOff x="642960" y="4786200"/>
            <a:chExt cx="8143920" cy="1357560"/>
          </a:xfrm>
        </p:grpSpPr>
        <p:pic>
          <p:nvPicPr>
            <p:cNvPr id="1243" name="Picture 5" descr="233"/>
            <p:cNvPicPr/>
            <p:nvPr/>
          </p:nvPicPr>
          <p:blipFill>
            <a:blip r:embed="rId7"/>
            <a:srcRect l="2544" t="0" r="24313" b="0"/>
            <a:stretch/>
          </p:blipFill>
          <p:spPr>
            <a:xfrm>
              <a:off x="642960" y="4786200"/>
              <a:ext cx="8072640" cy="13575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244" name="직사각형 43"/>
            <p:cNvSpPr/>
            <p:nvPr/>
          </p:nvSpPr>
          <p:spPr>
            <a:xfrm>
              <a:off x="857160" y="4786200"/>
              <a:ext cx="7929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을 보편적인 가치를 반영하는 도덕적 영역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나 문화의 특수성을 반영하는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습적 영역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개인 특유의 행동이나 사태와 관련된 개인적 영역으로 구분했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45" name="타원 45"/>
            <p:cNvGrpSpPr/>
            <p:nvPr/>
          </p:nvGrpSpPr>
          <p:grpSpPr>
            <a:xfrm>
              <a:off x="914400" y="5077800"/>
              <a:ext cx="213120" cy="207000"/>
              <a:chOff x="914400" y="5077800"/>
              <a:chExt cx="213120" cy="207000"/>
            </a:xfrm>
          </p:grpSpPr>
          <p:pic>
            <p:nvPicPr>
              <p:cNvPr id="1246" name="타원 45" descr=""/>
              <p:cNvPicPr/>
              <p:nvPr/>
            </p:nvPicPr>
            <p:blipFill>
              <a:blip r:embed="rId8"/>
              <a:stretch/>
            </p:blipFill>
            <p:spPr>
              <a:xfrm>
                <a:off x="914400" y="507780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7" name=""/>
              <p:cNvSpPr/>
              <p:nvPr/>
            </p:nvSpPr>
            <p:spPr>
              <a:xfrm rot="10800000">
                <a:off x="987480" y="5130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48" name="슬라이드 번호 개체 틀 27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7AE96-9BD9-4F32-A38A-31592ECD78C7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AF810B1D-6FAC-4E87-84D8-18A45D7016EA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PlaceHolder 1"/>
          <p:cNvSpPr>
            <a:spLocks noGrp="1"/>
          </p:cNvSpPr>
          <p:nvPr>
            <p:ph/>
          </p:nvPr>
        </p:nvSpPr>
        <p:spPr>
          <a:xfrm>
            <a:off x="326880" y="993600"/>
            <a:ext cx="8490240" cy="542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1" name="Group 4"/>
          <p:cNvGrpSpPr/>
          <p:nvPr/>
        </p:nvGrpSpPr>
        <p:grpSpPr>
          <a:xfrm>
            <a:off x="577800" y="3376440"/>
            <a:ext cx="8111880" cy="876240"/>
            <a:chOff x="577800" y="3376440"/>
            <a:chExt cx="8111880" cy="876240"/>
          </a:xfrm>
        </p:grpSpPr>
        <p:sp>
          <p:nvSpPr>
            <p:cNvPr id="1252" name="Freeform 5"/>
            <p:cNvSpPr/>
            <p:nvPr/>
          </p:nvSpPr>
          <p:spPr>
            <a:xfrm>
              <a:off x="843480" y="3881160"/>
              <a:ext cx="7580160" cy="3715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3" name="Rectangle 6"/>
            <p:cNvSpPr/>
            <p:nvPr/>
          </p:nvSpPr>
          <p:spPr>
            <a:xfrm>
              <a:off x="577800" y="3376440"/>
              <a:ext cx="8111880" cy="768600"/>
            </a:xfrm>
            <a:prstGeom prst="rect">
              <a:avLst/>
            </a:prstGeom>
            <a:gradFill rotWithShape="0">
              <a:gsLst>
                <a:gs pos="0">
                  <a:srgbClr val="b1efd0"/>
                </a:gs>
                <a:gs pos="100000">
                  <a:srgbClr val="77e3a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생들이 다른 사람의 관점을 존중하도록 지도한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4" name="Group 7"/>
          <p:cNvGrpSpPr/>
          <p:nvPr/>
        </p:nvGrpSpPr>
        <p:grpSpPr>
          <a:xfrm>
            <a:off x="590400" y="2457360"/>
            <a:ext cx="8113680" cy="852120"/>
            <a:chOff x="590400" y="2457360"/>
            <a:chExt cx="8113680" cy="852120"/>
          </a:xfrm>
        </p:grpSpPr>
        <p:sp>
          <p:nvSpPr>
            <p:cNvPr id="1255" name="Freeform 8"/>
            <p:cNvSpPr/>
            <p:nvPr/>
          </p:nvSpPr>
          <p:spPr>
            <a:xfrm>
              <a:off x="856080" y="2948040"/>
              <a:ext cx="7581960" cy="3614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6" name="Rectangle 9"/>
            <p:cNvSpPr/>
            <p:nvPr/>
          </p:nvSpPr>
          <p:spPr>
            <a:xfrm>
              <a:off x="590400" y="2457360"/>
              <a:ext cx="8113680" cy="747360"/>
            </a:xfrm>
            <a:prstGeom prst="rect">
              <a:avLst/>
            </a:prstGeom>
            <a:gradFill rotWithShape="0">
              <a:gsLst>
                <a:gs pos="0">
                  <a:srgbClr val="f6e1bd"/>
                </a:gs>
                <a:gs pos="100000">
                  <a:srgbClr val="eab7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급 경영을 학생들의 도덕성 발달을 촉진시키는 수단으로 활용한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7" name="Group 10"/>
          <p:cNvGrpSpPr/>
          <p:nvPr/>
        </p:nvGrpSpPr>
        <p:grpSpPr>
          <a:xfrm>
            <a:off x="603360" y="1562040"/>
            <a:ext cx="8086320" cy="825120"/>
            <a:chOff x="603360" y="1562040"/>
            <a:chExt cx="8086320" cy="825120"/>
          </a:xfrm>
        </p:grpSpPr>
        <p:sp>
          <p:nvSpPr>
            <p:cNvPr id="1258" name="Freeform 11"/>
            <p:cNvSpPr/>
            <p:nvPr/>
          </p:nvSpPr>
          <p:spPr>
            <a:xfrm>
              <a:off x="867960" y="2037240"/>
              <a:ext cx="7556400" cy="3499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9" name="Rectangle 12"/>
            <p:cNvSpPr/>
            <p:nvPr/>
          </p:nvSpPr>
          <p:spPr>
            <a:xfrm>
              <a:off x="603360" y="1562040"/>
              <a:ext cx="8086320" cy="723600"/>
            </a:xfrm>
            <a:prstGeom prst="rect">
              <a:avLst/>
            </a:prstGeom>
            <a:gradFill rotWithShape="0">
              <a:gsLst>
                <a:gs pos="0">
                  <a:srgbClr val="f7f4dd"/>
                </a:gs>
                <a:gs pos="100000">
                  <a:srgbClr val="dacb5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생과의 상호작용에서 윤리적 사고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행동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감정이입을 시범 보인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0" name="Group 13"/>
          <p:cNvGrpSpPr/>
          <p:nvPr/>
        </p:nvGrpSpPr>
        <p:grpSpPr>
          <a:xfrm>
            <a:off x="566640" y="4336920"/>
            <a:ext cx="8124480" cy="938160"/>
            <a:chOff x="566640" y="4336920"/>
            <a:chExt cx="8124480" cy="938160"/>
          </a:xfrm>
        </p:grpSpPr>
        <p:sp>
          <p:nvSpPr>
            <p:cNvPr id="1261" name="Freeform 14"/>
            <p:cNvSpPr/>
            <p:nvPr/>
          </p:nvSpPr>
          <p:spPr>
            <a:xfrm>
              <a:off x="832680" y="4877280"/>
              <a:ext cx="7592040" cy="39780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2" name="Rectangle 15"/>
            <p:cNvSpPr/>
            <p:nvPr/>
          </p:nvSpPr>
          <p:spPr>
            <a:xfrm>
              <a:off x="566640" y="4336920"/>
              <a:ext cx="8124480" cy="822960"/>
            </a:xfrm>
            <a:prstGeom prst="rect">
              <a:avLst/>
            </a:prstGeom>
            <a:gradFill rotWithShape="0">
              <a:gsLst>
                <a:gs pos="0">
                  <a:srgbClr val="cdd6fe"/>
                </a:gs>
                <a:gs pos="100000">
                  <a:srgbClr val="9eb0f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도덕적 이슈에 대한 토론을 이끄는 구체적 사례로서 도덕적 딜레마를 사용한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3" name="Group 16"/>
          <p:cNvGrpSpPr/>
          <p:nvPr/>
        </p:nvGrpSpPr>
        <p:grpSpPr>
          <a:xfrm>
            <a:off x="558720" y="5318280"/>
            <a:ext cx="8086320" cy="943920"/>
            <a:chOff x="558720" y="5318280"/>
            <a:chExt cx="8086320" cy="943920"/>
          </a:xfrm>
        </p:grpSpPr>
        <p:sp>
          <p:nvSpPr>
            <p:cNvPr id="1264" name="Freeform 17"/>
            <p:cNvSpPr/>
            <p:nvPr/>
          </p:nvSpPr>
          <p:spPr>
            <a:xfrm>
              <a:off x="823320" y="5861880"/>
              <a:ext cx="7556400" cy="4003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Rectangle 18"/>
            <p:cNvSpPr/>
            <p:nvPr/>
          </p:nvSpPr>
          <p:spPr>
            <a:xfrm>
              <a:off x="558720" y="5318280"/>
              <a:ext cx="8086320" cy="828000"/>
            </a:xfrm>
            <a:prstGeom prst="rect">
              <a:avLst/>
            </a:prstGeom>
            <a:gradFill rotWithShape="0">
              <a:gsLst>
                <a:gs pos="0">
                  <a:srgbClr val="ffe9ff"/>
                </a:gs>
                <a:gs pos="100000">
                  <a:srgbClr val="ff99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생들이 토론에서 자신의 도덕적 입장을 분명히 하고 정당화하도록 지도한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6" name="Rectangle 26" descr=""/>
          <p:cNvPicPr/>
          <p:nvPr/>
        </p:nvPicPr>
        <p:blipFill>
          <a:blip r:embed="rId1"/>
          <a:stretch/>
        </p:blipFill>
        <p:spPr>
          <a:xfrm>
            <a:off x="426960" y="158760"/>
            <a:ext cx="8845560" cy="82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7" name="TextBox 12" descr=""/>
          <p:cNvPicPr/>
          <p:nvPr/>
        </p:nvPicPr>
        <p:blipFill>
          <a:blip r:embed="rId1"/>
          <a:stretch/>
        </p:blipFill>
        <p:spPr>
          <a:xfrm>
            <a:off x="5857920" y="506520"/>
            <a:ext cx="31701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68" name="그룹 35"/>
          <p:cNvGrpSpPr/>
          <p:nvPr/>
        </p:nvGrpSpPr>
        <p:grpSpPr>
          <a:xfrm>
            <a:off x="642960" y="3103560"/>
            <a:ext cx="8429760" cy="468360"/>
            <a:chOff x="642960" y="3103560"/>
            <a:chExt cx="8429760" cy="468360"/>
          </a:xfrm>
        </p:grpSpPr>
        <p:grpSp>
          <p:nvGrpSpPr>
            <p:cNvPr id="1269" name="그룹 48"/>
            <p:cNvGrpSpPr/>
            <p:nvPr/>
          </p:nvGrpSpPr>
          <p:grpSpPr>
            <a:xfrm>
              <a:off x="642960" y="3170160"/>
              <a:ext cx="8429760" cy="401760"/>
              <a:chOff x="642960" y="3170160"/>
              <a:chExt cx="8429760" cy="401760"/>
            </a:xfrm>
          </p:grpSpPr>
          <p:sp>
            <p:nvSpPr>
              <p:cNvPr id="1270" name="직사각형 13"/>
              <p:cNvSpPr/>
              <p:nvPr/>
            </p:nvSpPr>
            <p:spPr>
              <a:xfrm>
                <a:off x="1292040" y="3170160"/>
                <a:ext cx="2013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동물행동학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ethology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1" name="직선 연결선 18"/>
              <p:cNvSpPr/>
              <p:nvPr/>
            </p:nvSpPr>
            <p:spPr>
              <a:xfrm>
                <a:off x="642960" y="357048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72" name="그룹 49"/>
            <p:cNvGrpSpPr/>
            <p:nvPr/>
          </p:nvGrpSpPr>
          <p:grpSpPr>
            <a:xfrm>
              <a:off x="671400" y="3179520"/>
              <a:ext cx="328320" cy="319320"/>
              <a:chOff x="671400" y="3179520"/>
              <a:chExt cx="328320" cy="319320"/>
            </a:xfrm>
          </p:grpSpPr>
          <p:sp>
            <p:nvSpPr>
              <p:cNvPr id="1273" name="AutoShape 4"/>
              <p:cNvSpPr/>
              <p:nvPr/>
            </p:nvSpPr>
            <p:spPr>
              <a:xfrm>
                <a:off x="671400" y="317952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4" name="Freeform 5"/>
              <p:cNvGrpSpPr/>
              <p:nvPr/>
            </p:nvGrpSpPr>
            <p:grpSpPr>
              <a:xfrm>
                <a:off x="688680" y="3193920"/>
                <a:ext cx="170640" cy="171000"/>
                <a:chOff x="688680" y="3193920"/>
                <a:chExt cx="170640" cy="171000"/>
              </a:xfrm>
            </p:grpSpPr>
            <p:pic>
              <p:nvPicPr>
                <p:cNvPr id="127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319392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76" name=""/>
                <p:cNvSpPr/>
                <p:nvPr/>
              </p:nvSpPr>
              <p:spPr>
                <a:xfrm>
                  <a:off x="691920" y="320004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77" name="TextBox 18"/>
            <p:cNvSpPr/>
            <p:nvPr/>
          </p:nvSpPr>
          <p:spPr>
            <a:xfrm>
              <a:off x="678600" y="31035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8" name="그룹 39"/>
          <p:cNvGrpSpPr/>
          <p:nvPr/>
        </p:nvGrpSpPr>
        <p:grpSpPr>
          <a:xfrm>
            <a:off x="642960" y="4000680"/>
            <a:ext cx="8215200" cy="2000160"/>
            <a:chOff x="642960" y="4000680"/>
            <a:chExt cx="8215200" cy="2000160"/>
          </a:xfrm>
        </p:grpSpPr>
        <p:grpSp>
          <p:nvGrpSpPr>
            <p:cNvPr id="1279" name="그룹 123"/>
            <p:cNvGrpSpPr/>
            <p:nvPr/>
          </p:nvGrpSpPr>
          <p:grpSpPr>
            <a:xfrm>
              <a:off x="642960" y="4000680"/>
              <a:ext cx="8215200" cy="2000160"/>
              <a:chOff x="642960" y="4000680"/>
              <a:chExt cx="8215200" cy="2000160"/>
            </a:xfrm>
          </p:grpSpPr>
          <p:pic>
            <p:nvPicPr>
              <p:cNvPr id="1280" name="Picture 5" descr="233"/>
              <p:cNvPicPr/>
              <p:nvPr/>
            </p:nvPicPr>
            <p:blipFill>
              <a:blip r:embed="rId3"/>
              <a:srcRect l="2544" t="0" r="24313" b="0"/>
              <a:stretch/>
            </p:blipFill>
            <p:spPr>
              <a:xfrm>
                <a:off x="642960" y="4000680"/>
                <a:ext cx="8072640" cy="20001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81" name="직사각형 35"/>
              <p:cNvSpPr/>
              <p:nvPr/>
            </p:nvSpPr>
            <p:spPr>
              <a:xfrm>
                <a:off x="928440" y="4000680"/>
                <a:ext cx="792972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자연적인 환경에서 동물 및 인간의 행동을 탐구하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접근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대표학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Lorenz, Tinbergen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각인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imprinting)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결정기 동안에 일어나는 비가역적인 학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82" name="타원 36"/>
              <p:cNvGrpSpPr/>
              <p:nvPr/>
            </p:nvGrpSpPr>
            <p:grpSpPr>
              <a:xfrm>
                <a:off x="914400" y="4822200"/>
                <a:ext cx="213120" cy="207000"/>
                <a:chOff x="914400" y="4822200"/>
                <a:chExt cx="213120" cy="207000"/>
              </a:xfrm>
            </p:grpSpPr>
            <p:pic>
              <p:nvPicPr>
                <p:cNvPr id="1283" name="타원 36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14400" y="4822200"/>
                  <a:ext cx="213120" cy="20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84" name=""/>
                <p:cNvSpPr/>
                <p:nvPr/>
              </p:nvSpPr>
              <p:spPr>
                <a:xfrm rot="10800000">
                  <a:off x="987480" y="487224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85" name="타원 37"/>
              <p:cNvGrpSpPr/>
              <p:nvPr/>
            </p:nvGrpSpPr>
            <p:grpSpPr>
              <a:xfrm>
                <a:off x="914400" y="4291560"/>
                <a:ext cx="213120" cy="213120"/>
                <a:chOff x="914400" y="4291560"/>
                <a:chExt cx="213120" cy="213120"/>
              </a:xfrm>
            </p:grpSpPr>
            <p:pic>
              <p:nvPicPr>
                <p:cNvPr id="1286" name="타원 37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914400" y="4291560"/>
                  <a:ext cx="213120" cy="213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87" name=""/>
                <p:cNvSpPr/>
                <p:nvPr/>
              </p:nvSpPr>
              <p:spPr>
                <a:xfrm rot="10800000">
                  <a:off x="987480" y="434520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88" name="타원 38"/>
            <p:cNvGrpSpPr/>
            <p:nvPr/>
          </p:nvGrpSpPr>
          <p:grpSpPr>
            <a:xfrm>
              <a:off x="914400" y="5364720"/>
              <a:ext cx="213120" cy="207000"/>
              <a:chOff x="914400" y="5364720"/>
              <a:chExt cx="213120" cy="207000"/>
            </a:xfrm>
          </p:grpSpPr>
          <p:pic>
            <p:nvPicPr>
              <p:cNvPr id="1289" name="타원 38" descr=""/>
              <p:cNvPicPr/>
              <p:nvPr/>
            </p:nvPicPr>
            <p:blipFill>
              <a:blip r:embed="rId6"/>
              <a:stretch/>
            </p:blipFill>
            <p:spPr>
              <a:xfrm>
                <a:off x="914400" y="536472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0" name=""/>
              <p:cNvSpPr/>
              <p:nvPr/>
            </p:nvSpPr>
            <p:spPr>
              <a:xfrm rot="10800000">
                <a:off x="987480" y="54169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91" name="그룹 27"/>
          <p:cNvGrpSpPr/>
          <p:nvPr/>
        </p:nvGrpSpPr>
        <p:grpSpPr>
          <a:xfrm>
            <a:off x="285840" y="1500120"/>
            <a:ext cx="8501040" cy="1143000"/>
            <a:chOff x="285840" y="1500120"/>
            <a:chExt cx="8501040" cy="1143000"/>
          </a:xfrm>
        </p:grpSpPr>
        <p:grpSp>
          <p:nvGrpSpPr>
            <p:cNvPr id="1292" name="그룹 91"/>
            <p:cNvGrpSpPr/>
            <p:nvPr/>
          </p:nvGrpSpPr>
          <p:grpSpPr>
            <a:xfrm>
              <a:off x="285840" y="1500120"/>
              <a:ext cx="8501040" cy="1143000"/>
              <a:chOff x="285840" y="1500120"/>
              <a:chExt cx="8501040" cy="1143000"/>
            </a:xfrm>
          </p:grpSpPr>
          <p:pic>
            <p:nvPicPr>
              <p:cNvPr id="1293" name="Picture 5" descr="233"/>
              <p:cNvPicPr/>
              <p:nvPr/>
            </p:nvPicPr>
            <p:blipFill>
              <a:blip r:embed="rId7"/>
              <a:srcRect l="0" t="0" r="24313" b="0"/>
              <a:stretch/>
            </p:blipFill>
            <p:spPr>
              <a:xfrm>
                <a:off x="285840" y="1785600"/>
                <a:ext cx="8501040" cy="8575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294" name="그룹 34"/>
              <p:cNvGrpSpPr/>
              <p:nvPr/>
            </p:nvGrpSpPr>
            <p:grpSpPr>
              <a:xfrm>
                <a:off x="838080" y="1590480"/>
                <a:ext cx="374760" cy="380880"/>
                <a:chOff x="838080" y="1590480"/>
                <a:chExt cx="374760" cy="380880"/>
              </a:xfrm>
            </p:grpSpPr>
            <p:pic>
              <p:nvPicPr>
                <p:cNvPr id="1295" name="Picture 177" descr="bull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53200" y="1614960"/>
                  <a:ext cx="359640" cy="356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96" name="TextBox 36"/>
                <p:cNvSpPr/>
                <p:nvPr/>
              </p:nvSpPr>
              <p:spPr>
                <a:xfrm>
                  <a:off x="838080" y="1590480"/>
                  <a:ext cx="3621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★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97" name="직사각형 26"/>
              <p:cNvSpPr/>
              <p:nvPr/>
            </p:nvSpPr>
            <p:spPr>
              <a:xfrm>
                <a:off x="1444320" y="1500120"/>
                <a:ext cx="116064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생태학적 접근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8" name="직사각형 28"/>
              <p:cNvSpPr/>
              <p:nvPr/>
            </p:nvSpPr>
            <p:spPr>
              <a:xfrm>
                <a:off x="1357200" y="2033640"/>
                <a:ext cx="72151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개인이 생활하고 있는 삶의 맥락 내에서 발달을 연구하는 접근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9" name="직선 연결선 29"/>
              <p:cNvSpPr/>
              <p:nvPr/>
            </p:nvSpPr>
            <p:spPr>
              <a:xfrm flipV="1">
                <a:off x="3786120" y="1785600"/>
                <a:ext cx="45734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00" name="오른쪽 화살표 40"/>
            <p:cNvSpPr/>
            <p:nvPr/>
          </p:nvSpPr>
          <p:spPr>
            <a:xfrm>
              <a:off x="1143000" y="2214360"/>
              <a:ext cx="214200" cy="160200"/>
            </a:xfrm>
            <a:prstGeom prst="rightArrow">
              <a:avLst>
                <a:gd name="adj1" fmla="val 50000"/>
                <a:gd name="adj2" fmla="val 50016"/>
              </a:avLst>
            </a:prstGeom>
            <a:gradFill rotWithShape="0">
              <a:gsLst>
                <a:gs pos="0">
                  <a:srgbClr val="ffbe86"/>
                </a:gs>
                <a:gs pos="100000">
                  <a:srgbClr val="ffebdb"/>
                </a:gs>
              </a:gsLst>
              <a:lin ang="16200000"/>
            </a:gradFill>
            <a:ln w="9360">
              <a:solidFill>
                <a:srgbClr val="f69240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01" name="Picture 4" descr="C:\Documents and Settings\신형수\Local Settings\Temporary Internet Files\Content.IE5\M0TDQV6D\MPj03372670000[1].jpg"/>
          <p:cNvPicPr/>
          <p:nvPr/>
        </p:nvPicPr>
        <p:blipFill>
          <a:blip r:embed="rId9"/>
          <a:stretch/>
        </p:blipFill>
        <p:spPr>
          <a:xfrm>
            <a:off x="6715080" y="4481640"/>
            <a:ext cx="2032200" cy="1447560"/>
          </a:xfrm>
          <a:prstGeom prst="rect">
            <a:avLst/>
          </a:prstGeom>
          <a:ln w="0">
            <a:noFill/>
          </a:ln>
        </p:spPr>
      </p:pic>
      <p:sp>
        <p:nvSpPr>
          <p:cNvPr id="1302" name="슬라이드 번호 개체 틀 31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1E506-E76F-4CC9-92B3-885A7633E42D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1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3" name="그룹 91"/>
          <p:cNvGrpSpPr/>
          <p:nvPr/>
        </p:nvGrpSpPr>
        <p:grpSpPr>
          <a:xfrm>
            <a:off x="285840" y="1928880"/>
            <a:ext cx="8501040" cy="4643280"/>
            <a:chOff x="285840" y="1928880"/>
            <a:chExt cx="8501040" cy="4643280"/>
          </a:xfrm>
        </p:grpSpPr>
        <p:pic>
          <p:nvPicPr>
            <p:cNvPr id="1304" name="Picture 5" descr="233"/>
            <p:cNvPicPr/>
            <p:nvPr/>
          </p:nvPicPr>
          <p:blipFill>
            <a:blip r:embed="rId1"/>
            <a:srcRect l="0" t="0" r="24313" b="0"/>
            <a:stretch/>
          </p:blipFill>
          <p:spPr>
            <a:xfrm>
              <a:off x="285840" y="2214360"/>
              <a:ext cx="8501040" cy="43578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305" name="그룹 34"/>
            <p:cNvGrpSpPr/>
            <p:nvPr/>
          </p:nvGrpSpPr>
          <p:grpSpPr>
            <a:xfrm>
              <a:off x="850320" y="2019240"/>
              <a:ext cx="362520" cy="380880"/>
              <a:chOff x="850320" y="2019240"/>
              <a:chExt cx="362520" cy="380880"/>
            </a:xfrm>
          </p:grpSpPr>
          <p:pic>
            <p:nvPicPr>
              <p:cNvPr id="1306" name="Picture 177" descr="bull"/>
              <p:cNvPicPr/>
              <p:nvPr/>
            </p:nvPicPr>
            <p:blipFill>
              <a:blip r:embed="rId2"/>
              <a:stretch/>
            </p:blipFill>
            <p:spPr>
              <a:xfrm>
                <a:off x="853200" y="2047320"/>
                <a:ext cx="359640" cy="352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07" name="TextBox 36"/>
              <p:cNvSpPr/>
              <p:nvPr/>
            </p:nvSpPr>
            <p:spPr>
              <a:xfrm>
                <a:off x="850320" y="2019240"/>
                <a:ext cx="362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★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08" name="직사각형 117"/>
            <p:cNvSpPr/>
            <p:nvPr/>
          </p:nvSpPr>
          <p:spPr>
            <a:xfrm>
              <a:off x="1496160" y="1928880"/>
              <a:ext cx="131292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생태환경의 체제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9" name="직선 연결선 120"/>
            <p:cNvSpPr/>
            <p:nvPr/>
          </p:nvSpPr>
          <p:spPr>
            <a:xfrm flipV="1">
              <a:off x="3429000" y="2212920"/>
              <a:ext cx="493092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10" name="TextBox 12" descr=""/>
          <p:cNvPicPr/>
          <p:nvPr/>
        </p:nvPicPr>
        <p:blipFill>
          <a:blip r:embed="rId3"/>
          <a:stretch/>
        </p:blipFill>
        <p:spPr>
          <a:xfrm>
            <a:off x="5857920" y="506520"/>
            <a:ext cx="31701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11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31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13" name="직사각형 13"/>
              <p:cNvSpPr/>
              <p:nvPr/>
            </p:nvSpPr>
            <p:spPr>
              <a:xfrm>
                <a:off x="1434600" y="1385640"/>
                <a:ext cx="5117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Bronfenbrenner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생태학모형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ecological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el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4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1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1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18" name="Freeform 5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1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20" name="TextBox 1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1" name="슬라이드 번호 개체 틀 18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4DF4E-9AD3-4F19-A7AC-F634F584B4C6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2" name="그림 23" descr="그림1.png"/>
          <p:cNvPicPr/>
          <p:nvPr/>
        </p:nvPicPr>
        <p:blipFill>
          <a:blip r:embed="rId5"/>
          <a:stretch/>
        </p:blipFill>
        <p:spPr>
          <a:xfrm>
            <a:off x="1000080" y="2428920"/>
            <a:ext cx="7143840" cy="40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1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TextBox 12" descr=""/>
          <p:cNvPicPr/>
          <p:nvPr/>
        </p:nvPicPr>
        <p:blipFill>
          <a:blip r:embed="rId1"/>
          <a:stretch/>
        </p:blipFill>
        <p:spPr>
          <a:xfrm>
            <a:off x="3638520" y="506520"/>
            <a:ext cx="5426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421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42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423" name="직사각형 13"/>
              <p:cNvSpPr/>
              <p:nvPr/>
            </p:nvSpPr>
            <p:spPr>
              <a:xfrm>
                <a:off x="1319760" y="1385640"/>
                <a:ext cx="1008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성격의 구조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42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2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428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2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30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1" name="그룹 56"/>
          <p:cNvGrpSpPr/>
          <p:nvPr/>
        </p:nvGrpSpPr>
        <p:grpSpPr>
          <a:xfrm>
            <a:off x="285840" y="2284560"/>
            <a:ext cx="8501040" cy="2273040"/>
            <a:chOff x="285840" y="2284560"/>
            <a:chExt cx="8501040" cy="2273040"/>
          </a:xfrm>
        </p:grpSpPr>
        <p:grpSp>
          <p:nvGrpSpPr>
            <p:cNvPr id="432" name="그룹 91"/>
            <p:cNvGrpSpPr/>
            <p:nvPr/>
          </p:nvGrpSpPr>
          <p:grpSpPr>
            <a:xfrm>
              <a:off x="285840" y="2284560"/>
              <a:ext cx="8501040" cy="2273040"/>
              <a:chOff x="285840" y="2284560"/>
              <a:chExt cx="8501040" cy="2273040"/>
            </a:xfrm>
          </p:grpSpPr>
          <p:pic>
            <p:nvPicPr>
              <p:cNvPr id="433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570040"/>
                <a:ext cx="8501040" cy="17859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434" name="그룹 34"/>
              <p:cNvGrpSpPr/>
              <p:nvPr/>
            </p:nvGrpSpPr>
            <p:grpSpPr>
              <a:xfrm>
                <a:off x="857160" y="2374920"/>
                <a:ext cx="349200" cy="380880"/>
                <a:chOff x="857160" y="2374920"/>
                <a:chExt cx="349200" cy="380880"/>
              </a:xfrm>
            </p:grpSpPr>
            <p:pic>
              <p:nvPicPr>
                <p:cNvPr id="435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57160" y="2401200"/>
                  <a:ext cx="349200" cy="354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36" name="TextBox 36"/>
                <p:cNvSpPr/>
                <p:nvPr/>
              </p:nvSpPr>
              <p:spPr>
                <a:xfrm>
                  <a:off x="891360" y="237492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37" name="직사각형 41"/>
              <p:cNvSpPr/>
              <p:nvPr/>
            </p:nvSpPr>
            <p:spPr>
              <a:xfrm>
                <a:off x="1682280" y="2284560"/>
                <a:ext cx="21787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원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: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신에너지의 공급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38" name="타원 42"/>
              <p:cNvGrpSpPr/>
              <p:nvPr/>
            </p:nvGrpSpPr>
            <p:grpSpPr>
              <a:xfrm>
                <a:off x="1152000" y="3005280"/>
                <a:ext cx="213120" cy="207000"/>
                <a:chOff x="1152000" y="3005280"/>
                <a:chExt cx="213120" cy="207000"/>
              </a:xfrm>
            </p:grpSpPr>
            <p:pic>
              <p:nvPicPr>
                <p:cNvPr id="439" name="타원 4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152000" y="3005280"/>
                  <a:ext cx="213120" cy="20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40" name=""/>
                <p:cNvSpPr/>
                <p:nvPr/>
              </p:nvSpPr>
              <p:spPr>
                <a:xfrm rot="10800000">
                  <a:off x="1228680" y="305748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41" name="직사각형 43"/>
              <p:cNvSpPr/>
              <p:nvPr/>
            </p:nvSpPr>
            <p:spPr>
              <a:xfrm>
                <a:off x="1357200" y="2817720"/>
                <a:ext cx="721512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천적이며 모든 충동과 동인의 원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쾌락원리에 따라 작동함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자아와 초자아가 작동하는 데 필요한 에너지를 제공함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직선 연결선 44"/>
              <p:cNvSpPr/>
              <p:nvPr/>
            </p:nvSpPr>
            <p:spPr>
              <a:xfrm flipV="1">
                <a:off x="4536360" y="2568600"/>
                <a:ext cx="38228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3" name="타원 47"/>
            <p:cNvGrpSpPr/>
            <p:nvPr/>
          </p:nvGrpSpPr>
          <p:grpSpPr>
            <a:xfrm>
              <a:off x="1152000" y="3426120"/>
              <a:ext cx="213120" cy="207000"/>
              <a:chOff x="1152000" y="3426120"/>
              <a:chExt cx="213120" cy="207000"/>
            </a:xfrm>
          </p:grpSpPr>
          <p:pic>
            <p:nvPicPr>
              <p:cNvPr id="444" name="타원 47" descr=""/>
              <p:cNvPicPr/>
              <p:nvPr/>
            </p:nvPicPr>
            <p:blipFill>
              <a:blip r:embed="rId6"/>
              <a:stretch/>
            </p:blipFill>
            <p:spPr>
              <a:xfrm>
                <a:off x="1152000" y="342612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5" name=""/>
              <p:cNvSpPr/>
              <p:nvPr/>
            </p:nvSpPr>
            <p:spPr>
              <a:xfrm rot="10800000">
                <a:off x="1228680" y="34768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6" name="타원 49"/>
            <p:cNvGrpSpPr/>
            <p:nvPr/>
          </p:nvGrpSpPr>
          <p:grpSpPr>
            <a:xfrm>
              <a:off x="1152000" y="3822480"/>
              <a:ext cx="213120" cy="207000"/>
              <a:chOff x="1152000" y="3822480"/>
              <a:chExt cx="213120" cy="207000"/>
            </a:xfrm>
          </p:grpSpPr>
          <p:pic>
            <p:nvPicPr>
              <p:cNvPr id="447" name="타원 49" descr=""/>
              <p:cNvPicPr/>
              <p:nvPr/>
            </p:nvPicPr>
            <p:blipFill>
              <a:blip r:embed="rId7"/>
              <a:stretch/>
            </p:blipFill>
            <p:spPr>
              <a:xfrm>
                <a:off x="1152000" y="38224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8" name=""/>
              <p:cNvSpPr/>
              <p:nvPr/>
            </p:nvSpPr>
            <p:spPr>
              <a:xfrm rot="10800000">
                <a:off x="1228680" y="38703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49" name="그룹 58"/>
          <p:cNvGrpSpPr/>
          <p:nvPr/>
        </p:nvGrpSpPr>
        <p:grpSpPr>
          <a:xfrm>
            <a:off x="285840" y="4643280"/>
            <a:ext cx="8501040" cy="1643400"/>
            <a:chOff x="285840" y="4643280"/>
            <a:chExt cx="8501040" cy="1643400"/>
          </a:xfrm>
        </p:grpSpPr>
        <p:grpSp>
          <p:nvGrpSpPr>
            <p:cNvPr id="450" name="그룹 91"/>
            <p:cNvGrpSpPr/>
            <p:nvPr/>
          </p:nvGrpSpPr>
          <p:grpSpPr>
            <a:xfrm>
              <a:off x="285840" y="4643280"/>
              <a:ext cx="8501040" cy="1643400"/>
              <a:chOff x="285840" y="4643280"/>
              <a:chExt cx="8501040" cy="1643400"/>
            </a:xfrm>
          </p:grpSpPr>
          <p:pic>
            <p:nvPicPr>
              <p:cNvPr id="451" name="Picture 5" descr="233"/>
              <p:cNvPicPr/>
              <p:nvPr/>
            </p:nvPicPr>
            <p:blipFill>
              <a:blip r:embed="rId8"/>
              <a:srcRect l="0" t="0" r="24313" b="0"/>
              <a:stretch/>
            </p:blipFill>
            <p:spPr>
              <a:xfrm>
                <a:off x="285840" y="4929120"/>
                <a:ext cx="8501040" cy="13575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452" name="그룹 34"/>
              <p:cNvGrpSpPr/>
              <p:nvPr/>
            </p:nvGrpSpPr>
            <p:grpSpPr>
              <a:xfrm>
                <a:off x="857160" y="4733640"/>
                <a:ext cx="349200" cy="380880"/>
                <a:chOff x="857160" y="4733640"/>
                <a:chExt cx="349200" cy="380880"/>
              </a:xfrm>
            </p:grpSpPr>
            <p:pic>
              <p:nvPicPr>
                <p:cNvPr id="453" name="Picture 177" descr="bull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57160" y="4760280"/>
                  <a:ext cx="349200" cy="35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54" name="TextBox 36"/>
                <p:cNvSpPr/>
                <p:nvPr/>
              </p:nvSpPr>
              <p:spPr>
                <a:xfrm>
                  <a:off x="891360" y="47336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55" name="직사각형 71"/>
              <p:cNvSpPr/>
              <p:nvPr/>
            </p:nvSpPr>
            <p:spPr>
              <a:xfrm>
                <a:off x="1501200" y="4643280"/>
                <a:ext cx="17215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자아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: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성격의 집행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56" name="타원 72"/>
              <p:cNvGrpSpPr/>
              <p:nvPr/>
            </p:nvGrpSpPr>
            <p:grpSpPr>
              <a:xfrm>
                <a:off x="1152000" y="5364360"/>
                <a:ext cx="213120" cy="207000"/>
                <a:chOff x="1152000" y="5364360"/>
                <a:chExt cx="213120" cy="207000"/>
              </a:xfrm>
            </p:grpSpPr>
            <p:pic>
              <p:nvPicPr>
                <p:cNvPr id="457" name="타원 72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152000" y="5364360"/>
                  <a:ext cx="213120" cy="20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58" name=""/>
                <p:cNvSpPr/>
                <p:nvPr/>
              </p:nvSpPr>
              <p:spPr>
                <a:xfrm rot="10800000">
                  <a:off x="1228680" y="541656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59" name="직사각형 73"/>
              <p:cNvSpPr/>
              <p:nvPr/>
            </p:nvSpPr>
            <p:spPr>
              <a:xfrm>
                <a:off x="1357200" y="5176800"/>
                <a:ext cx="72151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원욕에 현실을 강요하는 정신의 부분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현실원리에 따라 작동함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직선 연결선 74"/>
              <p:cNvSpPr/>
              <p:nvPr/>
            </p:nvSpPr>
            <p:spPr>
              <a:xfrm flipV="1">
                <a:off x="4536360" y="4927320"/>
                <a:ext cx="38228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1" name="타원 66"/>
            <p:cNvGrpSpPr/>
            <p:nvPr/>
          </p:nvGrpSpPr>
          <p:grpSpPr>
            <a:xfrm>
              <a:off x="1152000" y="5785200"/>
              <a:ext cx="213120" cy="207000"/>
              <a:chOff x="1152000" y="5785200"/>
              <a:chExt cx="213120" cy="207000"/>
            </a:xfrm>
          </p:grpSpPr>
          <p:pic>
            <p:nvPicPr>
              <p:cNvPr id="462" name="타원 66" descr=""/>
              <p:cNvPicPr/>
              <p:nvPr/>
            </p:nvPicPr>
            <p:blipFill>
              <a:blip r:embed="rId11"/>
              <a:stretch/>
            </p:blipFill>
            <p:spPr>
              <a:xfrm>
                <a:off x="1152000" y="578520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3" name=""/>
              <p:cNvSpPr/>
              <p:nvPr/>
            </p:nvSpPr>
            <p:spPr>
              <a:xfrm rot="10800000">
                <a:off x="1228680" y="58359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464" name="Picture 46" descr="C:\Documents and Settings\신형수\Local Settings\Temporary Internet Files\Content.IE5\CN93ZJT9\MCj03122320000[1].wmf"/>
          <p:cNvPicPr/>
          <p:nvPr/>
        </p:nvPicPr>
        <p:blipFill>
          <a:blip r:embed="rId12"/>
          <a:stretch/>
        </p:blipFill>
        <p:spPr>
          <a:xfrm>
            <a:off x="7500960" y="5214960"/>
            <a:ext cx="1380960" cy="1203480"/>
          </a:xfrm>
          <a:prstGeom prst="rect">
            <a:avLst/>
          </a:prstGeom>
          <a:ln w="0">
            <a:noFill/>
          </a:ln>
        </p:spPr>
      </p:pic>
      <p:sp>
        <p:nvSpPr>
          <p:cNvPr id="465" name="슬라이드 번호 개체 틀 36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7BF46-E0FB-4079-9454-AB1E947E2133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6" name="TextBox 12" descr=""/>
          <p:cNvPicPr/>
          <p:nvPr/>
        </p:nvPicPr>
        <p:blipFill>
          <a:blip r:embed="rId1"/>
          <a:stretch/>
        </p:blipFill>
        <p:spPr>
          <a:xfrm>
            <a:off x="3638520" y="506520"/>
            <a:ext cx="5426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467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468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469" name="직사각형 13"/>
              <p:cNvSpPr/>
              <p:nvPr/>
            </p:nvSpPr>
            <p:spPr>
              <a:xfrm>
                <a:off x="1319760" y="1385640"/>
                <a:ext cx="1008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성격의 구조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47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73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47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75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76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7" name="그룹 91"/>
          <p:cNvGrpSpPr/>
          <p:nvPr/>
        </p:nvGrpSpPr>
        <p:grpSpPr>
          <a:xfrm>
            <a:off x="285840" y="2500200"/>
            <a:ext cx="8501040" cy="1216080"/>
            <a:chOff x="285840" y="2500200"/>
            <a:chExt cx="8501040" cy="1216080"/>
          </a:xfrm>
        </p:grpSpPr>
        <p:pic>
          <p:nvPicPr>
            <p:cNvPr id="478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786040"/>
              <a:ext cx="8501040" cy="9302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479" name="그룹 34"/>
            <p:cNvGrpSpPr/>
            <p:nvPr/>
          </p:nvGrpSpPr>
          <p:grpSpPr>
            <a:xfrm>
              <a:off x="857160" y="2590560"/>
              <a:ext cx="349200" cy="380880"/>
              <a:chOff x="857160" y="2590560"/>
              <a:chExt cx="349200" cy="380880"/>
            </a:xfrm>
          </p:grpSpPr>
          <p:pic>
            <p:nvPicPr>
              <p:cNvPr id="480" name="Picture 177" descr="bull"/>
              <p:cNvPicPr/>
              <p:nvPr/>
            </p:nvPicPr>
            <p:blipFill>
              <a:blip r:embed="rId4"/>
              <a:stretch/>
            </p:blipFill>
            <p:spPr>
              <a:xfrm>
                <a:off x="857160" y="2614680"/>
                <a:ext cx="349200" cy="356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1" name="TextBox 36"/>
              <p:cNvSpPr/>
              <p:nvPr/>
            </p:nvSpPr>
            <p:spPr>
              <a:xfrm>
                <a:off x="891360" y="259056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2" name="직사각형 41"/>
            <p:cNvSpPr/>
            <p:nvPr/>
          </p:nvSpPr>
          <p:spPr>
            <a:xfrm>
              <a:off x="1921320" y="2500200"/>
              <a:ext cx="298476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초자아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: 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사회적 가치 및 이상의 수호자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3" name="타원 42"/>
            <p:cNvGrpSpPr/>
            <p:nvPr/>
          </p:nvGrpSpPr>
          <p:grpSpPr>
            <a:xfrm>
              <a:off x="1152000" y="3224880"/>
              <a:ext cx="213120" cy="207000"/>
              <a:chOff x="1152000" y="3224880"/>
              <a:chExt cx="213120" cy="207000"/>
            </a:xfrm>
          </p:grpSpPr>
          <p:pic>
            <p:nvPicPr>
              <p:cNvPr id="484" name="타원 42" descr=""/>
              <p:cNvPicPr/>
              <p:nvPr/>
            </p:nvPicPr>
            <p:blipFill>
              <a:blip r:embed="rId5"/>
              <a:stretch/>
            </p:blipFill>
            <p:spPr>
              <a:xfrm>
                <a:off x="1152000" y="32248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5" name=""/>
              <p:cNvSpPr/>
              <p:nvPr/>
            </p:nvSpPr>
            <p:spPr>
              <a:xfrm rot="10800000">
                <a:off x="1228680" y="3273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6" name="직사각형 43"/>
            <p:cNvSpPr/>
            <p:nvPr/>
          </p:nvSpPr>
          <p:spPr>
            <a:xfrm>
              <a:off x="1357200" y="3033720"/>
              <a:ext cx="721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의 가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이상을 내면화시킨 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직선 연결선 44"/>
            <p:cNvSpPr/>
            <p:nvPr/>
          </p:nvSpPr>
          <p:spPr>
            <a:xfrm>
              <a:off x="5808960" y="2776320"/>
              <a:ext cx="2550960" cy="792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8" name="그룹 58"/>
          <p:cNvGrpSpPr/>
          <p:nvPr/>
        </p:nvGrpSpPr>
        <p:grpSpPr>
          <a:xfrm>
            <a:off x="285840" y="4214880"/>
            <a:ext cx="8501040" cy="1643040"/>
            <a:chOff x="285840" y="4214880"/>
            <a:chExt cx="8501040" cy="1643040"/>
          </a:xfrm>
        </p:grpSpPr>
        <p:grpSp>
          <p:nvGrpSpPr>
            <p:cNvPr id="489" name="그룹 91"/>
            <p:cNvGrpSpPr/>
            <p:nvPr/>
          </p:nvGrpSpPr>
          <p:grpSpPr>
            <a:xfrm>
              <a:off x="285840" y="4214880"/>
              <a:ext cx="8501040" cy="1643040"/>
              <a:chOff x="285840" y="4214880"/>
              <a:chExt cx="8501040" cy="1643040"/>
            </a:xfrm>
          </p:grpSpPr>
          <p:pic>
            <p:nvPicPr>
              <p:cNvPr id="490" name="Picture 5" descr="233"/>
              <p:cNvPicPr/>
              <p:nvPr/>
            </p:nvPicPr>
            <p:blipFill>
              <a:blip r:embed="rId6"/>
              <a:srcRect l="0" t="0" r="24313" b="0"/>
              <a:stretch/>
            </p:blipFill>
            <p:spPr>
              <a:xfrm>
                <a:off x="285840" y="4500360"/>
                <a:ext cx="8501040" cy="13575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491" name="그룹 34"/>
              <p:cNvGrpSpPr/>
              <p:nvPr/>
            </p:nvGrpSpPr>
            <p:grpSpPr>
              <a:xfrm>
                <a:off x="857160" y="4305240"/>
                <a:ext cx="349200" cy="380880"/>
                <a:chOff x="857160" y="4305240"/>
                <a:chExt cx="349200" cy="380880"/>
              </a:xfrm>
            </p:grpSpPr>
            <p:pic>
              <p:nvPicPr>
                <p:cNvPr id="492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57160" y="4333320"/>
                  <a:ext cx="349200" cy="352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93" name="TextBox 36"/>
                <p:cNvSpPr/>
                <p:nvPr/>
              </p:nvSpPr>
              <p:spPr>
                <a:xfrm>
                  <a:off x="891360" y="4305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4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4" name="직사각형 71"/>
              <p:cNvSpPr/>
              <p:nvPr/>
            </p:nvSpPr>
            <p:spPr>
              <a:xfrm>
                <a:off x="1655640" y="4214880"/>
                <a:ext cx="25873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원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,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자아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,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초자아의 상호작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95" name="타원 72"/>
              <p:cNvGrpSpPr/>
              <p:nvPr/>
            </p:nvGrpSpPr>
            <p:grpSpPr>
              <a:xfrm>
                <a:off x="1152000" y="4937760"/>
                <a:ext cx="213120" cy="207000"/>
                <a:chOff x="1152000" y="4937760"/>
                <a:chExt cx="213120" cy="207000"/>
              </a:xfrm>
            </p:grpSpPr>
            <p:pic>
              <p:nvPicPr>
                <p:cNvPr id="496" name="타원 72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152000" y="4937760"/>
                  <a:ext cx="213120" cy="20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97" name=""/>
                <p:cNvSpPr/>
                <p:nvPr/>
              </p:nvSpPr>
              <p:spPr>
                <a:xfrm rot="10800000">
                  <a:off x="1228680" y="498816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8" name="직사각형 73"/>
              <p:cNvSpPr/>
              <p:nvPr/>
            </p:nvSpPr>
            <p:spPr>
              <a:xfrm>
                <a:off x="1357200" y="4748040"/>
                <a:ext cx="72151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원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id)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자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ego)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초자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superego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는 끊임없이 상호작용을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세 부분은 추구하는 목표가 다르기 때문에 내적 갈등을 유발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직선 연결선 74"/>
              <p:cNvSpPr/>
              <p:nvPr/>
            </p:nvSpPr>
            <p:spPr>
              <a:xfrm flipV="1">
                <a:off x="5786640" y="4498920"/>
                <a:ext cx="25732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0" name="타원 66"/>
            <p:cNvGrpSpPr/>
            <p:nvPr/>
          </p:nvGrpSpPr>
          <p:grpSpPr>
            <a:xfrm>
              <a:off x="1152000" y="5358600"/>
              <a:ext cx="213120" cy="207000"/>
              <a:chOff x="1152000" y="5358600"/>
              <a:chExt cx="213120" cy="207000"/>
            </a:xfrm>
          </p:grpSpPr>
          <p:pic>
            <p:nvPicPr>
              <p:cNvPr id="501" name="타원 66" descr=""/>
              <p:cNvPicPr/>
              <p:nvPr/>
            </p:nvPicPr>
            <p:blipFill>
              <a:blip r:embed="rId9"/>
              <a:stretch/>
            </p:blipFill>
            <p:spPr>
              <a:xfrm>
                <a:off x="1152000" y="535860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2" name=""/>
              <p:cNvSpPr/>
              <p:nvPr/>
            </p:nvSpPr>
            <p:spPr>
              <a:xfrm rot="10800000">
                <a:off x="1228680" y="5407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03" name="슬라이드 번호 개체 틀 30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9E89D-A921-4C54-A84E-E07EE8017BB9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TextBox 12" descr=""/>
          <p:cNvPicPr/>
          <p:nvPr/>
        </p:nvPicPr>
        <p:blipFill>
          <a:blip r:embed="rId1"/>
          <a:stretch/>
        </p:blipFill>
        <p:spPr>
          <a:xfrm>
            <a:off x="3638520" y="506520"/>
            <a:ext cx="5426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505" name="그룹 51"/>
          <p:cNvGrpSpPr/>
          <p:nvPr/>
        </p:nvGrpSpPr>
        <p:grpSpPr>
          <a:xfrm>
            <a:off x="142920" y="4686480"/>
            <a:ext cx="8831160" cy="1457280"/>
            <a:chOff x="142920" y="4686480"/>
            <a:chExt cx="8831160" cy="1457280"/>
          </a:xfrm>
        </p:grpSpPr>
        <p:grpSp>
          <p:nvGrpSpPr>
            <p:cNvPr id="506" name="그룹 37"/>
            <p:cNvGrpSpPr/>
            <p:nvPr/>
          </p:nvGrpSpPr>
          <p:grpSpPr>
            <a:xfrm>
              <a:off x="142920" y="4803840"/>
              <a:ext cx="8831160" cy="1339920"/>
              <a:chOff x="142920" y="4803840"/>
              <a:chExt cx="8831160" cy="1339920"/>
            </a:xfrm>
          </p:grpSpPr>
          <p:sp>
            <p:nvSpPr>
              <p:cNvPr id="507" name="AutoShape 3"/>
              <p:cNvSpPr/>
              <p:nvPr/>
            </p:nvSpPr>
            <p:spPr>
              <a:xfrm>
                <a:off x="142920" y="4949640"/>
                <a:ext cx="1152360" cy="103680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c9b5e8"/>
                  </a:gs>
                  <a:gs pos="100000">
                    <a:srgbClr val="f0eaf9"/>
                  </a:gs>
                </a:gsLst>
                <a:lin ang="16200000"/>
              </a:gradFill>
              <a:ln w="0">
                <a:noFill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AutoShape 4"/>
              <p:cNvSpPr/>
              <p:nvPr/>
            </p:nvSpPr>
            <p:spPr>
              <a:xfrm>
                <a:off x="1366560" y="4803840"/>
                <a:ext cx="7607520" cy="1339920"/>
              </a:xfrm>
              <a:prstGeom prst="rightArrow">
                <a:avLst>
                  <a:gd name="adj1" fmla="val 78463"/>
                  <a:gd name="adj2" fmla="val 44185"/>
                </a:avLst>
              </a:prstGeom>
              <a:gradFill rotWithShape="0">
                <a:gsLst>
                  <a:gs pos="0">
                    <a:srgbClr val="c9b5e8"/>
                  </a:gs>
                  <a:gs pos="100000">
                    <a:srgbClr val="f0eaf9"/>
                  </a:gs>
                </a:gsLst>
                <a:lin ang="16200000"/>
              </a:gradFill>
              <a:ln w="0">
                <a:noFill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9" name="그룹 92"/>
            <p:cNvGrpSpPr/>
            <p:nvPr/>
          </p:nvGrpSpPr>
          <p:grpSpPr>
            <a:xfrm>
              <a:off x="412560" y="4686480"/>
              <a:ext cx="1566720" cy="1357560"/>
              <a:chOff x="412560" y="4686480"/>
              <a:chExt cx="1566720" cy="1357560"/>
            </a:xfrm>
          </p:grpSpPr>
          <p:grpSp>
            <p:nvGrpSpPr>
              <p:cNvPr id="510" name="그룹 21"/>
              <p:cNvGrpSpPr/>
              <p:nvPr/>
            </p:nvGrpSpPr>
            <p:grpSpPr>
              <a:xfrm>
                <a:off x="412560" y="4686480"/>
                <a:ext cx="1566720" cy="1357560"/>
                <a:chOff x="412560" y="4686480"/>
                <a:chExt cx="1566720" cy="1357560"/>
              </a:xfrm>
            </p:grpSpPr>
            <p:sp>
              <p:nvSpPr>
                <p:cNvPr id="511" name="AutoShape 8"/>
                <p:cNvSpPr/>
                <p:nvPr/>
              </p:nvSpPr>
              <p:spPr>
                <a:xfrm>
                  <a:off x="412560" y="4686480"/>
                  <a:ext cx="1566720" cy="1357560"/>
                </a:xfrm>
                <a:prstGeom prst="hexagon">
                  <a:avLst>
                    <a:gd name="adj" fmla="val 28852"/>
                    <a:gd name="vf" fmla="val 115470"/>
                  </a:avLst>
                </a:prstGeom>
                <a:solidFill>
                  <a:srgbClr val="8064a2"/>
                </a:solidFill>
                <a:ln w="25560">
                  <a:solidFill>
                    <a:srgbClr val="5c477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2" name="AutoShape 9"/>
                <p:cNvSpPr/>
                <p:nvPr/>
              </p:nvSpPr>
              <p:spPr>
                <a:xfrm>
                  <a:off x="567720" y="4806000"/>
                  <a:ext cx="1266120" cy="1093680"/>
                </a:xfrm>
                <a:prstGeom prst="hexagon">
                  <a:avLst>
                    <a:gd name="adj" fmla="val 28942"/>
                    <a:gd name="vf" fmla="val 11547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18900000"/>
                </a:gradFill>
                <a:ln w="19080">
                  <a:solidFill>
                    <a:srgbClr val="6699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3" name="Rectangle 25"/>
              <p:cNvSpPr/>
              <p:nvPr/>
            </p:nvSpPr>
            <p:spPr>
              <a:xfrm>
                <a:off x="677520" y="4982760"/>
                <a:ext cx="1045800" cy="78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강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4" name="그룹 93"/>
            <p:cNvGrpSpPr/>
            <p:nvPr/>
          </p:nvGrpSpPr>
          <p:grpSpPr>
            <a:xfrm>
              <a:off x="2052720" y="4686480"/>
              <a:ext cx="1566720" cy="1357560"/>
              <a:chOff x="2052720" y="4686480"/>
              <a:chExt cx="1566720" cy="1357560"/>
            </a:xfrm>
          </p:grpSpPr>
          <p:grpSp>
            <p:nvGrpSpPr>
              <p:cNvPr id="515" name="그룹 22"/>
              <p:cNvGrpSpPr/>
              <p:nvPr/>
            </p:nvGrpSpPr>
            <p:grpSpPr>
              <a:xfrm>
                <a:off x="2052720" y="4686480"/>
                <a:ext cx="1566720" cy="1357560"/>
                <a:chOff x="2052720" y="4686480"/>
                <a:chExt cx="1566720" cy="1357560"/>
              </a:xfrm>
            </p:grpSpPr>
            <p:sp>
              <p:nvSpPr>
                <p:cNvPr id="516" name="AutoShape 8"/>
                <p:cNvSpPr/>
                <p:nvPr/>
              </p:nvSpPr>
              <p:spPr>
                <a:xfrm>
                  <a:off x="2052720" y="4686480"/>
                  <a:ext cx="1566720" cy="1357560"/>
                </a:xfrm>
                <a:prstGeom prst="hexagon">
                  <a:avLst>
                    <a:gd name="adj" fmla="val 28852"/>
                    <a:gd name="vf" fmla="val 115470"/>
                  </a:avLst>
                </a:prstGeom>
                <a:solidFill>
                  <a:srgbClr val="8064a2"/>
                </a:solidFill>
                <a:ln w="25560">
                  <a:solidFill>
                    <a:srgbClr val="5c477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7" name="AutoShape 9"/>
                <p:cNvSpPr/>
                <p:nvPr/>
              </p:nvSpPr>
              <p:spPr>
                <a:xfrm>
                  <a:off x="2207880" y="4806000"/>
                  <a:ext cx="1266120" cy="1093680"/>
                </a:xfrm>
                <a:prstGeom prst="hexagon">
                  <a:avLst>
                    <a:gd name="adj" fmla="val 28942"/>
                    <a:gd name="vf" fmla="val 11547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18900000"/>
                </a:gradFill>
                <a:ln w="19080">
                  <a:solidFill>
                    <a:srgbClr val="6699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8" name="Rectangle 25"/>
              <p:cNvSpPr/>
              <p:nvPr/>
            </p:nvSpPr>
            <p:spPr>
              <a:xfrm>
                <a:off x="2320560" y="4991040"/>
                <a:ext cx="1045800" cy="78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항문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9" name="그룹 94"/>
            <p:cNvGrpSpPr/>
            <p:nvPr/>
          </p:nvGrpSpPr>
          <p:grpSpPr>
            <a:xfrm>
              <a:off x="3692520" y="4686480"/>
              <a:ext cx="1566720" cy="1357560"/>
              <a:chOff x="3692520" y="4686480"/>
              <a:chExt cx="1566720" cy="1357560"/>
            </a:xfrm>
          </p:grpSpPr>
          <p:grpSp>
            <p:nvGrpSpPr>
              <p:cNvPr id="520" name="그룹 25"/>
              <p:cNvGrpSpPr/>
              <p:nvPr/>
            </p:nvGrpSpPr>
            <p:grpSpPr>
              <a:xfrm>
                <a:off x="3692520" y="4686480"/>
                <a:ext cx="1566720" cy="1357560"/>
                <a:chOff x="3692520" y="4686480"/>
                <a:chExt cx="1566720" cy="1357560"/>
              </a:xfrm>
            </p:grpSpPr>
            <p:sp>
              <p:nvSpPr>
                <p:cNvPr id="521" name="AutoShape 8"/>
                <p:cNvSpPr/>
                <p:nvPr/>
              </p:nvSpPr>
              <p:spPr>
                <a:xfrm>
                  <a:off x="3692520" y="4686480"/>
                  <a:ext cx="1566720" cy="1357560"/>
                </a:xfrm>
                <a:prstGeom prst="hexagon">
                  <a:avLst>
                    <a:gd name="adj" fmla="val 28852"/>
                    <a:gd name="vf" fmla="val 115470"/>
                  </a:avLst>
                </a:prstGeom>
                <a:solidFill>
                  <a:srgbClr val="8064a2"/>
                </a:solidFill>
                <a:ln w="25560">
                  <a:solidFill>
                    <a:srgbClr val="5c477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2" name="AutoShape 9"/>
                <p:cNvSpPr/>
                <p:nvPr/>
              </p:nvSpPr>
              <p:spPr>
                <a:xfrm>
                  <a:off x="3847680" y="4806000"/>
                  <a:ext cx="1266120" cy="1093680"/>
                </a:xfrm>
                <a:prstGeom prst="hexagon">
                  <a:avLst>
                    <a:gd name="adj" fmla="val 28942"/>
                    <a:gd name="vf" fmla="val 11547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18900000"/>
                </a:gradFill>
                <a:ln w="19080">
                  <a:solidFill>
                    <a:srgbClr val="6699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23" name="Rectangle 25"/>
              <p:cNvSpPr/>
              <p:nvPr/>
            </p:nvSpPr>
            <p:spPr>
              <a:xfrm>
                <a:off x="3953880" y="4991040"/>
                <a:ext cx="1045800" cy="78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남근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4" name="그룹 96"/>
            <p:cNvGrpSpPr/>
            <p:nvPr/>
          </p:nvGrpSpPr>
          <p:grpSpPr>
            <a:xfrm>
              <a:off x="5334120" y="4686480"/>
              <a:ext cx="1566720" cy="1357560"/>
              <a:chOff x="5334120" y="4686480"/>
              <a:chExt cx="1566720" cy="1357560"/>
            </a:xfrm>
          </p:grpSpPr>
          <p:grpSp>
            <p:nvGrpSpPr>
              <p:cNvPr id="525" name="그룹 31"/>
              <p:cNvGrpSpPr/>
              <p:nvPr/>
            </p:nvGrpSpPr>
            <p:grpSpPr>
              <a:xfrm>
                <a:off x="5334120" y="4686480"/>
                <a:ext cx="1566720" cy="1357560"/>
                <a:chOff x="5334120" y="4686480"/>
                <a:chExt cx="1566720" cy="1357560"/>
              </a:xfrm>
            </p:grpSpPr>
            <p:sp>
              <p:nvSpPr>
                <p:cNvPr id="526" name="AutoShape 8"/>
                <p:cNvSpPr/>
                <p:nvPr/>
              </p:nvSpPr>
              <p:spPr>
                <a:xfrm>
                  <a:off x="5334120" y="4686480"/>
                  <a:ext cx="1566720" cy="1357560"/>
                </a:xfrm>
                <a:prstGeom prst="hexagon">
                  <a:avLst>
                    <a:gd name="adj" fmla="val 28852"/>
                    <a:gd name="vf" fmla="val 115470"/>
                  </a:avLst>
                </a:prstGeom>
                <a:solidFill>
                  <a:srgbClr val="8064a2"/>
                </a:solidFill>
                <a:ln w="25560">
                  <a:solidFill>
                    <a:srgbClr val="5c477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7" name="AutoShape 9"/>
                <p:cNvSpPr/>
                <p:nvPr/>
              </p:nvSpPr>
              <p:spPr>
                <a:xfrm>
                  <a:off x="5489280" y="4806000"/>
                  <a:ext cx="1266120" cy="1093680"/>
                </a:xfrm>
                <a:prstGeom prst="hexagon">
                  <a:avLst>
                    <a:gd name="adj" fmla="val 28942"/>
                    <a:gd name="vf" fmla="val 11547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18900000"/>
                </a:gradFill>
                <a:ln w="19080">
                  <a:solidFill>
                    <a:srgbClr val="6699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28" name="Rectangle 25"/>
              <p:cNvSpPr/>
              <p:nvPr/>
            </p:nvSpPr>
            <p:spPr>
              <a:xfrm>
                <a:off x="5627160" y="4991040"/>
                <a:ext cx="1045800" cy="78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잠재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9" name="그룹 97"/>
            <p:cNvGrpSpPr/>
            <p:nvPr/>
          </p:nvGrpSpPr>
          <p:grpSpPr>
            <a:xfrm>
              <a:off x="6973920" y="4714920"/>
              <a:ext cx="1566720" cy="1357560"/>
              <a:chOff x="6973920" y="4714920"/>
              <a:chExt cx="1566720" cy="1357560"/>
            </a:xfrm>
          </p:grpSpPr>
          <p:grpSp>
            <p:nvGrpSpPr>
              <p:cNvPr id="530" name="그룹 34"/>
              <p:cNvGrpSpPr/>
              <p:nvPr/>
            </p:nvGrpSpPr>
            <p:grpSpPr>
              <a:xfrm>
                <a:off x="6973920" y="4714920"/>
                <a:ext cx="1566720" cy="1357560"/>
                <a:chOff x="6973920" y="4714920"/>
                <a:chExt cx="1566720" cy="1357560"/>
              </a:xfrm>
            </p:grpSpPr>
            <p:sp>
              <p:nvSpPr>
                <p:cNvPr id="531" name="AutoShape 8"/>
                <p:cNvSpPr/>
                <p:nvPr/>
              </p:nvSpPr>
              <p:spPr>
                <a:xfrm>
                  <a:off x="6973920" y="4714920"/>
                  <a:ext cx="1566720" cy="1357560"/>
                </a:xfrm>
                <a:prstGeom prst="hexagon">
                  <a:avLst>
                    <a:gd name="adj" fmla="val 28852"/>
                    <a:gd name="vf" fmla="val 115470"/>
                  </a:avLst>
                </a:prstGeom>
                <a:solidFill>
                  <a:srgbClr val="8064a2"/>
                </a:solidFill>
                <a:ln w="25560">
                  <a:solidFill>
                    <a:srgbClr val="5c477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2" name="AutoShape 9"/>
                <p:cNvSpPr/>
                <p:nvPr/>
              </p:nvSpPr>
              <p:spPr>
                <a:xfrm>
                  <a:off x="7129080" y="4834440"/>
                  <a:ext cx="1266120" cy="1093680"/>
                </a:xfrm>
                <a:prstGeom prst="hexagon">
                  <a:avLst>
                    <a:gd name="adj" fmla="val 28942"/>
                    <a:gd name="vf" fmla="val 11547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18900000"/>
                </a:gradFill>
                <a:ln w="19080">
                  <a:solidFill>
                    <a:srgbClr val="6699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33" name="Rectangle 25"/>
              <p:cNvSpPr/>
              <p:nvPr/>
            </p:nvSpPr>
            <p:spPr>
              <a:xfrm>
                <a:off x="7234920" y="4984920"/>
                <a:ext cx="1045800" cy="78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생식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3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53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536" name="직사각형 13"/>
              <p:cNvSpPr/>
              <p:nvPr/>
            </p:nvSpPr>
            <p:spPr>
              <a:xfrm>
                <a:off x="1468440" y="1385640"/>
                <a:ext cx="1465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심리성적 발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53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4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54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4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43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4" name="그룹 123"/>
          <p:cNvGrpSpPr/>
          <p:nvPr/>
        </p:nvGrpSpPr>
        <p:grpSpPr>
          <a:xfrm>
            <a:off x="642960" y="2000160"/>
            <a:ext cx="8215200" cy="2286000"/>
            <a:chOff x="642960" y="2000160"/>
            <a:chExt cx="8215200" cy="2286000"/>
          </a:xfrm>
        </p:grpSpPr>
        <p:pic>
          <p:nvPicPr>
            <p:cNvPr id="545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642960" y="2000160"/>
              <a:ext cx="8072640" cy="22860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546" name="직사각형 46"/>
            <p:cNvSpPr/>
            <p:nvPr/>
          </p:nvSpPr>
          <p:spPr>
            <a:xfrm>
              <a:off x="928440" y="2071440"/>
              <a:ext cx="792972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든 사람들은 동일한 성격발달단계를 통과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격발달은 아동기에 결정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각 단계에서 아동은 특정 신체부위에 리비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적에너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를 집중시켜 성욕을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충족시키려고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격발달은 성적 욕구 충족과 긴밀하게 관련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심리성적 발달단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7" name="타원 47"/>
            <p:cNvGrpSpPr/>
            <p:nvPr/>
          </p:nvGrpSpPr>
          <p:grpSpPr>
            <a:xfrm>
              <a:off x="914400" y="2675880"/>
              <a:ext cx="213120" cy="207000"/>
              <a:chOff x="914400" y="2675880"/>
              <a:chExt cx="213120" cy="207000"/>
            </a:xfrm>
          </p:grpSpPr>
          <p:pic>
            <p:nvPicPr>
              <p:cNvPr id="548" name="타원 47" descr=""/>
              <p:cNvPicPr/>
              <p:nvPr/>
            </p:nvPicPr>
            <p:blipFill>
              <a:blip r:embed="rId4"/>
              <a:stretch/>
            </p:blipFill>
            <p:spPr>
              <a:xfrm>
                <a:off x="914400" y="26758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9" name=""/>
              <p:cNvSpPr/>
              <p:nvPr/>
            </p:nvSpPr>
            <p:spPr>
              <a:xfrm rot="10800000">
                <a:off x="987480" y="27284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0" name="타원 48"/>
            <p:cNvGrpSpPr/>
            <p:nvPr/>
          </p:nvGrpSpPr>
          <p:grpSpPr>
            <a:xfrm>
              <a:off x="914400" y="2249280"/>
              <a:ext cx="213120" cy="207000"/>
              <a:chOff x="914400" y="2249280"/>
              <a:chExt cx="213120" cy="207000"/>
            </a:xfrm>
          </p:grpSpPr>
          <p:pic>
            <p:nvPicPr>
              <p:cNvPr id="551" name="타원 48" descr=""/>
              <p:cNvPicPr/>
              <p:nvPr/>
            </p:nvPicPr>
            <p:blipFill>
              <a:blip r:embed="rId5"/>
              <a:stretch/>
            </p:blipFill>
            <p:spPr>
              <a:xfrm>
                <a:off x="914400" y="22492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2" name=""/>
              <p:cNvSpPr/>
              <p:nvPr/>
            </p:nvSpPr>
            <p:spPr>
              <a:xfrm rot="10800000">
                <a:off x="987480" y="2300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53" name="타원 49"/>
          <p:cNvGrpSpPr/>
          <p:nvPr/>
        </p:nvGrpSpPr>
        <p:grpSpPr>
          <a:xfrm>
            <a:off x="914400" y="3078000"/>
            <a:ext cx="212760" cy="208080"/>
            <a:chOff x="914400" y="3078000"/>
            <a:chExt cx="212760" cy="208080"/>
          </a:xfrm>
        </p:grpSpPr>
        <p:pic>
          <p:nvPicPr>
            <p:cNvPr id="554" name="타원 49" descr=""/>
            <p:cNvPicPr/>
            <p:nvPr/>
          </p:nvPicPr>
          <p:blipFill>
            <a:blip r:embed="rId6"/>
            <a:stretch/>
          </p:blipFill>
          <p:spPr>
            <a:xfrm>
              <a:off x="914400" y="3078000"/>
              <a:ext cx="212760" cy="2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5" name=""/>
            <p:cNvSpPr/>
            <p:nvPr/>
          </p:nvSpPr>
          <p:spPr>
            <a:xfrm rot="10800000">
              <a:off x="987480" y="31305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6" name="타원 50"/>
          <p:cNvGrpSpPr/>
          <p:nvPr/>
        </p:nvGrpSpPr>
        <p:grpSpPr>
          <a:xfrm>
            <a:off x="914400" y="3790800"/>
            <a:ext cx="212760" cy="214560"/>
            <a:chOff x="914400" y="3790800"/>
            <a:chExt cx="212760" cy="214560"/>
          </a:xfrm>
        </p:grpSpPr>
        <p:pic>
          <p:nvPicPr>
            <p:cNvPr id="557" name="타원 50" descr=""/>
            <p:cNvPicPr/>
            <p:nvPr/>
          </p:nvPicPr>
          <p:blipFill>
            <a:blip r:embed="rId7"/>
            <a:stretch/>
          </p:blipFill>
          <p:spPr>
            <a:xfrm>
              <a:off x="914400" y="3790800"/>
              <a:ext cx="212760" cy="21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8" name=""/>
            <p:cNvSpPr/>
            <p:nvPr/>
          </p:nvSpPr>
          <p:spPr>
            <a:xfrm rot="10800000">
              <a:off x="987480" y="384480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9" name="슬라이드 번호 개체 틀 51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38A12-42E7-401D-AD84-2C05AA975515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0" name="TextBox 12" descr=""/>
          <p:cNvPicPr/>
          <p:nvPr/>
        </p:nvPicPr>
        <p:blipFill>
          <a:blip r:embed="rId1"/>
          <a:stretch/>
        </p:blipFill>
        <p:spPr>
          <a:xfrm>
            <a:off x="3170160" y="506520"/>
            <a:ext cx="5765760" cy="590400"/>
          </a:xfrm>
          <a:prstGeom prst="rect">
            <a:avLst/>
          </a:prstGeom>
          <a:ln w="0">
            <a:noFill/>
          </a:ln>
        </p:spPr>
      </p:pic>
      <p:grpSp>
        <p:nvGrpSpPr>
          <p:cNvPr id="561" name="그룹 6"/>
          <p:cNvGrpSpPr/>
          <p:nvPr/>
        </p:nvGrpSpPr>
        <p:grpSpPr>
          <a:xfrm>
            <a:off x="1785960" y="2143080"/>
            <a:ext cx="7105680" cy="593640"/>
            <a:chOff x="1785960" y="2143080"/>
            <a:chExt cx="7105680" cy="593640"/>
          </a:xfrm>
        </p:grpSpPr>
        <p:grpSp>
          <p:nvGrpSpPr>
            <p:cNvPr id="562" name="Group 17"/>
            <p:cNvGrpSpPr/>
            <p:nvPr/>
          </p:nvGrpSpPr>
          <p:grpSpPr>
            <a:xfrm>
              <a:off x="2068200" y="2143080"/>
              <a:ext cx="6575040" cy="593640"/>
              <a:chOff x="2068200" y="2143080"/>
              <a:chExt cx="6575040" cy="593640"/>
            </a:xfrm>
          </p:grpSpPr>
          <p:sp>
            <p:nvSpPr>
              <p:cNvPr id="563" name="Rectangle 18"/>
              <p:cNvSpPr/>
              <p:nvPr/>
            </p:nvSpPr>
            <p:spPr>
              <a:xfrm flipH="1">
                <a:off x="2089080" y="2143080"/>
                <a:ext cx="396072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Rectangle 19"/>
              <p:cNvSpPr/>
              <p:nvPr/>
            </p:nvSpPr>
            <p:spPr>
              <a:xfrm flipH="1">
                <a:off x="2068200" y="2203200"/>
                <a:ext cx="657504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5" name="Group 20"/>
            <p:cNvGrpSpPr/>
            <p:nvPr/>
          </p:nvGrpSpPr>
          <p:grpSpPr>
            <a:xfrm>
              <a:off x="1785960" y="2160360"/>
              <a:ext cx="529920" cy="526680"/>
              <a:chOff x="1785960" y="2160360"/>
              <a:chExt cx="529920" cy="526680"/>
            </a:xfrm>
          </p:grpSpPr>
          <p:sp>
            <p:nvSpPr>
              <p:cNvPr id="566" name="Oval 21"/>
              <p:cNvSpPr/>
              <p:nvPr/>
            </p:nvSpPr>
            <p:spPr>
              <a:xfrm>
                <a:off x="1785960" y="216288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67" name="Picture 22" descr="cir_lighteffect0"/>
              <p:cNvPicPr/>
              <p:nvPr/>
            </p:nvPicPr>
            <p:blipFill>
              <a:blip r:embed="rId2"/>
              <a:stretch/>
            </p:blipFill>
            <p:spPr>
              <a:xfrm>
                <a:off x="1830600" y="216036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68" name="Group 35"/>
            <p:cNvGrpSpPr/>
            <p:nvPr/>
          </p:nvGrpSpPr>
          <p:grpSpPr>
            <a:xfrm>
              <a:off x="1825920" y="2280960"/>
              <a:ext cx="362880" cy="280800"/>
              <a:chOff x="1825920" y="2280960"/>
              <a:chExt cx="362880" cy="280800"/>
            </a:xfrm>
          </p:grpSpPr>
          <p:grpSp>
            <p:nvGrpSpPr>
              <p:cNvPr id="569" name="Group 36"/>
              <p:cNvGrpSpPr/>
              <p:nvPr/>
            </p:nvGrpSpPr>
            <p:grpSpPr>
              <a:xfrm>
                <a:off x="1825920" y="2280960"/>
                <a:ext cx="362880" cy="280800"/>
                <a:chOff x="1825920" y="2280960"/>
                <a:chExt cx="362880" cy="280800"/>
              </a:xfrm>
            </p:grpSpPr>
            <p:sp>
              <p:nvSpPr>
                <p:cNvPr id="570" name="AutoShape 37"/>
                <p:cNvSpPr/>
                <p:nvPr/>
              </p:nvSpPr>
              <p:spPr>
                <a:xfrm>
                  <a:off x="1901160" y="23680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1" name="AutoShape 38"/>
                <p:cNvSpPr/>
                <p:nvPr/>
              </p:nvSpPr>
              <p:spPr>
                <a:xfrm rot="20706600">
                  <a:off x="1845720" y="231444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2" name="Line 39"/>
              <p:cNvSpPr/>
              <p:nvPr/>
            </p:nvSpPr>
            <p:spPr>
              <a:xfrm flipV="1">
                <a:off x="1876680" y="235692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3" name="Rectangle 42"/>
            <p:cNvSpPr/>
            <p:nvPr/>
          </p:nvSpPr>
          <p:spPr>
            <a:xfrm>
              <a:off x="2357280" y="226980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에는 자아가 핵심역할을 한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(</a:t>
              </a: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자아심리학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4" name="그룹 21"/>
          <p:cNvGrpSpPr/>
          <p:nvPr/>
        </p:nvGrpSpPr>
        <p:grpSpPr>
          <a:xfrm>
            <a:off x="1785960" y="2886120"/>
            <a:ext cx="7072200" cy="593640"/>
            <a:chOff x="1785960" y="2886120"/>
            <a:chExt cx="7072200" cy="593640"/>
          </a:xfrm>
        </p:grpSpPr>
        <p:grpSp>
          <p:nvGrpSpPr>
            <p:cNvPr id="575" name="Group 17"/>
            <p:cNvGrpSpPr/>
            <p:nvPr/>
          </p:nvGrpSpPr>
          <p:grpSpPr>
            <a:xfrm>
              <a:off x="2067840" y="2886120"/>
              <a:ext cx="6574680" cy="593640"/>
              <a:chOff x="2067840" y="2886120"/>
              <a:chExt cx="6574680" cy="593640"/>
            </a:xfrm>
          </p:grpSpPr>
          <p:sp>
            <p:nvSpPr>
              <p:cNvPr id="576" name="Rectangle 18"/>
              <p:cNvSpPr/>
              <p:nvPr/>
            </p:nvSpPr>
            <p:spPr>
              <a:xfrm flipH="1">
                <a:off x="2088360" y="28861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Rectangle 19"/>
              <p:cNvSpPr/>
              <p:nvPr/>
            </p:nvSpPr>
            <p:spPr>
              <a:xfrm flipH="1">
                <a:off x="2067480" y="29462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8" name="Group 20"/>
            <p:cNvGrpSpPr/>
            <p:nvPr/>
          </p:nvGrpSpPr>
          <p:grpSpPr>
            <a:xfrm>
              <a:off x="1785960" y="2903400"/>
              <a:ext cx="529920" cy="526680"/>
              <a:chOff x="1785960" y="2903400"/>
              <a:chExt cx="529920" cy="526680"/>
            </a:xfrm>
          </p:grpSpPr>
          <p:sp>
            <p:nvSpPr>
              <p:cNvPr id="579" name="Oval 21"/>
              <p:cNvSpPr/>
              <p:nvPr/>
            </p:nvSpPr>
            <p:spPr>
              <a:xfrm>
                <a:off x="1785960" y="29059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80" name="Picture 22" descr="cir_lighteffect0"/>
              <p:cNvPicPr/>
              <p:nvPr/>
            </p:nvPicPr>
            <p:blipFill>
              <a:blip r:embed="rId3"/>
              <a:stretch/>
            </p:blipFill>
            <p:spPr>
              <a:xfrm>
                <a:off x="1830600" y="29034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81" name="Group 35"/>
            <p:cNvGrpSpPr/>
            <p:nvPr/>
          </p:nvGrpSpPr>
          <p:grpSpPr>
            <a:xfrm>
              <a:off x="1825920" y="3024000"/>
              <a:ext cx="362880" cy="280800"/>
              <a:chOff x="1825920" y="3024000"/>
              <a:chExt cx="362880" cy="280800"/>
            </a:xfrm>
          </p:grpSpPr>
          <p:grpSp>
            <p:nvGrpSpPr>
              <p:cNvPr id="582" name="Group 36"/>
              <p:cNvGrpSpPr/>
              <p:nvPr/>
            </p:nvGrpSpPr>
            <p:grpSpPr>
              <a:xfrm>
                <a:off x="1825920" y="3024000"/>
                <a:ext cx="362880" cy="280800"/>
                <a:chOff x="1825920" y="3024000"/>
                <a:chExt cx="362880" cy="280800"/>
              </a:xfrm>
            </p:grpSpPr>
            <p:sp>
              <p:nvSpPr>
                <p:cNvPr id="583" name="AutoShape 37"/>
                <p:cNvSpPr/>
                <p:nvPr/>
              </p:nvSpPr>
              <p:spPr>
                <a:xfrm>
                  <a:off x="1901160" y="31111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4" name="AutoShape 38"/>
                <p:cNvSpPr/>
                <p:nvPr/>
              </p:nvSpPr>
              <p:spPr>
                <a:xfrm rot="20706600">
                  <a:off x="1845720" y="30574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5" name="Line 39"/>
              <p:cNvSpPr/>
              <p:nvPr/>
            </p:nvSpPr>
            <p:spPr>
              <a:xfrm flipV="1">
                <a:off x="1876680" y="30999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6" name="Rectangle 42"/>
            <p:cNvSpPr/>
            <p:nvPr/>
          </p:nvSpPr>
          <p:spPr>
            <a:xfrm>
              <a:off x="2323800" y="301608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에는 심리사회환경이 중요하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(</a:t>
              </a: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심리사회 발달이론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7" name="그룹 34"/>
          <p:cNvGrpSpPr/>
          <p:nvPr/>
        </p:nvGrpSpPr>
        <p:grpSpPr>
          <a:xfrm>
            <a:off x="1785960" y="3627360"/>
            <a:ext cx="7072200" cy="593640"/>
            <a:chOff x="1785960" y="3627360"/>
            <a:chExt cx="7072200" cy="593640"/>
          </a:xfrm>
        </p:grpSpPr>
        <p:grpSp>
          <p:nvGrpSpPr>
            <p:cNvPr id="588" name="Group 17"/>
            <p:cNvGrpSpPr/>
            <p:nvPr/>
          </p:nvGrpSpPr>
          <p:grpSpPr>
            <a:xfrm>
              <a:off x="2067840" y="3627360"/>
              <a:ext cx="6574680" cy="593640"/>
              <a:chOff x="2067840" y="3627360"/>
              <a:chExt cx="6574680" cy="593640"/>
            </a:xfrm>
          </p:grpSpPr>
          <p:sp>
            <p:nvSpPr>
              <p:cNvPr id="589" name="Rectangle 18"/>
              <p:cNvSpPr/>
              <p:nvPr/>
            </p:nvSpPr>
            <p:spPr>
              <a:xfrm flipH="1">
                <a:off x="2088360" y="362736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Rectangle 19"/>
              <p:cNvSpPr/>
              <p:nvPr/>
            </p:nvSpPr>
            <p:spPr>
              <a:xfrm flipH="1">
                <a:off x="2067480" y="368748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1" name="Group 20"/>
            <p:cNvGrpSpPr/>
            <p:nvPr/>
          </p:nvGrpSpPr>
          <p:grpSpPr>
            <a:xfrm>
              <a:off x="1785960" y="3644640"/>
              <a:ext cx="529920" cy="526680"/>
              <a:chOff x="1785960" y="3644640"/>
              <a:chExt cx="529920" cy="526680"/>
            </a:xfrm>
          </p:grpSpPr>
          <p:sp>
            <p:nvSpPr>
              <p:cNvPr id="592" name="Oval 21"/>
              <p:cNvSpPr/>
              <p:nvPr/>
            </p:nvSpPr>
            <p:spPr>
              <a:xfrm>
                <a:off x="1785960" y="364716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93" name="Picture 22" descr="cir_lighteffect0"/>
              <p:cNvPicPr/>
              <p:nvPr/>
            </p:nvPicPr>
            <p:blipFill>
              <a:blip r:embed="rId4"/>
              <a:stretch/>
            </p:blipFill>
            <p:spPr>
              <a:xfrm>
                <a:off x="1830600" y="364464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94" name="Group 35"/>
            <p:cNvGrpSpPr/>
            <p:nvPr/>
          </p:nvGrpSpPr>
          <p:grpSpPr>
            <a:xfrm>
              <a:off x="1825920" y="3765240"/>
              <a:ext cx="362880" cy="280800"/>
              <a:chOff x="1825920" y="3765240"/>
              <a:chExt cx="362880" cy="280800"/>
            </a:xfrm>
          </p:grpSpPr>
          <p:grpSp>
            <p:nvGrpSpPr>
              <p:cNvPr id="595" name="Group 36"/>
              <p:cNvGrpSpPr/>
              <p:nvPr/>
            </p:nvGrpSpPr>
            <p:grpSpPr>
              <a:xfrm>
                <a:off x="1825920" y="3765240"/>
                <a:ext cx="362880" cy="280800"/>
                <a:chOff x="1825920" y="3765240"/>
                <a:chExt cx="362880" cy="280800"/>
              </a:xfrm>
            </p:grpSpPr>
            <p:sp>
              <p:nvSpPr>
                <p:cNvPr id="596" name="AutoShape 37"/>
                <p:cNvSpPr/>
                <p:nvPr/>
              </p:nvSpPr>
              <p:spPr>
                <a:xfrm>
                  <a:off x="1901160" y="38523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7" name="AutoShape 38"/>
                <p:cNvSpPr/>
                <p:nvPr/>
              </p:nvSpPr>
              <p:spPr>
                <a:xfrm rot="20706600">
                  <a:off x="1845720" y="37987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98" name="Line 39"/>
              <p:cNvSpPr/>
              <p:nvPr/>
            </p:nvSpPr>
            <p:spPr>
              <a:xfrm flipV="1">
                <a:off x="1876680" y="384120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9" name="Rectangle 42"/>
            <p:cNvSpPr/>
            <p:nvPr/>
          </p:nvSpPr>
          <p:spPr>
            <a:xfrm>
              <a:off x="2323800" y="375732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은 일생 동안 이루어진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(</a:t>
              </a: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전생애 발달이론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0" name="그룹 47"/>
          <p:cNvGrpSpPr/>
          <p:nvPr/>
        </p:nvGrpSpPr>
        <p:grpSpPr>
          <a:xfrm>
            <a:off x="1785960" y="4370400"/>
            <a:ext cx="7072200" cy="593640"/>
            <a:chOff x="1785960" y="4370400"/>
            <a:chExt cx="7072200" cy="593640"/>
          </a:xfrm>
        </p:grpSpPr>
        <p:grpSp>
          <p:nvGrpSpPr>
            <p:cNvPr id="601" name="Group 17"/>
            <p:cNvGrpSpPr/>
            <p:nvPr/>
          </p:nvGrpSpPr>
          <p:grpSpPr>
            <a:xfrm>
              <a:off x="2067840" y="4370400"/>
              <a:ext cx="6574680" cy="593640"/>
              <a:chOff x="2067840" y="4370400"/>
              <a:chExt cx="6574680" cy="593640"/>
            </a:xfrm>
          </p:grpSpPr>
          <p:sp>
            <p:nvSpPr>
              <p:cNvPr id="602" name="Rectangle 18"/>
              <p:cNvSpPr/>
              <p:nvPr/>
            </p:nvSpPr>
            <p:spPr>
              <a:xfrm flipH="1">
                <a:off x="2088360" y="437040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Rectangle 19"/>
              <p:cNvSpPr/>
              <p:nvPr/>
            </p:nvSpPr>
            <p:spPr>
              <a:xfrm flipH="1">
                <a:off x="2067480" y="443052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4" name="Group 20"/>
            <p:cNvGrpSpPr/>
            <p:nvPr/>
          </p:nvGrpSpPr>
          <p:grpSpPr>
            <a:xfrm>
              <a:off x="1785960" y="4387680"/>
              <a:ext cx="529920" cy="526680"/>
              <a:chOff x="1785960" y="4387680"/>
              <a:chExt cx="529920" cy="526680"/>
            </a:xfrm>
          </p:grpSpPr>
          <p:sp>
            <p:nvSpPr>
              <p:cNvPr id="605" name="Oval 21"/>
              <p:cNvSpPr/>
              <p:nvPr/>
            </p:nvSpPr>
            <p:spPr>
              <a:xfrm>
                <a:off x="1785960" y="439020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06" name="Picture 22" descr="cir_lighteffect0"/>
              <p:cNvPicPr/>
              <p:nvPr/>
            </p:nvPicPr>
            <p:blipFill>
              <a:blip r:embed="rId5"/>
              <a:stretch/>
            </p:blipFill>
            <p:spPr>
              <a:xfrm>
                <a:off x="1830600" y="438768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07" name="Group 35"/>
            <p:cNvGrpSpPr/>
            <p:nvPr/>
          </p:nvGrpSpPr>
          <p:grpSpPr>
            <a:xfrm>
              <a:off x="1825920" y="4508280"/>
              <a:ext cx="362880" cy="280800"/>
              <a:chOff x="1825920" y="4508280"/>
              <a:chExt cx="362880" cy="280800"/>
            </a:xfrm>
          </p:grpSpPr>
          <p:grpSp>
            <p:nvGrpSpPr>
              <p:cNvPr id="608" name="Group 36"/>
              <p:cNvGrpSpPr/>
              <p:nvPr/>
            </p:nvGrpSpPr>
            <p:grpSpPr>
              <a:xfrm>
                <a:off x="1825920" y="4508280"/>
                <a:ext cx="362880" cy="280800"/>
                <a:chOff x="1825920" y="4508280"/>
                <a:chExt cx="362880" cy="280800"/>
              </a:xfrm>
            </p:grpSpPr>
            <p:sp>
              <p:nvSpPr>
                <p:cNvPr id="609" name="AutoShape 37"/>
                <p:cNvSpPr/>
                <p:nvPr/>
              </p:nvSpPr>
              <p:spPr>
                <a:xfrm>
                  <a:off x="1901160" y="459540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0" name="AutoShape 38"/>
                <p:cNvSpPr/>
                <p:nvPr/>
              </p:nvSpPr>
              <p:spPr>
                <a:xfrm rot="20706600">
                  <a:off x="1845720" y="45417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11" name="Line 39"/>
              <p:cNvSpPr/>
              <p:nvPr/>
            </p:nvSpPr>
            <p:spPr>
              <a:xfrm flipV="1">
                <a:off x="1876680" y="458424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2" name="Rectangle 42"/>
            <p:cNvSpPr/>
            <p:nvPr/>
          </p:nvSpPr>
          <p:spPr>
            <a:xfrm>
              <a:off x="2324160" y="4486320"/>
              <a:ext cx="653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은 단계별로 이루어진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3" name="그룹 60"/>
          <p:cNvGrpSpPr/>
          <p:nvPr/>
        </p:nvGrpSpPr>
        <p:grpSpPr>
          <a:xfrm>
            <a:off x="1785960" y="5040360"/>
            <a:ext cx="7072200" cy="593640"/>
            <a:chOff x="1785960" y="5040360"/>
            <a:chExt cx="7072200" cy="593640"/>
          </a:xfrm>
        </p:grpSpPr>
        <p:grpSp>
          <p:nvGrpSpPr>
            <p:cNvPr id="614" name="Group 17"/>
            <p:cNvGrpSpPr/>
            <p:nvPr/>
          </p:nvGrpSpPr>
          <p:grpSpPr>
            <a:xfrm>
              <a:off x="2067840" y="5040360"/>
              <a:ext cx="6574680" cy="593640"/>
              <a:chOff x="2067840" y="5040360"/>
              <a:chExt cx="6574680" cy="593640"/>
            </a:xfrm>
          </p:grpSpPr>
          <p:sp>
            <p:nvSpPr>
              <p:cNvPr id="615" name="Rectangle 18"/>
              <p:cNvSpPr/>
              <p:nvPr/>
            </p:nvSpPr>
            <p:spPr>
              <a:xfrm flipH="1">
                <a:off x="2088360" y="504036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Rectangle 19"/>
              <p:cNvSpPr/>
              <p:nvPr/>
            </p:nvSpPr>
            <p:spPr>
              <a:xfrm flipH="1">
                <a:off x="2067480" y="510048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7" name="Group 20"/>
            <p:cNvGrpSpPr/>
            <p:nvPr/>
          </p:nvGrpSpPr>
          <p:grpSpPr>
            <a:xfrm>
              <a:off x="1785960" y="5057640"/>
              <a:ext cx="529920" cy="526680"/>
              <a:chOff x="1785960" y="5057640"/>
              <a:chExt cx="529920" cy="526680"/>
            </a:xfrm>
          </p:grpSpPr>
          <p:sp>
            <p:nvSpPr>
              <p:cNvPr id="618" name="Oval 21"/>
              <p:cNvSpPr/>
              <p:nvPr/>
            </p:nvSpPr>
            <p:spPr>
              <a:xfrm>
                <a:off x="1785960" y="506016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19" name="Picture 22" descr="cir_lighteffect0"/>
              <p:cNvPicPr/>
              <p:nvPr/>
            </p:nvPicPr>
            <p:blipFill>
              <a:blip r:embed="rId6"/>
              <a:stretch/>
            </p:blipFill>
            <p:spPr>
              <a:xfrm>
                <a:off x="1830600" y="505764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20" name="Group 35"/>
            <p:cNvGrpSpPr/>
            <p:nvPr/>
          </p:nvGrpSpPr>
          <p:grpSpPr>
            <a:xfrm>
              <a:off x="1825920" y="5178240"/>
              <a:ext cx="362880" cy="280800"/>
              <a:chOff x="1825920" y="5178240"/>
              <a:chExt cx="362880" cy="280800"/>
            </a:xfrm>
          </p:grpSpPr>
          <p:grpSp>
            <p:nvGrpSpPr>
              <p:cNvPr id="621" name="Group 36"/>
              <p:cNvGrpSpPr/>
              <p:nvPr/>
            </p:nvGrpSpPr>
            <p:grpSpPr>
              <a:xfrm>
                <a:off x="1825920" y="5178240"/>
                <a:ext cx="362880" cy="280800"/>
                <a:chOff x="1825920" y="5178240"/>
                <a:chExt cx="362880" cy="280800"/>
              </a:xfrm>
            </p:grpSpPr>
            <p:sp>
              <p:nvSpPr>
                <p:cNvPr id="622" name="AutoShape 37"/>
                <p:cNvSpPr/>
                <p:nvPr/>
              </p:nvSpPr>
              <p:spPr>
                <a:xfrm>
                  <a:off x="1901160" y="52653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3" name="AutoShape 38"/>
                <p:cNvSpPr/>
                <p:nvPr/>
              </p:nvSpPr>
              <p:spPr>
                <a:xfrm rot="20706600">
                  <a:off x="1845720" y="52117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4" name="Line 39"/>
              <p:cNvSpPr/>
              <p:nvPr/>
            </p:nvSpPr>
            <p:spPr>
              <a:xfrm flipV="1">
                <a:off x="1876680" y="525420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5" name="Rectangle 42"/>
            <p:cNvSpPr/>
            <p:nvPr/>
          </p:nvSpPr>
          <p:spPr>
            <a:xfrm>
              <a:off x="2323800" y="517032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은 점진적으로 이루어진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6" name="그룹 73"/>
          <p:cNvGrpSpPr/>
          <p:nvPr/>
        </p:nvGrpSpPr>
        <p:grpSpPr>
          <a:xfrm>
            <a:off x="1785960" y="5783400"/>
            <a:ext cx="7072200" cy="593640"/>
            <a:chOff x="1785960" y="5783400"/>
            <a:chExt cx="7072200" cy="593640"/>
          </a:xfrm>
        </p:grpSpPr>
        <p:grpSp>
          <p:nvGrpSpPr>
            <p:cNvPr id="627" name="Group 17"/>
            <p:cNvGrpSpPr/>
            <p:nvPr/>
          </p:nvGrpSpPr>
          <p:grpSpPr>
            <a:xfrm>
              <a:off x="2067840" y="5783400"/>
              <a:ext cx="6574680" cy="593640"/>
              <a:chOff x="2067840" y="5783400"/>
              <a:chExt cx="6574680" cy="593640"/>
            </a:xfrm>
          </p:grpSpPr>
          <p:sp>
            <p:nvSpPr>
              <p:cNvPr id="628" name="Rectangle 18"/>
              <p:cNvSpPr/>
              <p:nvPr/>
            </p:nvSpPr>
            <p:spPr>
              <a:xfrm flipH="1">
                <a:off x="2088360" y="578340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Rectangle 19"/>
              <p:cNvSpPr/>
              <p:nvPr/>
            </p:nvSpPr>
            <p:spPr>
              <a:xfrm flipH="1">
                <a:off x="2067480" y="584352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0" name="Group 20"/>
            <p:cNvGrpSpPr/>
            <p:nvPr/>
          </p:nvGrpSpPr>
          <p:grpSpPr>
            <a:xfrm>
              <a:off x="1785960" y="5800680"/>
              <a:ext cx="529920" cy="526680"/>
              <a:chOff x="1785960" y="5800680"/>
              <a:chExt cx="529920" cy="526680"/>
            </a:xfrm>
          </p:grpSpPr>
          <p:sp>
            <p:nvSpPr>
              <p:cNvPr id="631" name="Oval 21"/>
              <p:cNvSpPr/>
              <p:nvPr/>
            </p:nvSpPr>
            <p:spPr>
              <a:xfrm>
                <a:off x="1785960" y="580320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32" name="Picture 22" descr="cir_lighteffect0"/>
              <p:cNvPicPr/>
              <p:nvPr/>
            </p:nvPicPr>
            <p:blipFill>
              <a:blip r:embed="rId7"/>
              <a:stretch/>
            </p:blipFill>
            <p:spPr>
              <a:xfrm>
                <a:off x="1830600" y="580068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33" name="Group 35"/>
            <p:cNvGrpSpPr/>
            <p:nvPr/>
          </p:nvGrpSpPr>
          <p:grpSpPr>
            <a:xfrm>
              <a:off x="1825920" y="5921280"/>
              <a:ext cx="362880" cy="280800"/>
              <a:chOff x="1825920" y="5921280"/>
              <a:chExt cx="362880" cy="280800"/>
            </a:xfrm>
          </p:grpSpPr>
          <p:grpSp>
            <p:nvGrpSpPr>
              <p:cNvPr id="634" name="Group 36"/>
              <p:cNvGrpSpPr/>
              <p:nvPr/>
            </p:nvGrpSpPr>
            <p:grpSpPr>
              <a:xfrm>
                <a:off x="1825920" y="5921280"/>
                <a:ext cx="362880" cy="280800"/>
                <a:chOff x="1825920" y="5921280"/>
                <a:chExt cx="362880" cy="280800"/>
              </a:xfrm>
            </p:grpSpPr>
            <p:sp>
              <p:nvSpPr>
                <p:cNvPr id="635" name="AutoShape 37"/>
                <p:cNvSpPr/>
                <p:nvPr/>
              </p:nvSpPr>
              <p:spPr>
                <a:xfrm>
                  <a:off x="1901160" y="600840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6" name="AutoShape 38"/>
                <p:cNvSpPr/>
                <p:nvPr/>
              </p:nvSpPr>
              <p:spPr>
                <a:xfrm rot="20706600">
                  <a:off x="1845720" y="59547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7" name="Line 39"/>
              <p:cNvSpPr/>
              <p:nvPr/>
            </p:nvSpPr>
            <p:spPr>
              <a:xfrm flipV="1">
                <a:off x="1876680" y="599724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8" name="Rectangle 42"/>
            <p:cNvSpPr/>
            <p:nvPr/>
          </p:nvSpPr>
          <p:spPr>
            <a:xfrm>
              <a:off x="2323800" y="591336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에서 심리사회적 위기극복을 중시한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9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64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641" name="직사각형 13"/>
              <p:cNvSpPr/>
              <p:nvPr/>
            </p:nvSpPr>
            <p:spPr>
              <a:xfrm>
                <a:off x="1294560" y="1385640"/>
                <a:ext cx="201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Erikson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기본견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64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4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646" name="Freeform 5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4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48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9" name="슬라이드 번호 개체 틀 88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64D4F-3C16-41ED-BF40-91353ACFB5DB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0" name="TextBox 12" descr=""/>
          <p:cNvPicPr/>
          <p:nvPr/>
        </p:nvPicPr>
        <p:blipFill>
          <a:blip r:embed="rId1"/>
          <a:stretch/>
        </p:blipFill>
        <p:spPr>
          <a:xfrm>
            <a:off x="3170160" y="506520"/>
            <a:ext cx="5765760" cy="59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51" name=""/>
          <p:cNvGraphicFramePr/>
          <p:nvPr/>
        </p:nvGraphicFramePr>
        <p:xfrm>
          <a:off x="571680" y="3286080"/>
          <a:ext cx="8072280" cy="3143160"/>
        </p:xfrm>
        <a:graphic>
          <a:graphicData uri="http://schemas.openxmlformats.org/drawingml/2006/table">
            <a:tbl>
              <a:tblPr/>
              <a:tblGrid>
                <a:gridCol w="1428480"/>
                <a:gridCol w="1000080"/>
                <a:gridCol w="3357720"/>
                <a:gridCol w="2286000"/>
              </a:tblGrid>
              <a:tr h="433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발달단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연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주요 발달과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영향요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</a:tr>
              <a:tr h="677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신뢰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불신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~2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세계에 대한 깊은 신뢰감 형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어머니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따뜻하고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우호적 상호작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677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율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수치 및 회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~3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행동에 대한 통제감 발달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의도를 행동으로 실행할 수 있다는 인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676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주도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죄책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,3~6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모의 동일시를 통한 자기감과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기행동에 대한 책임감 발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일시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677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근면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열등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~11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또래와 상호작용을 통한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기가치감 발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교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사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습 및 교육 격려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pSp>
        <p:nvGrpSpPr>
          <p:cNvPr id="65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65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654" name="직사각형 13"/>
              <p:cNvSpPr/>
              <p:nvPr/>
            </p:nvSpPr>
            <p:spPr>
              <a:xfrm>
                <a:off x="1369440" y="1385640"/>
                <a:ext cx="1160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성 발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65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5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65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6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61" name="TextBox 10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2" name="그룹 123"/>
          <p:cNvGrpSpPr/>
          <p:nvPr/>
        </p:nvGrpSpPr>
        <p:grpSpPr>
          <a:xfrm>
            <a:off x="642960" y="2000160"/>
            <a:ext cx="8215200" cy="1073160"/>
            <a:chOff x="642960" y="2000160"/>
            <a:chExt cx="8215200" cy="1073160"/>
          </a:xfrm>
        </p:grpSpPr>
        <p:pic>
          <p:nvPicPr>
            <p:cNvPr id="663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642960" y="2000160"/>
              <a:ext cx="8072640" cy="10731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664" name="직사각형 18"/>
            <p:cNvSpPr/>
            <p:nvPr/>
          </p:nvSpPr>
          <p:spPr>
            <a:xfrm>
              <a:off x="928440" y="2071440"/>
              <a:ext cx="79297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격발달은 단계별로 진행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단계는 모든 인간에서 보편적으로 나타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5" name="타원 19"/>
            <p:cNvGrpSpPr/>
            <p:nvPr/>
          </p:nvGrpSpPr>
          <p:grpSpPr>
            <a:xfrm>
              <a:off x="914400" y="2676240"/>
              <a:ext cx="213120" cy="207000"/>
              <a:chOff x="914400" y="2676240"/>
              <a:chExt cx="213120" cy="207000"/>
            </a:xfrm>
          </p:grpSpPr>
          <p:pic>
            <p:nvPicPr>
              <p:cNvPr id="666" name="타원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914400" y="267624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67" name=""/>
              <p:cNvSpPr/>
              <p:nvPr/>
            </p:nvSpPr>
            <p:spPr>
              <a:xfrm rot="10800000">
                <a:off x="987480" y="2728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8" name="타원 20"/>
            <p:cNvGrpSpPr/>
            <p:nvPr/>
          </p:nvGrpSpPr>
          <p:grpSpPr>
            <a:xfrm>
              <a:off x="914400" y="2249280"/>
              <a:ext cx="213120" cy="207000"/>
              <a:chOff x="914400" y="2249280"/>
              <a:chExt cx="213120" cy="207000"/>
            </a:xfrm>
          </p:grpSpPr>
          <p:pic>
            <p:nvPicPr>
              <p:cNvPr id="669" name="타원 20" descr=""/>
              <p:cNvPicPr/>
              <p:nvPr/>
            </p:nvPicPr>
            <p:blipFill>
              <a:blip r:embed="rId5"/>
              <a:stretch/>
            </p:blipFill>
            <p:spPr>
              <a:xfrm>
                <a:off x="914400" y="22492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70" name=""/>
              <p:cNvSpPr/>
              <p:nvPr/>
            </p:nvSpPr>
            <p:spPr>
              <a:xfrm rot="10800000">
                <a:off x="987480" y="2300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1" name="슬라이드 번호 개체 틀 16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C4768-5687-48FF-8A5B-FACCF378BF56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2" name="TextBox 12" descr=""/>
          <p:cNvPicPr/>
          <p:nvPr/>
        </p:nvPicPr>
        <p:blipFill>
          <a:blip r:embed="rId1"/>
          <a:stretch/>
        </p:blipFill>
        <p:spPr>
          <a:xfrm>
            <a:off x="3170160" y="506520"/>
            <a:ext cx="5765760" cy="59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73" name=""/>
          <p:cNvGraphicFramePr/>
          <p:nvPr/>
        </p:nvGraphicFramePr>
        <p:xfrm>
          <a:off x="571680" y="2214720"/>
          <a:ext cx="8103960" cy="3714480"/>
        </p:xfrm>
        <a:graphic>
          <a:graphicData uri="http://schemas.openxmlformats.org/drawingml/2006/table">
            <a:tbl>
              <a:tblPr/>
              <a:tblGrid>
                <a:gridCol w="1428480"/>
                <a:gridCol w="1000080"/>
                <a:gridCol w="3283200"/>
                <a:gridCol w="2392200"/>
              </a:tblGrid>
              <a:tr h="512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발달단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연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주요 발달과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영향요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</a:tr>
              <a:tr h="799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아정체성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대 정체혼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청년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확고한 자아정체성 발달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다양한 잠재적 자기 중에서 선택하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또래 및 역할모형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적 압력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800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친밀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고립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성인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타인과 친밀한 관계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결혼에 필요한 친밀감 획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배우자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801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생산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침체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장년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에서 성인역할 수행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공헌하기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배우자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녀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친구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역사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799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통합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절망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노년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죽음의 준비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절망감 극복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삶의 의미 통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가족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친구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친척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역사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종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pSp>
        <p:nvGrpSpPr>
          <p:cNvPr id="67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67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676" name="직사각형 13"/>
              <p:cNvSpPr/>
              <p:nvPr/>
            </p:nvSpPr>
            <p:spPr>
              <a:xfrm>
                <a:off x="1369440" y="1385640"/>
                <a:ext cx="1160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성 발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67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8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68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8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83" name="TextBox 7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4" name="슬라이드 번호 개체 틀 11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2D787-C06A-4350-9AE8-8B78BF2C8C1D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5" name="TextBox 12" descr=""/>
          <p:cNvPicPr/>
          <p:nvPr/>
        </p:nvPicPr>
        <p:blipFill>
          <a:blip r:embed="rId1"/>
          <a:stretch/>
        </p:blipFill>
        <p:spPr>
          <a:xfrm>
            <a:off x="3170160" y="506520"/>
            <a:ext cx="5765760" cy="590400"/>
          </a:xfrm>
          <a:prstGeom prst="rect">
            <a:avLst/>
          </a:prstGeom>
          <a:ln w="0">
            <a:noFill/>
          </a:ln>
        </p:spPr>
      </p:pic>
      <p:grpSp>
        <p:nvGrpSpPr>
          <p:cNvPr id="686" name="그룹 35"/>
          <p:cNvGrpSpPr/>
          <p:nvPr/>
        </p:nvGrpSpPr>
        <p:grpSpPr>
          <a:xfrm>
            <a:off x="642960" y="1314360"/>
            <a:ext cx="8429760" cy="473040"/>
            <a:chOff x="642960" y="1314360"/>
            <a:chExt cx="8429760" cy="473040"/>
          </a:xfrm>
        </p:grpSpPr>
        <p:grpSp>
          <p:nvGrpSpPr>
            <p:cNvPr id="687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688" name="직사각형 13"/>
              <p:cNvSpPr/>
              <p:nvPr/>
            </p:nvSpPr>
            <p:spPr>
              <a:xfrm>
                <a:off x="1140840" y="1386360"/>
                <a:ext cx="1771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체성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identity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0" name="그룹 49"/>
            <p:cNvGrpSpPr/>
            <p:nvPr/>
          </p:nvGrpSpPr>
          <p:grpSpPr>
            <a:xfrm>
              <a:off x="671400" y="1395720"/>
              <a:ext cx="328320" cy="318600"/>
              <a:chOff x="671400" y="1395720"/>
              <a:chExt cx="328320" cy="318600"/>
            </a:xfrm>
          </p:grpSpPr>
          <p:sp>
            <p:nvSpPr>
              <p:cNvPr id="691" name="AutoShape 4"/>
              <p:cNvSpPr/>
              <p:nvPr/>
            </p:nvSpPr>
            <p:spPr>
              <a:xfrm>
                <a:off x="671400" y="1395720"/>
                <a:ext cx="328320" cy="31860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92" name="Freeform 5"/>
              <p:cNvGrpSpPr/>
              <p:nvPr/>
            </p:nvGrpSpPr>
            <p:grpSpPr>
              <a:xfrm>
                <a:off x="688680" y="1408320"/>
                <a:ext cx="170640" cy="176400"/>
                <a:chOff x="688680" y="1408320"/>
                <a:chExt cx="170640" cy="176400"/>
              </a:xfrm>
            </p:grpSpPr>
            <p:pic>
              <p:nvPicPr>
                <p:cNvPr id="69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8320"/>
                  <a:ext cx="170640" cy="176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94" name=""/>
                <p:cNvSpPr/>
                <p:nvPr/>
              </p:nvSpPr>
              <p:spPr>
                <a:xfrm>
                  <a:off x="691920" y="1416600"/>
                  <a:ext cx="163800" cy="15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95" name="TextBox 88"/>
            <p:cNvSpPr/>
            <p:nvPr/>
          </p:nvSpPr>
          <p:spPr>
            <a:xfrm>
              <a:off x="670320" y="13143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6" name="그룹 91"/>
          <p:cNvGrpSpPr/>
          <p:nvPr/>
        </p:nvGrpSpPr>
        <p:grpSpPr>
          <a:xfrm>
            <a:off x="285840" y="2071800"/>
            <a:ext cx="8501040" cy="1143000"/>
            <a:chOff x="285840" y="2071800"/>
            <a:chExt cx="8501040" cy="1143000"/>
          </a:xfrm>
        </p:grpSpPr>
        <p:pic>
          <p:nvPicPr>
            <p:cNvPr id="697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35728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698" name="그룹 34"/>
            <p:cNvGrpSpPr/>
            <p:nvPr/>
          </p:nvGrpSpPr>
          <p:grpSpPr>
            <a:xfrm>
              <a:off x="857160" y="2162160"/>
              <a:ext cx="349200" cy="380880"/>
              <a:chOff x="857160" y="2162160"/>
              <a:chExt cx="349200" cy="380880"/>
            </a:xfrm>
          </p:grpSpPr>
          <p:pic>
            <p:nvPicPr>
              <p:cNvPr id="699" name="Picture 177" descr="bull"/>
              <p:cNvPicPr/>
              <p:nvPr/>
            </p:nvPicPr>
            <p:blipFill>
              <a:blip r:embed="rId4"/>
              <a:stretch/>
            </p:blipFill>
            <p:spPr>
              <a:xfrm>
                <a:off x="857160" y="2188080"/>
                <a:ext cx="349200" cy="354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0" name="TextBox 36"/>
              <p:cNvSpPr/>
              <p:nvPr/>
            </p:nvSpPr>
            <p:spPr>
              <a:xfrm>
                <a:off x="891360" y="216216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1" name="직사각형 88"/>
            <p:cNvSpPr/>
            <p:nvPr/>
          </p:nvSpPr>
          <p:spPr>
            <a:xfrm>
              <a:off x="1217520" y="2071800"/>
              <a:ext cx="4856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의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02" name="타원 89"/>
            <p:cNvGrpSpPr/>
            <p:nvPr/>
          </p:nvGrpSpPr>
          <p:grpSpPr>
            <a:xfrm>
              <a:off x="1152000" y="2792160"/>
              <a:ext cx="213120" cy="207000"/>
              <a:chOff x="1152000" y="2792160"/>
              <a:chExt cx="213120" cy="207000"/>
            </a:xfrm>
          </p:grpSpPr>
          <p:pic>
            <p:nvPicPr>
              <p:cNvPr id="703" name="타원 89" descr=""/>
              <p:cNvPicPr/>
              <p:nvPr/>
            </p:nvPicPr>
            <p:blipFill>
              <a:blip r:embed="rId5"/>
              <a:stretch/>
            </p:blipFill>
            <p:spPr>
              <a:xfrm>
                <a:off x="1152000" y="279216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4" name=""/>
              <p:cNvSpPr/>
              <p:nvPr/>
            </p:nvSpPr>
            <p:spPr>
              <a:xfrm rot="10800000">
                <a:off x="1228680" y="2845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5" name="직사각형 90"/>
            <p:cNvSpPr/>
            <p:nvPr/>
          </p:nvSpPr>
          <p:spPr>
            <a:xfrm>
              <a:off x="1357200" y="2605320"/>
              <a:ext cx="721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 자신이 어떤 존재인가에 대한 확고한 인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직선 연결선 91"/>
            <p:cNvSpPr/>
            <p:nvPr/>
          </p:nvSpPr>
          <p:spPr>
            <a:xfrm flipV="1">
              <a:off x="2571840" y="2355840"/>
              <a:ext cx="578808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7" name="그룹 92"/>
          <p:cNvGrpSpPr/>
          <p:nvPr/>
        </p:nvGrpSpPr>
        <p:grpSpPr>
          <a:xfrm>
            <a:off x="285840" y="3357720"/>
            <a:ext cx="8572320" cy="2857320"/>
            <a:chOff x="285840" y="3357720"/>
            <a:chExt cx="8572320" cy="2857320"/>
          </a:xfrm>
        </p:grpSpPr>
        <p:pic>
          <p:nvPicPr>
            <p:cNvPr id="708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3643200"/>
              <a:ext cx="8501040" cy="25718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709" name="그룹 34"/>
            <p:cNvGrpSpPr/>
            <p:nvPr/>
          </p:nvGrpSpPr>
          <p:grpSpPr>
            <a:xfrm>
              <a:off x="857160" y="3448080"/>
              <a:ext cx="349200" cy="380880"/>
              <a:chOff x="857160" y="3448080"/>
              <a:chExt cx="349200" cy="380880"/>
            </a:xfrm>
          </p:grpSpPr>
          <p:pic>
            <p:nvPicPr>
              <p:cNvPr id="710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857160" y="347436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11" name="TextBox 36"/>
              <p:cNvSpPr/>
              <p:nvPr/>
            </p:nvSpPr>
            <p:spPr>
              <a:xfrm>
                <a:off x="891360" y="34480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2" name="직사각형 97"/>
            <p:cNvSpPr/>
            <p:nvPr/>
          </p:nvSpPr>
          <p:spPr>
            <a:xfrm>
              <a:off x="1217520" y="3357720"/>
              <a:ext cx="4856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특징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13" name="타원 98"/>
            <p:cNvGrpSpPr/>
            <p:nvPr/>
          </p:nvGrpSpPr>
          <p:grpSpPr>
            <a:xfrm>
              <a:off x="1152000" y="4078080"/>
              <a:ext cx="213120" cy="207000"/>
              <a:chOff x="1152000" y="4078080"/>
              <a:chExt cx="213120" cy="207000"/>
            </a:xfrm>
          </p:grpSpPr>
          <p:pic>
            <p:nvPicPr>
              <p:cNvPr id="714" name="타원 98" descr=""/>
              <p:cNvPicPr/>
              <p:nvPr/>
            </p:nvPicPr>
            <p:blipFill>
              <a:blip r:embed="rId8"/>
              <a:stretch/>
            </p:blipFill>
            <p:spPr>
              <a:xfrm>
                <a:off x="1152000" y="40780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15" name=""/>
              <p:cNvSpPr/>
              <p:nvPr/>
            </p:nvSpPr>
            <p:spPr>
              <a:xfrm rot="10800000">
                <a:off x="1228680" y="41306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6" name="직사각형 99"/>
            <p:cNvSpPr/>
            <p:nvPr/>
          </p:nvSpPr>
          <p:spPr>
            <a:xfrm>
              <a:off x="1357200" y="3803760"/>
              <a:ext cx="75009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체성을 확립하려면 여러 상황에서 역할을 성공적으로 통합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강력한 정체성을 확립하지 못할 경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체성 위기를 경험할 수 있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직선 연결선 100"/>
            <p:cNvSpPr/>
            <p:nvPr/>
          </p:nvSpPr>
          <p:spPr>
            <a:xfrm flipV="1">
              <a:off x="2571840" y="3641760"/>
              <a:ext cx="578628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8" name="타원 105"/>
          <p:cNvGrpSpPr/>
          <p:nvPr/>
        </p:nvGrpSpPr>
        <p:grpSpPr>
          <a:xfrm>
            <a:off x="1152360" y="4651200"/>
            <a:ext cx="212760" cy="206640"/>
            <a:chOff x="1152360" y="4651200"/>
            <a:chExt cx="212760" cy="206640"/>
          </a:xfrm>
        </p:grpSpPr>
        <p:pic>
          <p:nvPicPr>
            <p:cNvPr id="719" name="타원 105" descr=""/>
            <p:cNvPicPr/>
            <p:nvPr/>
          </p:nvPicPr>
          <p:blipFill>
            <a:blip r:embed="rId9"/>
            <a:stretch/>
          </p:blipFill>
          <p:spPr>
            <a:xfrm>
              <a:off x="1152360" y="4651200"/>
              <a:ext cx="21276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0" name=""/>
            <p:cNvSpPr/>
            <p:nvPr/>
          </p:nvSpPr>
          <p:spPr>
            <a:xfrm rot="10800000">
              <a:off x="1228680" y="47023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1" name="그룹 109"/>
          <p:cNvGrpSpPr/>
          <p:nvPr/>
        </p:nvGrpSpPr>
        <p:grpSpPr>
          <a:xfrm>
            <a:off x="1440360" y="5072040"/>
            <a:ext cx="7703640" cy="871560"/>
            <a:chOff x="1440360" y="5072040"/>
            <a:chExt cx="7703640" cy="871560"/>
          </a:xfrm>
        </p:grpSpPr>
        <p:grpSp>
          <p:nvGrpSpPr>
            <p:cNvPr id="722" name="그룹 142"/>
            <p:cNvGrpSpPr/>
            <p:nvPr/>
          </p:nvGrpSpPr>
          <p:grpSpPr>
            <a:xfrm>
              <a:off x="1440360" y="5072040"/>
              <a:ext cx="2615040" cy="505440"/>
              <a:chOff x="1440360" y="5072040"/>
              <a:chExt cx="2615040" cy="505440"/>
            </a:xfrm>
          </p:grpSpPr>
          <p:grpSp>
            <p:nvGrpSpPr>
              <p:cNvPr id="723" name="그룹 97"/>
              <p:cNvGrpSpPr/>
              <p:nvPr/>
            </p:nvGrpSpPr>
            <p:grpSpPr>
              <a:xfrm>
                <a:off x="1440360" y="5172840"/>
                <a:ext cx="340920" cy="307080"/>
                <a:chOff x="1440360" y="5172840"/>
                <a:chExt cx="340920" cy="307080"/>
              </a:xfrm>
            </p:grpSpPr>
            <p:pic>
              <p:nvPicPr>
                <p:cNvPr id="724" name="Picture 177" descr="bull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463040" y="5187600"/>
                  <a:ext cx="28656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25" name="TextBox 146"/>
                <p:cNvSpPr/>
                <p:nvPr/>
              </p:nvSpPr>
              <p:spPr>
                <a:xfrm>
                  <a:off x="1440360" y="5172840"/>
                  <a:ext cx="3409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4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★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26" name="직사각형 116"/>
              <p:cNvSpPr/>
              <p:nvPr/>
            </p:nvSpPr>
            <p:spPr>
              <a:xfrm>
                <a:off x="1870560" y="5072040"/>
                <a:ext cx="21848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체성 위기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identity</a:t>
                </a:r>
                <a:r>
                  <a:rPr b="0" lang="ko-KR" sz="14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crisis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27" name="직선 연결선 112"/>
            <p:cNvSpPr/>
            <p:nvPr/>
          </p:nvSpPr>
          <p:spPr>
            <a:xfrm>
              <a:off x="4857840" y="5357520"/>
              <a:ext cx="335736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직사각형 114"/>
            <p:cNvSpPr/>
            <p:nvPr/>
          </p:nvSpPr>
          <p:spPr>
            <a:xfrm>
              <a:off x="1571400" y="5484600"/>
              <a:ext cx="7572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강력한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체성을 확립하지 못했을 때 경험하는 절망과 혼돈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9" name="오른쪽 화살표 120"/>
          <p:cNvSpPr/>
          <p:nvPr/>
        </p:nvSpPr>
        <p:spPr>
          <a:xfrm>
            <a:off x="1571760" y="5643720"/>
            <a:ext cx="214200" cy="160200"/>
          </a:xfrm>
          <a:prstGeom prst="rightArrow">
            <a:avLst>
              <a:gd name="adj1" fmla="val 50000"/>
              <a:gd name="adj2" fmla="val 50016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슬라이드 번호 개체 틀 38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35116-7B8A-45AA-9425-4F01E33A578F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09-21T02:49:42Z</dcterms:modified>
  <cp:revision>348</cp:revision>
  <dc:subject/>
  <dc:title>PowerPoint Template</dc:title>
</cp:coreProperties>
</file>